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499-C075-4B80-94F7-9DE83557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0B6-2B61-484B-B113-F3E1CECE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EC11-62E5-40D1-91B4-D03D81B9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C8C-CE1B-4BFB-8C72-35430A49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906-9AEF-41BA-BEC3-661DC42D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9D9-87C7-47F5-BD06-50B047B3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79A-4B05-4AAD-BDC4-1DFA0C1B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977-7A5A-45A3-B288-C447F5A5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EB2-7109-4009-89B3-463D332A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4C4-8D3C-42C0-8176-430BB88B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57B-7BE0-4CDD-AEB8-0D365900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2E4-8004-4462-9061-F82E9E74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397E-75D7-4E2B-B90B-965B5339342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8560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равила перевозки пассажиров на транспортных средства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7120" y="4785840"/>
            <a:ext cx="8229600" cy="13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БОУ лицей №9 г. Сальск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еподаватель-организатор ОБЖ Борисенко В.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012 го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42884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ования ПДД к перевозке пассажиров на транспортных средств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а безопасного поведения пассажиров в ДТП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горитм общих правил поведения пассажиров в общественном транспор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2"/>
          <p:cNvSpPr/>
          <p:nvPr/>
        </p:nvSpPr>
        <p:spPr>
          <a:xfrm>
            <a:off x="5796000" y="4724280"/>
            <a:ext cx="302400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ТЕРМИ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579640" y="1773360"/>
            <a:ext cx="302436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цо, кроме водителя, находящееся в транспортном средстве, а также лицо, которое входит или выходит из транспортного средст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68360" y="1989000"/>
            <a:ext cx="1512720" cy="648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ссаж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6156360" y="1197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2124000" y="213372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5076720" y="220500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11280" y="4797360"/>
            <a:ext cx="165708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5867280" y="4724280"/>
            <a:ext cx="288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, предназначенное для перевозки по дорогам  людей, грузов или оборудования, установленного на н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2340000" y="5229360"/>
            <a:ext cx="3384360" cy="288720"/>
          </a:xfrm>
          <a:prstGeom prst="rightArrow">
            <a:avLst>
              <a:gd name="adj1" fmla="val 50000"/>
              <a:gd name="adj2" fmla="val 373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23065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95280" y="692280"/>
            <a:ext cx="1584360" cy="57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227280" y="620640"/>
            <a:ext cx="2449800" cy="9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ранспортное средство, приводимое в движение мускульной силой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95280" y="2708280"/>
            <a:ext cx="1584360" cy="647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о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372360" y="2349360"/>
            <a:ext cx="230328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2987640" y="404640"/>
            <a:ext cx="2089080" cy="1420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372360" y="2349360"/>
            <a:ext cx="237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ухколесное механическое транспортное средство с боковым прицепом или без н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"/>
          <p:cNvPicPr/>
          <p:nvPr/>
        </p:nvPicPr>
        <p:blipFill>
          <a:blip r:embed="rId2"/>
          <a:stretch/>
        </p:blipFill>
        <p:spPr>
          <a:xfrm>
            <a:off x="2916360" y="2349360"/>
            <a:ext cx="2449440" cy="1530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5"/>
          <p:cNvSpPr/>
          <p:nvPr/>
        </p:nvSpPr>
        <p:spPr>
          <a:xfrm>
            <a:off x="250920" y="4941720"/>
            <a:ext cx="1944720" cy="938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ож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сше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5796000" y="4508640"/>
            <a:ext cx="2952720" cy="1728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5796000" y="4581360"/>
            <a:ext cx="3024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ытие, возникшее в процессе движения по дороге транспортного средства и с его участием, при котором погибли или ранены люди, а также повреждены сами транспортные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0"/>
          <p:cNvSpPr/>
          <p:nvPr/>
        </p:nvSpPr>
        <p:spPr>
          <a:xfrm>
            <a:off x="212400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543564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2"/>
          <p:cNvSpPr/>
          <p:nvPr/>
        </p:nvSpPr>
        <p:spPr>
          <a:xfrm>
            <a:off x="5651640" y="285264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3"/>
          <p:cNvSpPr/>
          <p:nvPr/>
        </p:nvSpPr>
        <p:spPr>
          <a:xfrm>
            <a:off x="2195640" y="292428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4"/>
          <p:cNvSpPr/>
          <p:nvPr/>
        </p:nvSpPr>
        <p:spPr>
          <a:xfrm>
            <a:off x="2340000" y="5229360"/>
            <a:ext cx="3384360" cy="287280"/>
          </a:xfrm>
          <a:prstGeom prst="rightArrow">
            <a:avLst>
              <a:gd name="adj1" fmla="val 50000"/>
              <a:gd name="adj2" fmla="val 313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/>
          <p:cNvSpPr/>
          <p:nvPr/>
        </p:nvSpPr>
        <p:spPr>
          <a:xfrm>
            <a:off x="4140360" y="4292640"/>
            <a:ext cx="485640" cy="718920"/>
          </a:xfrm>
          <a:prstGeom prst="upArrow">
            <a:avLst>
              <a:gd name="adj1" fmla="val 50000"/>
              <a:gd name="adj2" fmla="val 3700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611280" y="5229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диться в автомобиль и выходить из него можно только со стороны проезжей части или обочины и обязательно после его полной остан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IMAGE0002"/>
          <p:cNvPicPr/>
          <p:nvPr/>
        </p:nvPicPr>
        <p:blipFill>
          <a:blip r:embed="rId1"/>
          <a:stretch/>
        </p:blipFill>
        <p:spPr>
          <a:xfrm>
            <a:off x="1476360" y="836640"/>
            <a:ext cx="6191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4211640" y="4581360"/>
            <a:ext cx="485640" cy="4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403280" y="189000"/>
            <a:ext cx="604836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826920" y="5157720"/>
            <a:ext cx="7777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отоцикле тем, кому еще нет 12 лет разрешено ехать только в коляске, и лишь после 12 лет – на заднем сидении за водителем. Причем пассажиров не должно быть сверх мест, предназначенных для их перевозки. В любом случае – наденьте на голову мотош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1:15:51Z</dcterms:created>
  <dc:creator>Елисеева Анна Анатольевна</dc:creator>
  <dc:description/>
  <dc:language>en-US</dc:language>
  <cp:lastModifiedBy>ОБЖ</cp:lastModifiedBy>
  <dcterms:modified xsi:type="dcterms:W3CDTF">2013-04-01T07:28:30Z</dcterms:modified>
  <cp:revision>29</cp:revision>
  <dc:subject/>
  <dc:title>Слайд 1</dc:title>
</cp:coreProperties>
</file>