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989-0656-41EF-ACFB-317B195A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8C6-ABB3-4F03-A573-A31FF92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CC1-3088-4167-86C1-BA1ADEFB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4EB-50C6-4AE7-8E0B-0F4AE565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F13-AB12-4845-B422-7BA0F3A4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C38-0D47-41AF-822C-72063EF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981-1428-4F0A-B4C8-DAE1746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CFF-CB53-4E6C-9D86-AE2E0102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ED1-681B-48F5-97AA-B121C01E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93B-1EEF-4DF8-953F-46B39E3C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8CC-B593-4CAB-9E3C-0BE76900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2DF-90D7-4EB5-BC69-E799F72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514-E7E3-4301-A22C-EC462761D2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8560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7120" y="4785840"/>
            <a:ext cx="8229600" cy="13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БОУ лицей №9 г. Сальск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еподаватель-организатор ОБЖ Борисенко В.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2012 го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42884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ПДД к перевозке пассажиров на транспортных средст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пассажиров в ДТП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горитм общих правил поведения пассажиров в общественном транспо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2340000" y="5229360"/>
            <a:ext cx="3384360" cy="288720"/>
          </a:xfrm>
          <a:prstGeom prst="rightArrow">
            <a:avLst>
              <a:gd name="adj1" fmla="val 50000"/>
              <a:gd name="adj2" fmla="val 3739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23065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>
            <a:off x="2340000" y="5229360"/>
            <a:ext cx="3384360" cy="287280"/>
          </a:xfrm>
          <a:prstGeom prst="rightArrow">
            <a:avLst>
              <a:gd name="adj1" fmla="val 50000"/>
              <a:gd name="adj2" fmla="val 313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ОБЖ</cp:lastModifiedBy>
  <dcterms:modified xsi:type="dcterms:W3CDTF">2013-04-01T07:28:30Z</dcterms:modified>
  <cp:revision>29</cp:revision>
  <dc:subject/>
  <dc:title>Слайд 1</dc:title>
</cp:coreProperties>
</file>