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290-0E85-4F96-AAD5-F05F1091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222-FB13-4AE7-BD77-4BF61E4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755-7E92-4341-B36D-C7E884B3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2D4-F0C1-47D1-86F9-1A4FB460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458-04C0-46BB-AF40-EC33972E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0BF-D9A9-4BD7-9913-B8F1C65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690-23C8-4BF7-A231-3EFFA66C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A4E-7293-4ECB-B928-976746D0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81E-F76F-4CDA-85E8-A9580D1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169-3085-4D22-BF6C-BD8F854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CF5-A345-4E10-AD91-9F690E7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2F7-D292-4C8B-A987-A04B1CE6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5757-04DA-48CA-9B9C-86A34FEE22E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угрожает жизни и здоровью людей, находящихся в кабине автомобиля в момент совершения ДТП. Способны ли ремни безопасности спасти водителя и пассажиров от гибели?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омент столкновения, жизни и здоровью людей действительно угрожают удары о различные предметы интерьера салона, выбрасывание из автомобиля через лобовое (заднее) стекло и удары пассажиров друг о др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этому роль ремней безопасности ве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ы исследований, приведенные в книге К. Жерондо «Безопасность движения: прошлое, настоящее, будущее», проведенные методом скоростной съемки показывают, что при наезде автомобиля, скорость движения которого 80 км/ч, на неподвижное препятствие происходит следующе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1652760"/>
          <a:ext cx="403848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40384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IMAGE00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а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САМЫЙ УМНЫ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д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8120" y="1714680"/>
          <a:ext cx="4206960" cy="3744720"/>
        </p:xfrm>
        <a:graphic>
          <a:graphicData uri="http://schemas.openxmlformats.org/drawingml/2006/table">
            <a:tbl>
              <a:tblPr/>
              <a:tblGrid>
                <a:gridCol w="1401840"/>
                <a:gridCol w="1403280"/>
                <a:gridCol w="1401840"/>
              </a:tblGrid>
              <a:tr h="124776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АБ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Г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ЗИЙ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4920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ЛМ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О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СТУ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ХЦЧ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ЩЪЫ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02240" rIns="102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32523"/>
                          </a:solidFill>
                          <a:latin typeface="Arial Black"/>
                        </a:rPr>
                        <a:t>ЭЮ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2240" marR="102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лгоритм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щих правил поведения пассажиров в общественном транспорте: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аходиться на остановке не ближе одного метра от проезжей ча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ри посадке в общественный транспорт не толпиться и не толкать друг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е занимать места предназначенные для пассажиров с детьми и инвалид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Если нет свободных мест для сидения, крепко держитесь за поруч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Не выходить из транспортного средства до полной его остановки.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ОБЖ</cp:lastModifiedBy>
  <dcterms:modified xsi:type="dcterms:W3CDTF">2013-04-01T07:29:49Z</dcterms:modified>
  <cp:revision>27</cp:revision>
  <dc:subject/>
  <dc:title>Слайд 1</dc:title>
</cp:coreProperties>
</file>