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3A1-AD22-4166-803F-EF5B9CD6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709-57CD-41E6-B649-A4933952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DD3-7E06-4539-A173-EF9C7662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4BA-0322-4960-99B3-2C8EAAC1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6FA-11F3-4065-AE75-AC64769C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D95-CB1C-4ABB-8E63-38722AA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B64-BFBD-4ABD-8953-1BB6040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5F5-4334-4F17-B565-6C07691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653-FFA9-4174-AA8F-EE37FCF8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4A7-F20D-441B-B058-0A8990AE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A99-3397-4ABE-A9BF-8A6747A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5D0-F221-4CA4-AFCE-9ED8042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731F-A5DF-42D4-9B55-D6EFBF7533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угрожает жизни и здоровью людей, находящихся в кабине автомобиля в момент совершения ДТП. Способны ли ремни безопасности спасти водителя и пассажиров от гибели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омент столкновения, жизни и здоровью людей действительно угрожают удары о различные предметы интерьера салона, выбрасывание из автомобиля через лобовое (заднее) стекло и удары пассажиров друг о др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роль ремней безопасности ве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ы исследований, приведенные в книге К. Жерондо «Безопасность движения: прошлое, настоящее, будущее», проведенные методом скоростной съемки показывают, что при наезде автомобиля, скорость движения которого 80 км/ч, на неподвижное препятствие происходит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457200" y="1652760"/>
          <a:ext cx="403848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2760"/>
                    <a:ext cx="40384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IMAGE00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а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САМЫЙ УМНЫ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д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8120" y="1714680"/>
          <a:ext cx="4206960" cy="3744720"/>
        </p:xfrm>
        <a:graphic>
          <a:graphicData uri="http://schemas.openxmlformats.org/drawingml/2006/table">
            <a:tbl>
              <a:tblPr/>
              <a:tblGrid>
                <a:gridCol w="1401840"/>
                <a:gridCol w="1403280"/>
                <a:gridCol w="1401840"/>
              </a:tblGrid>
              <a:tr h="1247760"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АБ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Г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ЗИЙ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49200"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ЛМ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О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СТУ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ХЦЧ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ЩЪЫ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ЭЮ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щих правил поведения пассажиров в общественном транспорте: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аходиться на остановке не ближе одного метра от проезжей ча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ри посадке в общественный транспорт не толпиться и не толкать друг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е занимать места предназначенные для пассажиров с детьми и инвалид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Если нет свободных мест для сидения, крепко держитесь за поручн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Не выходить из транспортного средства до полной его остановки.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ОБЖ</cp:lastModifiedBy>
  <dcterms:modified xsi:type="dcterms:W3CDTF">2013-04-01T07:29:49Z</dcterms:modified>
  <cp:revision>27</cp:revision>
  <dc:subject/>
  <dc:title>Слайд 1</dc:title>
</cp:coreProperties>
</file>