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4.wmf" ContentType="image/x-wmf"/>
  <Override PartName="/ppt/media/image23.png" ContentType="image/png"/>
  <Override PartName="/ppt/media/image39.jpeg" ContentType="image/jpeg"/>
  <Override PartName="/ppt/media/image8.jpeg" ContentType="image/jpeg"/>
  <Override PartName="/ppt/media/image35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1.png" ContentType="image/png"/>
  <Override PartName="/ppt/media/image20.png" ContentType="image/png"/>
  <Override PartName="/ppt/media/image36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EB27-FDDD-416C-96BC-8D2F5DD3E8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2142-2EA9-4661-ACEB-7B6A2D08D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AFD-CA46-4CB6-9A4A-7546ABC4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52D-6ACE-46D2-9794-E79AE8C9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51B-3332-42EB-8D74-CD40ACBB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3B97-408B-417A-AAFA-70CFE44F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3452-215C-4762-82BB-A416B80D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55AA-ACCC-4970-BD35-853A464B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116F-0857-441B-92AC-D1DD166B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939E-87A2-4D59-9E9E-954F4A68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9F6E-9CF8-489C-9131-116E9DB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1B67-6DF6-4938-8D87-9BA2742F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07B5-043B-4A49-8C50-C89AE34F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038-81B1-48D7-B8B2-38EA9A7E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19EF-889F-4952-88FF-EBF9DDB6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B9DB-DE3F-4F7A-AB57-F7919AF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605C-2922-4009-BB86-0D932AA3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3FFB-4D41-4467-B191-CA520D9F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C176-CD3F-41DB-8FA2-ABD04D7F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A3D3-7CE8-427C-83F5-53598F5F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0E0E-846B-4BDF-BD69-27855C96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F0D4-087E-43EC-9B65-B544131C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D4844-8F04-4A72-82AA-EB4966F0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9C39-405E-4D8E-B95C-E7E3686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BA0-D17E-48D6-8E14-A126127F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ECBE-150C-41E8-9BAF-464BB258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D97B-ECC9-4750-B644-198D3B09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1975-4A05-4683-8AF2-EEB84247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F2F0-3FDC-4259-9C60-7A02FB4C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133D7-2ACF-4F78-96F6-0B3BC49A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93A1-8AC3-4599-B5D1-504C9D49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2860-09F6-426D-A882-D3911A28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81756-AC5E-454E-B022-BA26CCE7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C20CA-7C03-44EE-8149-8D13260A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AD6D2-25B6-48DD-A531-F75BC2CD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4B4-8432-4B64-895F-C10CA4E9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C14B5-6E61-432F-A148-F94CAD3C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ABDB-66D6-47AB-8D6B-B889E6A8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36EE-6B5B-44C5-9B7B-CD6D814A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C39E-C820-412E-BE0E-562DAC8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B353F-0286-4F0B-B731-75180522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0D64-D1AC-480C-80D9-BF838F1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5543E-0EF4-479B-AC6C-4655580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949F-43E3-4923-B1D7-6CF16818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CE590-E1DD-457E-90A3-20A6D43C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09F68-EAB5-443C-B072-03ED0971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D600-901C-49A7-A508-B3D8AB50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C9662-B047-4975-A5BE-B082682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A5AF5-A3C0-4300-B44A-03AAB8CA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6108E-B20B-45CE-8AB8-A23C38BE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500E8-E395-47EB-B666-DF6CF508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59318-361E-44F7-AB77-05DA8640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22D0-8B85-41CB-8DBD-AA882767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2652-CF70-4DD4-9CB3-5DA5075B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54C4-618E-4769-B925-D74ACD3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AEBD-F65F-46EE-8103-AF056785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19391-7BF1-4E05-A29E-17E8FCDE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1AB-53C8-4F3B-91F2-E6E3106C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62D4-5406-4AF2-A1F8-38B0DB25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68A-4F44-4BEB-B614-96D0C5CA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764-8C1E-48B6-AC1C-1E1E4980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671-D302-466F-A170-BC80120E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DAD9-DDD7-4BB2-A83C-B87D522C1862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6E8B-0ED0-4E96-AF68-6981AB6C9A8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1A4D-98EA-4020-BF29-3E26A83C2C9F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4236-1744-419C-BAB0-4F393C38BA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5567-2E8A-409F-BBF0-EDFD26CC2866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36FB-BBE4-46F9-8937-A3D3F705A6E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2F91-4412-4C8E-A760-138C3CD2B66D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CA3D-EF7B-4263-86E1-48451833475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8637-4F8E-488A-A4F9-0A0B7F05E5C1}" type="datetime">
              <a:rPr b="0" lang="ru-RU" sz="1400" spc="-1" strike="noStrike">
                <a:solidFill>
                  <a:srgbClr val="b13f9a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1662-6DCB-4CCF-8597-02D6584EAF6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image" Target="../media/image41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79280" y="31413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Monotype Corsiva"/>
              </a:rPr>
              <a:t>Подготовка к ГИА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Monotype Corsiva"/>
              </a:rPr>
              <a:t>(Математика в </a:t>
            </a:r>
            <a:br>
              <a:rPr sz="3600"/>
            </a:br>
            <a:r>
              <a:rPr b="1" lang="ru-RU" sz="3600" spc="-1" strike="noStrike">
                <a:solidFill>
                  <a:srgbClr val="b13f9a"/>
                </a:solidFill>
                <a:latin typeface="Monotype Corsiva"/>
              </a:rPr>
              <a:t>здоровье сбережении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573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Итоговое повторение  по теме «Диаграммы, графики» </a:t>
            </a:r>
            <a:endParaRPr b="0" lang="en-US" sz="54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237" name="Диаграмма 6" descr=""/>
          <p:cNvPicPr/>
          <p:nvPr/>
        </p:nvPicPr>
        <p:blipFill>
          <a:blip r:embed="rId1"/>
          <a:stretch/>
        </p:blipFill>
        <p:spPr>
          <a:xfrm>
            <a:off x="7016760" y="3060720"/>
            <a:ext cx="1882800" cy="1163520"/>
          </a:xfrm>
          <a:prstGeom prst="rect">
            <a:avLst/>
          </a:prstGeom>
          <a:ln w="0">
            <a:noFill/>
          </a:ln>
        </p:spPr>
      </p:pic>
      <p:pic>
        <p:nvPicPr>
          <p:cNvPr id="238" name="Диаграмма 7" descr=""/>
          <p:cNvPicPr/>
          <p:nvPr/>
        </p:nvPicPr>
        <p:blipFill>
          <a:blip r:embed="rId2"/>
          <a:stretch/>
        </p:blipFill>
        <p:spPr>
          <a:xfrm>
            <a:off x="5505480" y="4071960"/>
            <a:ext cx="1882800" cy="1305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Program Files (x86)\Microsoft Office\MEDIA\CAGCAT10\j0199036.wmf"/>
          <p:cNvPicPr/>
          <p:nvPr/>
        </p:nvPicPr>
        <p:blipFill>
          <a:blip r:embed="rId3"/>
          <a:stretch/>
        </p:blipFill>
        <p:spPr>
          <a:xfrm>
            <a:off x="179280" y="3573360"/>
            <a:ext cx="1571760" cy="17305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9" descr="http://im2-tub-ru.yandex.net/i?id=553274032-31-72&amp;n=21"/>
          <p:cNvPicPr/>
          <p:nvPr/>
        </p:nvPicPr>
        <p:blipFill>
          <a:blip r:embed="rId4"/>
          <a:srcRect l="13831" t="0" r="11140" b="19274"/>
          <a:stretch/>
        </p:blipFill>
        <p:spPr>
          <a:xfrm>
            <a:off x="250920" y="189000"/>
            <a:ext cx="1365120" cy="1152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1" descr="http://im7-tub-ru.yandex.net/i?id=315641857-46-72&amp;n=21"/>
          <p:cNvPicPr/>
          <p:nvPr/>
        </p:nvPicPr>
        <p:blipFill>
          <a:blip r:embed="rId5"/>
          <a:stretch/>
        </p:blipFill>
        <p:spPr>
          <a:xfrm>
            <a:off x="1979640" y="4869000"/>
            <a:ext cx="2232000" cy="1726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http://im7-tub-ru.yandex.net/i?id=86792715-12-72&amp;n=21"/>
          <p:cNvPicPr/>
          <p:nvPr/>
        </p:nvPicPr>
        <p:blipFill>
          <a:blip r:embed="rId6"/>
          <a:stretch/>
        </p:blipFill>
        <p:spPr>
          <a:xfrm>
            <a:off x="3851280" y="133200"/>
            <a:ext cx="1225440" cy="1224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http://im4-tub-ru.yandex.net/i?id=238836967-03-72&amp;n=21"/>
          <p:cNvPicPr/>
          <p:nvPr/>
        </p:nvPicPr>
        <p:blipFill>
          <a:blip r:embed="rId7"/>
          <a:stretch/>
        </p:blipFill>
        <p:spPr>
          <a:xfrm>
            <a:off x="7020000" y="189000"/>
            <a:ext cx="158436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0"/>
          <p:cNvSpPr/>
          <p:nvPr/>
        </p:nvSpPr>
        <p:spPr>
          <a:xfrm>
            <a:off x="4284720" y="5373720"/>
            <a:ext cx="4680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«Единственная крас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торую я знаю – это здор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рих Гей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5"/>
          <p:cNvSpPr/>
          <p:nvPr/>
        </p:nvSpPr>
        <p:spPr>
          <a:xfrm>
            <a:off x="179280" y="1159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5. 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На столбчатой диаграмме отображены показатели здоровья школьников. По данным диаграммы определите  число клас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108000" y="69228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все ученики здоров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все ученики имеют проблемы со здоровь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имеют проблемы со здоровьем 2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6732720" y="476280"/>
            <a:ext cx="223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Отве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2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1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3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3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Номер слайда 6"/>
          <p:cNvSpPr/>
          <p:nvPr/>
        </p:nvSpPr>
        <p:spPr>
          <a:xfrm>
            <a:off x="8532720" y="616572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D3B3-1888-4213-B891-B2784CA1F6F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Содержимое 8" descr=""/>
          <p:cNvPicPr/>
          <p:nvPr/>
        </p:nvPicPr>
        <p:blipFill>
          <a:blip r:embed="rId1"/>
          <a:stretch/>
        </p:blipFill>
        <p:spPr>
          <a:xfrm>
            <a:off x="103320" y="1262160"/>
            <a:ext cx="87962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Box 5"/>
          <p:cNvSpPr/>
          <p:nvPr/>
        </p:nvSpPr>
        <p:spPr>
          <a:xfrm>
            <a:off x="179280" y="11592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6.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На столбчатой диаграмме отображены показатели здоровья школьников. По данным диаграммы назовите наибольшее число здоровых уче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6732720" y="981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6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190F-0B54-4207-B24B-3CA9445659D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Содержимое 8" descr=""/>
          <p:cNvPicPr/>
          <p:nvPr/>
        </p:nvPicPr>
        <p:blipFill>
          <a:blip r:embed="rId1"/>
          <a:stretch/>
        </p:blipFill>
        <p:spPr>
          <a:xfrm>
            <a:off x="103320" y="1189080"/>
            <a:ext cx="87962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13f9a"/>
                </a:solidFill>
                <a:latin typeface="Monotype Corsiva"/>
              </a:rPr>
              <a:t>«Спорт и зарядка»</a:t>
            </a: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1042920" y="537372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Кто начинает день с зарядки у того здоровье в поряд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http://www.bochkavpechatleniy.com/data/upload/dv0301725.jpg"/>
          <p:cNvPicPr/>
          <p:nvPr/>
        </p:nvPicPr>
        <p:blipFill>
          <a:blip r:embed="rId1"/>
          <a:stretch/>
        </p:blipFill>
        <p:spPr>
          <a:xfrm>
            <a:off x="1692360" y="907920"/>
            <a:ext cx="5759280" cy="4470480"/>
          </a:xfrm>
          <a:prstGeom prst="rect">
            <a:avLst/>
          </a:prstGeom>
          <a:ln w="0">
            <a:noFill/>
          </a:ln>
        </p:spPr>
      </p:pic>
      <p:sp>
        <p:nvSpPr>
          <p:cNvPr id="299" name="Номер слайда 6"/>
          <p:cNvSpPr/>
          <p:nvPr/>
        </p:nvSpPr>
        <p:spPr>
          <a:xfrm>
            <a:off x="845964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F6F7-DCD4-467E-9FF1-74309A17B35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Содержимое 5" descr=""/>
          <p:cNvPicPr/>
          <p:nvPr/>
        </p:nvPicPr>
        <p:blipFill>
          <a:blip r:embed="rId1"/>
          <a:stretch/>
        </p:blipFill>
        <p:spPr>
          <a:xfrm>
            <a:off x="317520" y="1189080"/>
            <a:ext cx="8508960" cy="53402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4"/>
          <p:cNvSpPr/>
          <p:nvPr/>
        </p:nvSpPr>
        <p:spPr>
          <a:xfrm>
            <a:off x="179280" y="1159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7.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На графике показана занятость учащихся нашей школы спортом. На оси абсцисс отмечены классы, а на оси ординат число учащихся в классах. Назовите наибольшее число учащихся, которые занимаются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6732720" y="98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6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FAA4-DE79-4945-B83E-ED108672614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TextBox 6" descr=""/>
          <p:cNvPicPr/>
          <p:nvPr/>
        </p:nvPicPr>
        <p:blipFill>
          <a:blip r:embed="rId2"/>
          <a:stretch/>
        </p:blipFill>
        <p:spPr>
          <a:xfrm>
            <a:off x="-6480" y="1908000"/>
            <a:ext cx="414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Содержимое 5" descr=""/>
          <p:cNvPicPr/>
          <p:nvPr/>
        </p:nvPicPr>
        <p:blipFill>
          <a:blip r:embed="rId1"/>
          <a:stretch/>
        </p:blipFill>
        <p:spPr>
          <a:xfrm>
            <a:off x="390600" y="1670040"/>
            <a:ext cx="8508960" cy="500544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179280" y="11592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8.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На графике показана занятость физзарядкой учащихся нашей школы по классам. На оси абсцисс отмечены классы, а на оси ординат число учащихся в классах. Назовите число клас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"/>
          <p:cNvSpPr/>
          <p:nvPr/>
        </p:nvSpPr>
        <p:spPr>
          <a:xfrm>
            <a:off x="250920" y="981000"/>
            <a:ext cx="58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все ученики делают заряд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ученики не делают заряд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в которых меньше 5-ти учеников делают заря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6588000" y="692280"/>
            <a:ext cx="172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Отве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1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4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1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3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2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D71F-5002-4CEE-BC28-F2E76D61291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TextBox 6" descr=""/>
          <p:cNvPicPr/>
          <p:nvPr/>
        </p:nvPicPr>
        <p:blipFill>
          <a:blip r:embed="rId2"/>
          <a:stretch/>
        </p:blipFill>
        <p:spPr>
          <a:xfrm>
            <a:off x="103320" y="2273400"/>
            <a:ext cx="40932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Содержимое 5" descr=""/>
          <p:cNvPicPr/>
          <p:nvPr/>
        </p:nvPicPr>
        <p:blipFill>
          <a:blip r:embed="rId1"/>
          <a:stretch/>
        </p:blipFill>
        <p:spPr>
          <a:xfrm>
            <a:off x="463680" y="1670040"/>
            <a:ext cx="8435880" cy="493236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179280" y="1159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9.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На графике показано сколько учащихся в каждом классе делают зарядку. На оси абсцисс отмечены классы, а на оси ординат число учащихся в классах. Верно ли, что в школе есть 3 класса в которых все ученики делают заря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5508720" y="1413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539640" y="1413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ы ответов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;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DCD7-687A-4857-AF88-BF01A270A0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TextBox 6" descr=""/>
          <p:cNvPicPr/>
          <p:nvPr/>
        </p:nvPicPr>
        <p:blipFill>
          <a:blip r:embed="rId2"/>
          <a:stretch/>
        </p:blipFill>
        <p:spPr>
          <a:xfrm>
            <a:off x="103320" y="2200320"/>
            <a:ext cx="4093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3408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Calibri"/>
              </a:rPr>
              <a:t>Выводы: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23640" y="62028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мы повторили как читаются столбчатые,  круговые диаграммы и графики;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решали задачи и отвечали на вопросы в тестовой форме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показали связь математики и здоровьесбережения;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выявили проблемы питания, регулярности питания и здоровья школьников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Номер слайда 5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0511-622B-49F8-BE53-CEAFBDBD36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61832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Calibri"/>
              </a:rPr>
              <a:t>Оценки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55640" y="1700280"/>
          <a:ext cx="7632720" cy="4470480"/>
        </p:xfrm>
        <a:graphic>
          <a:graphicData uri="http://schemas.openxmlformats.org/drawingml/2006/table">
            <a:tbl>
              <a:tblPr/>
              <a:tblGrid>
                <a:gridCol w="3998880"/>
                <a:gridCol w="36338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ичество бал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цен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-9 бал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5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-7 бал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4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 бал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3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322" name="Номер слайда 3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72CE-302B-4D4B-A580-07758A091E6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6"/>
          <p:cNvSpPr/>
          <p:nvPr/>
        </p:nvSpPr>
        <p:spPr>
          <a:xfrm>
            <a:off x="971640" y="9079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34080" cy="649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13f9a"/>
                </a:solidFill>
                <a:latin typeface="Calibri"/>
              </a:rPr>
              <a:t>Принципы рационального питания</a:t>
            </a:r>
            <a:endParaRPr b="0" lang="en-US" sz="4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280" y="764640"/>
            <a:ext cx="79930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Соответствие энергетической ценности рациона питания энергозатратам организма (не переедать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Удовлетворение физиологической потребности в пищевых веществах (сбалансированность питания)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Оптимальный режим питания (не реже   4-5 раз в день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Рисунок 3" descr="Еда школьника.jpg"/>
          <p:cNvPicPr/>
          <p:nvPr/>
        </p:nvPicPr>
        <p:blipFill>
          <a:blip r:embed="rId1"/>
          <a:stretch/>
        </p:blipFill>
        <p:spPr>
          <a:xfrm>
            <a:off x="3708360" y="4149720"/>
            <a:ext cx="4040280" cy="2374920"/>
          </a:xfrm>
          <a:prstGeom prst="rect">
            <a:avLst/>
          </a:prstGeom>
          <a:ln w="0">
            <a:noFill/>
          </a:ln>
        </p:spPr>
      </p:pic>
      <p:sp>
        <p:nvSpPr>
          <p:cNvPr id="327" name="Номер слайда 5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8B64-3430-467E-9505-55E57E687D0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34080" cy="504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Calibri"/>
              </a:rPr>
              <a:t>Правила, которые необходимо соблюдать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10920" y="4869000"/>
            <a:ext cx="7993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да должна быть свежеприготовленной, а блюда сочетатьс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Ежедневно нужно съедать не менее 400 г. овощей и фруктов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язательно включать в рацион каши – источник клетчатки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Желательно употреблять только фильтрованную воду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447480" indent="-447480" algn="just"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0" name="Рисунок 5" descr="Примерное меню на день2.jpg"/>
          <p:cNvPicPr/>
          <p:nvPr/>
        </p:nvPicPr>
        <p:blipFill>
          <a:blip r:embed="rId1"/>
          <a:stretch/>
        </p:blipFill>
        <p:spPr>
          <a:xfrm>
            <a:off x="1835280" y="549360"/>
            <a:ext cx="5960880" cy="4300560"/>
          </a:xfrm>
          <a:prstGeom prst="rect">
            <a:avLst/>
          </a:prstGeom>
          <a:ln w="0">
            <a:noFill/>
          </a:ln>
        </p:spPr>
      </p:pic>
      <p:sp>
        <p:nvSpPr>
          <p:cNvPr id="331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F497-094B-4F48-AF5E-B5683151D7E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83432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22ea4"/>
                </a:solidFill>
                <a:latin typeface="Calibri"/>
              </a:rPr>
              <a:t>Образ жизни и здоровье человека 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1763640" y="620640"/>
            <a:ext cx="705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адемик РАМН 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Юрий Павлович Лисицин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пределяя обусловленность состояния здоровья жителей России отмечает, что 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акторами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оказывающими влияние на него, являются: </a:t>
            </a:r>
            <a:r>
              <a:rPr b="1" lang="ru-RU" sz="2000" spc="-1" strike="noStrike">
                <a:solidFill>
                  <a:srgbClr val="0066ff"/>
                </a:solidFill>
                <a:latin typeface="Arial Unicode MS"/>
                <a:ea typeface="Arial Unicode MS"/>
              </a:rPr>
              <a:t>образ жизни человека в 56-57%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ru-RU" sz="2000" spc="-1" strike="noStrike">
                <a:solidFill>
                  <a:srgbClr val="006600"/>
                </a:solidFill>
                <a:latin typeface="Arial Unicode MS"/>
                <a:ea typeface="Arial Unicode MS"/>
              </a:rPr>
              <a:t>воздействие окружающей среды – в 20%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1" lang="ru-RU" sz="2000" spc="-1" strike="noStrike">
                <a:solidFill>
                  <a:srgbClr val="993300"/>
                </a:solidFill>
                <a:latin typeface="Arial Unicode MS"/>
                <a:ea typeface="Arial Unicode MS"/>
              </a:rPr>
              <a:t>генетические факторы в 18-20%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</a:t>
            </a:r>
            <a:r>
              <a:rPr b="1" lang="ru-RU" sz="2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деятельность служб здравохранения только в 10-15% случае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адемик РАМН 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фаэль Гегамович Оганов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рассматривая факторы риска неинфекционных заболеваний указывает 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веденческий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оциальны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http://im5-tub-ru.yandex.net/i?id=234997225-17-72&amp;n=21"/>
          <p:cNvPicPr/>
          <p:nvPr/>
        </p:nvPicPr>
        <p:blipFill>
          <a:blip r:embed="rId1"/>
          <a:stretch/>
        </p:blipFill>
        <p:spPr>
          <a:xfrm>
            <a:off x="108000" y="692280"/>
            <a:ext cx="1442880" cy="122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im0-tub-ru.yandex.net/i?id=42350947-36-72&amp;n=21"/>
          <p:cNvPicPr/>
          <p:nvPr/>
        </p:nvPicPr>
        <p:blipFill>
          <a:blip r:embed="rId2"/>
          <a:stretch/>
        </p:blipFill>
        <p:spPr>
          <a:xfrm>
            <a:off x="108000" y="2205000"/>
            <a:ext cx="1439640" cy="1830600"/>
          </a:xfrm>
          <a:prstGeom prst="rect">
            <a:avLst/>
          </a:prstGeom>
          <a:ln w="0">
            <a:noFill/>
          </a:ln>
        </p:spPr>
      </p:pic>
      <p:sp>
        <p:nvSpPr>
          <p:cNvPr id="249" name="Номер слайда 7"/>
          <p:cNvSpPr/>
          <p:nvPr/>
        </p:nvSpPr>
        <p:spPr>
          <a:xfrm>
            <a:off x="8532720" y="616572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210A-EFFF-43B8-A76A-DC3DCD38702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8" descr="Факторы здоровья.jpg"/>
          <p:cNvPicPr/>
          <p:nvPr/>
        </p:nvPicPr>
        <p:blipFill>
          <a:blip r:embed="rId3"/>
          <a:stretch/>
        </p:blipFill>
        <p:spPr>
          <a:xfrm>
            <a:off x="2916360" y="3716280"/>
            <a:ext cx="4608360" cy="29480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3408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13f9a"/>
                </a:solidFill>
                <a:latin typeface="Calibri"/>
              </a:rPr>
              <a:t>Ребенок школьного возраста должен </a:t>
            </a:r>
            <a:br>
              <a:rPr sz="2800"/>
            </a:br>
            <a:r>
              <a:rPr b="1" lang="ru-RU" sz="2800" spc="-1" strike="noStrike">
                <a:solidFill>
                  <a:srgbClr val="b13f9a"/>
                </a:solidFill>
                <a:latin typeface="Calibri"/>
              </a:rPr>
              <a:t>ежедневно получать:</a:t>
            </a:r>
            <a:endParaRPr b="0" lang="en-US" sz="28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47640" y="836640"/>
            <a:ext cx="6624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ливочное масло: 30-4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астительное масло: 15-2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леб (пшеничный и ржаной): 200-3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рупы и макаронные изделия: 40-6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артофель: 200-3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вощи: 300-4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Фрукты свежие: 200-3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ок: 150-200 мл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Сахар: 50-7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Кондитерские изделия: 20-3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олоко, молочные продукты: 300-40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Мясо птицы (филе): 100-13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ыба (филе): 50-70 г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 algn="just">
              <a:spcBef>
                <a:spcPts val="575"/>
              </a:spcBef>
              <a:buClr>
                <a:srgbClr val="b83d6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Номер слайда 4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D8A7-275D-4427-B1D8-EABA109086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http://s2.hubimg.com/u/496917_f120.jpg"/>
          <p:cNvPicPr/>
          <p:nvPr/>
        </p:nvPicPr>
        <p:blipFill>
          <a:blip r:embed="rId1"/>
          <a:stretch/>
        </p:blipFill>
        <p:spPr>
          <a:xfrm>
            <a:off x="6516720" y="549360"/>
            <a:ext cx="1143000" cy="1162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http://torjkovskiy-rynok-ooo.openrussia.ru/users/220/22084/pics/it_22084_85661_sm.jpg"/>
          <p:cNvPicPr/>
          <p:nvPr/>
        </p:nvPicPr>
        <p:blipFill>
          <a:blip r:embed="rId2"/>
          <a:stretch/>
        </p:blipFill>
        <p:spPr>
          <a:xfrm>
            <a:off x="7740720" y="549360"/>
            <a:ext cx="1095480" cy="12477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http://im4-tub-ru.yandex.net/i?id=52207290-04-72&amp;n=21"/>
          <p:cNvPicPr/>
          <p:nvPr/>
        </p:nvPicPr>
        <p:blipFill>
          <a:blip r:embed="rId3"/>
          <a:stretch/>
        </p:blipFill>
        <p:spPr>
          <a:xfrm>
            <a:off x="6156360" y="2565360"/>
            <a:ext cx="1536840" cy="1150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http://www.mylot.su/files/lots/2012/09/08/423/images/2atqyepw.jpg"/>
          <p:cNvPicPr/>
          <p:nvPr/>
        </p:nvPicPr>
        <p:blipFill>
          <a:blip r:embed="rId4"/>
          <a:stretch/>
        </p:blipFill>
        <p:spPr>
          <a:xfrm>
            <a:off x="324000" y="1125360"/>
            <a:ext cx="957240" cy="71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2" descr="http://www.ncl.ac.uk/afrd/assets/photos/Bread_Isolated.jpg"/>
          <p:cNvPicPr/>
          <p:nvPr/>
        </p:nvPicPr>
        <p:blipFill>
          <a:blip r:embed="rId5"/>
          <a:stretch/>
        </p:blipFill>
        <p:spPr>
          <a:xfrm>
            <a:off x="108000" y="1844640"/>
            <a:ext cx="1484280" cy="720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http://img1.liveinternet.ru/images/attach/c/4/79/546/79546091_2447247_soki.jpg"/>
          <p:cNvPicPr/>
          <p:nvPr/>
        </p:nvPicPr>
        <p:blipFill>
          <a:blip r:embed="rId6"/>
          <a:stretch/>
        </p:blipFill>
        <p:spPr>
          <a:xfrm>
            <a:off x="4572000" y="3933720"/>
            <a:ext cx="1397160" cy="935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6" descr="http://www.medvopros.com/imgnews/2659.jpg"/>
          <p:cNvPicPr/>
          <p:nvPr/>
        </p:nvPicPr>
        <p:blipFill>
          <a:blip r:embed="rId7"/>
          <a:stretch/>
        </p:blipFill>
        <p:spPr>
          <a:xfrm>
            <a:off x="468360" y="4724280"/>
            <a:ext cx="1079280" cy="1030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8" descr="http://biz-market.ru/s_images/12283361699907.jpg"/>
          <p:cNvPicPr/>
          <p:nvPr/>
        </p:nvPicPr>
        <p:blipFill>
          <a:blip r:embed="rId8"/>
          <a:stretch/>
        </p:blipFill>
        <p:spPr>
          <a:xfrm>
            <a:off x="6875640" y="4076640"/>
            <a:ext cx="1323720" cy="1047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0" descr="http://clipart.coolclips.com/100/wjm/tf05025/CoolClips_food0130.jpg"/>
          <p:cNvPicPr/>
          <p:nvPr/>
        </p:nvPicPr>
        <p:blipFill>
          <a:blip r:embed="rId9"/>
          <a:stretch/>
        </p:blipFill>
        <p:spPr>
          <a:xfrm>
            <a:off x="6875640" y="5661000"/>
            <a:ext cx="1441440" cy="1098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3408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Calibri"/>
              </a:rPr>
              <a:t>Немного о витаминах</a:t>
            </a:r>
            <a:endParaRPr b="0" lang="en-US" sz="32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981000"/>
            <a:ext cx="8712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итамины повышают физическую и умственную работоспособность, содействуют устойчивости организма к различным заболеваниям. В нынешнее время, когда ученики каждый день находятся в стрессовой ситуации, испытывают большие умственные перегрузки, витамины становятся незаменимыми помощниками детскому организму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бы школьник был здоровым и умным, ему необходимы витамины группы В. 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Главные витамины «для ума» - это В1, В2, В6, В12.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Фрукты источник витамина С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 а витамины В встречаются в основном в обычных продуктах, про которые мы чаще всего забываем. Витамин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1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 например, 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поступает в организм с хлебом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, особенно из муки грубого помола, крупами (необработанный рис, овес), бобовыми, мясом. Витамин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2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содержится главным образом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 молочных продуктах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6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встречается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 неочищенных зернах злаковых, зеленых листовых овощах, дрожжах, гречневых и пшеничных крупах, рисе, бобовых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12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содержится </a:t>
            </a:r>
            <a:r>
              <a:rPr b="1" lang="ru-RU" sz="2000" spc="-1" strike="noStrike">
                <a:solidFill>
                  <a:srgbClr val="0070c0"/>
                </a:solidFill>
                <a:latin typeface="Cambria"/>
              </a:rPr>
              <a:t>в печени, почках, говядине, домашней птице, рыбе, яйцах, молоке и сыре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6" name="Номер слайда 4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21AA-673A-463B-B1A8-028ED146663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http://mir.karelia.ru/art1/147/vitaminy.jpg"/>
          <p:cNvPicPr/>
          <p:nvPr/>
        </p:nvPicPr>
        <p:blipFill>
          <a:blip r:embed="rId1"/>
          <a:stretch/>
        </p:blipFill>
        <p:spPr>
          <a:xfrm>
            <a:off x="250920" y="115920"/>
            <a:ext cx="1512720" cy="979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http://mir.karelia.ru/art1/147/vitaminy.jpg"/>
          <p:cNvPicPr/>
          <p:nvPr/>
        </p:nvPicPr>
        <p:blipFill>
          <a:blip r:embed="rId2"/>
          <a:stretch/>
        </p:blipFill>
        <p:spPr>
          <a:xfrm>
            <a:off x="7308720" y="115920"/>
            <a:ext cx="1511280" cy="979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1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4476-8762-4893-A627-DF5128965CF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395280" y="33336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00cc"/>
                </a:solidFill>
                <a:latin typeface="Monotype Corsiva"/>
              </a:rPr>
              <a:t>Будьте здоров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" descr="http://www.o-detstve.ru/assets/images/forteachers/School/iniciativa/chalenko2.jpg"/>
          <p:cNvPicPr/>
          <p:nvPr/>
        </p:nvPicPr>
        <p:blipFill>
          <a:blip r:embed="rId1"/>
          <a:srcRect l="0" t="24611" r="0" b="0"/>
          <a:stretch/>
        </p:blipFill>
        <p:spPr>
          <a:xfrm>
            <a:off x="1187280" y="1989000"/>
            <a:ext cx="6739200" cy="381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13f9a"/>
                </a:solidFill>
                <a:latin typeface="Calibri"/>
              </a:rPr>
              <a:t>Факторы риска неинфекционных заболеваний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47280" y="1413000"/>
            <a:ext cx="619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ездоровое питани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Алкоголь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Гиподинам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88520" indent="-488520">
              <a:lnSpc>
                <a:spcPct val="15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изкий социальный и образовательный статус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76B0-B313-49E3-9321-E2AA788AF3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batona.net/uploads/posts/2011-11/1321958710_66.jpg"/>
          <p:cNvPicPr/>
          <p:nvPr/>
        </p:nvPicPr>
        <p:blipFill>
          <a:blip r:embed="rId1"/>
          <a:stretch/>
        </p:blipFill>
        <p:spPr>
          <a:xfrm>
            <a:off x="3924360" y="2205000"/>
            <a:ext cx="1224000" cy="741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http://www.tarelki.com.ua/tlimg/16192.jpg"/>
          <p:cNvPicPr/>
          <p:nvPr/>
        </p:nvPicPr>
        <p:blipFill>
          <a:blip r:embed="rId2"/>
          <a:stretch/>
        </p:blipFill>
        <p:spPr>
          <a:xfrm>
            <a:off x="4211640" y="3068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http://www.duffyswinghouse.com/wp-content/gallery/gallery/bacon-cheeseburger-fries2.jpg"/>
          <p:cNvPicPr/>
          <p:nvPr/>
        </p:nvPicPr>
        <p:blipFill>
          <a:blip r:embed="rId3"/>
          <a:stretch/>
        </p:blipFill>
        <p:spPr>
          <a:xfrm>
            <a:off x="6300720" y="1341360"/>
            <a:ext cx="2158920" cy="1516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http://gopractice.typepad.com/.a/6a010536b8cd27970c0154330821b4970c-800wi"/>
          <p:cNvPicPr/>
          <p:nvPr/>
        </p:nvPicPr>
        <p:blipFill>
          <a:blip r:embed="rId4"/>
          <a:stretch/>
        </p:blipFill>
        <p:spPr>
          <a:xfrm>
            <a:off x="5219640" y="3429000"/>
            <a:ext cx="1922400" cy="1440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13f9a"/>
                </a:solidFill>
                <a:latin typeface="Monotype Corsiva"/>
              </a:rPr>
              <a:t>«Питание школьников»</a:t>
            </a: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4932360" y="155736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Учиться можно только весел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Чтобы переваривать зн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Надо поглощать их с аппети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4" descr="piramida1.jpg"/>
          <p:cNvPicPr/>
          <p:nvPr/>
        </p:nvPicPr>
        <p:blipFill>
          <a:blip r:embed="rId1"/>
          <a:stretch/>
        </p:blipFill>
        <p:spPr>
          <a:xfrm>
            <a:off x="324000" y="1484280"/>
            <a:ext cx="4281480" cy="4824360"/>
          </a:xfrm>
          <a:prstGeom prst="rect">
            <a:avLst/>
          </a:prstGeom>
          <a:ln w="0">
            <a:noFill/>
          </a:ln>
        </p:spPr>
      </p:pic>
      <p:sp>
        <p:nvSpPr>
          <p:cNvPr id="261" name="Номер слайда 6"/>
          <p:cNvSpPr/>
          <p:nvPr/>
        </p:nvSpPr>
        <p:spPr>
          <a:xfrm>
            <a:off x="8532720" y="616572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6A01-7350-4E3C-B18E-9F375C3F2DC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1.</a:t>
            </a: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На диаграмме отображены показатели питания учащихся нашей школы по классам в столовой. По данным диаграммы найдите число классов:</a:t>
            </a:r>
            <a:endParaRPr b="0" lang="en-US" sz="1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250920" y="549360"/>
            <a:ext cx="662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) в которых есть учащиеся, питающиеся горячими блюдами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2) в которых все учащиеся питаются регулярно горячими блюдами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3) в которых есть учащиеся, которые не регулярно питаются горячими блюдами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4) в которых есть учащиеся, которые не питаются в стол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7164360" y="54936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Отве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1)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17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6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3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8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4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4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8D56-5ADE-44F6-B582-D5BD714B3D0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Содержимое 14" descr=""/>
          <p:cNvPicPr/>
          <p:nvPr/>
        </p:nvPicPr>
        <p:blipFill>
          <a:blip r:embed="rId1"/>
          <a:stretch/>
        </p:blipFill>
        <p:spPr>
          <a:xfrm>
            <a:off x="317520" y="1841400"/>
            <a:ext cx="8582040" cy="490716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17" descr=""/>
          <p:cNvPicPr/>
          <p:nvPr/>
        </p:nvPicPr>
        <p:blipFill>
          <a:blip r:embed="rId2"/>
          <a:stretch/>
        </p:blipFill>
        <p:spPr>
          <a:xfrm>
            <a:off x="103320" y="2200320"/>
            <a:ext cx="4093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7" descr=""/>
          <p:cNvPicPr/>
          <p:nvPr/>
        </p:nvPicPr>
        <p:blipFill>
          <a:blip r:embed="rId1"/>
          <a:stretch/>
        </p:blipFill>
        <p:spPr>
          <a:xfrm>
            <a:off x="171360" y="1547640"/>
            <a:ext cx="8728200" cy="52009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85080" cy="576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2.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На диаграмме отображены показатели регулярности питания в течение дня учащихся нашей школы по классам. По данным диаграммы назовите число классов:</a:t>
            </a:r>
            <a:endParaRPr b="0" lang="en-US" sz="1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0" name="TextBox 5"/>
          <p:cNvSpPr/>
          <p:nvPr/>
        </p:nvSpPr>
        <p:spPr>
          <a:xfrm>
            <a:off x="179280" y="549360"/>
            <a:ext cx="568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) в которых есть учащиеся, питающиеся 1 раз в день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2) в которых есть учащиеся, питающиеся 2 раза в день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3) в которых часть класса питается 4 раза, а вторая часть 3 раза в день;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4) в которых все учащиеся питаются 4 раза в 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5796000" y="549360"/>
            <a:ext cx="2879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Ответы:  1)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0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2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8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3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6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cc0066"/>
                </a:solidFill>
                <a:latin typeface="Arial"/>
              </a:rPr>
              <a:t>4)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3 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кла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6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82A8-05D3-411D-AC98-3DCBEF5EA17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5" descr=""/>
          <p:cNvPicPr/>
          <p:nvPr/>
        </p:nvPicPr>
        <p:blipFill>
          <a:blip r:embed="rId1"/>
          <a:stretch/>
        </p:blipFill>
        <p:spPr>
          <a:xfrm>
            <a:off x="-6480" y="1481040"/>
            <a:ext cx="8796600" cy="49802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3840" y="115560"/>
            <a:ext cx="875052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3. </a:t>
            </a: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Регулярность питания учащихся старших классов представлена на круговой диаграмме. Какое из утверждений относительно регулярности питания верно, если в старших классах питается 35 учеников?</a:t>
            </a:r>
            <a:endParaRPr b="0" lang="en-US" sz="1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79280" y="1052640"/>
            <a:ext cx="547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. 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Питаются 2 и 3 раза в день меньше 25% учащихся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2.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Более половины учащихся питаются 4 раза в день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3.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Питаются 3 раза 20 учащихся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4.</a:t>
            </a:r>
            <a:r>
              <a:rPr b="0" lang="ru-RU" sz="16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 Питаются 2 раза более 10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6804000" y="1197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666-605C-4E26-B018-49B8C6CC0E9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Содержимое 4" descr=""/>
          <p:cNvPicPr/>
          <p:nvPr/>
        </p:nvPicPr>
        <p:blipFill>
          <a:blip r:embed="rId1"/>
          <a:stretch/>
        </p:blipFill>
        <p:spPr>
          <a:xfrm>
            <a:off x="317520" y="1620720"/>
            <a:ext cx="8582040" cy="4908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5"/>
          <p:cNvSpPr/>
          <p:nvPr/>
        </p:nvSpPr>
        <p:spPr>
          <a:xfrm>
            <a:off x="250920" y="1159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 Unicode MS"/>
                <a:ea typeface="Arial Unicode MS"/>
              </a:rPr>
              <a:t>Задача 4. </a:t>
            </a:r>
            <a:r>
              <a:rPr b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Регулярность питания учащихся начальной школы представлена на круговой диаграмме. По данным диаграммы определите верно ли, что более 50% учащихся начальной школы питаются 4 раза в д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324000" y="1052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1) да;      2)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804000" y="1197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твет: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7"/>
          <p:cNvSpPr/>
          <p:nvPr/>
        </p:nvSpPr>
        <p:spPr>
          <a:xfrm>
            <a:off x="8532720" y="6237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E66D-BAC4-4E2A-8A9E-FA86AD51DA2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13f9a"/>
                </a:solidFill>
                <a:latin typeface="Monotype Corsiva"/>
              </a:rPr>
              <a:t>«Здоровье школьников»</a:t>
            </a:r>
            <a:endParaRPr b="0" lang="en-US" sz="6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580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 Unicode MS"/>
                <a:ea typeface="Arial Unicode MS"/>
              </a:rPr>
              <a:t>В здоровом теле здоровый ду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3" descr="img087.jpg"/>
          <p:cNvPicPr/>
          <p:nvPr/>
        </p:nvPicPr>
        <p:blipFill>
          <a:blip r:embed="rId1"/>
          <a:stretch/>
        </p:blipFill>
        <p:spPr>
          <a:xfrm>
            <a:off x="1258920" y="907920"/>
            <a:ext cx="7076880" cy="4753080"/>
          </a:xfrm>
          <a:prstGeom prst="rect">
            <a:avLst/>
          </a:prstGeom>
          <a:ln w="0">
            <a:noFill/>
          </a:ln>
        </p:spPr>
      </p:pic>
      <p:sp>
        <p:nvSpPr>
          <p:cNvPr id="286" name="Номер слайда 5"/>
          <p:cNvSpPr/>
          <p:nvPr/>
        </p:nvSpPr>
        <p:spPr>
          <a:xfrm>
            <a:off x="8532720" y="616572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507B-D320-44BF-AF3E-56C67FACF4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7T14:17:02Z</dcterms:created>
  <dc:creator>Таня</dc:creator>
  <dc:description/>
  <dc:language>en-US</dc:language>
  <cp:lastModifiedBy>Таня</cp:lastModifiedBy>
  <dcterms:modified xsi:type="dcterms:W3CDTF">2013-04-12T06:38:02Z</dcterms:modified>
  <cp:revision>133</cp:revision>
  <dc:subject/>
  <dc:title>Математика в здоровьесбережении</dc:title>
</cp:coreProperties>
</file>