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9CA-29FE-44A0-9CE1-7A56E6BA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782-8D46-4CB2-9F8D-BD09A8FC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0A2-15E9-466A-A07A-611D1535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BB0-DC87-4869-8CED-5DB32DFB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470-BECD-41C5-B7C6-E1DD424E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4D0-C127-4043-BEB4-13D7D9E1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61D-B97E-4FF4-8A6D-ADB4388C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D9F-2B5D-4135-9E80-90A26C16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1C8-B7BC-41F0-BD80-B81E2813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24D-847A-4EEE-8B61-B447A032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C968-1F12-4D1C-B60B-17E35A89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1B0-6F40-4D20-B0D9-BCA890C7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9C5C-DCFC-40ED-AE07-4A1C139A1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 ПО ТЕМЕ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«Статистические характеристик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интервального   ряда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асс: 9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Учитель 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оронина Галина Ивановн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ГБОУ  СОШ № 1996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Март 2013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я учащим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дите ранжирование числового ряда учащихся клас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те основные статистические характеристика числового ряда  ( среднее арифметическое, мода, медиана, размах ряд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е абсолютную и относительную частоту ранжированного 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ройте столбчатую диаграмму «Количество учащихся в класс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 5.2. № 74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«Статистические характеристи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интервального ря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 повторительно - обобщ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вторить основные характеристики интервального ря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ть  умения понимать и интерпретировать статистические результа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казать прикладной характер статистических характерист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вершенствовать вычислительные навыки учащихся, развивать алгоритмическое мыш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одготовить к решению задач данного типа в ГИ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  УРОК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й мо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изация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работка умений и навыков решения задач со статистическими да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в групп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нжиро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упорядочивание числового ря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бсолютная часто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количество появлений данного соб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тносительная часто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абсолютная частота, деленная на весь объем выбор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наиболее часто встречающийся результат данного числового ря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едиа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значение, расположенное в середине ранжированного ря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змах ря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разность между наибольшим и наименьшим значением данного числового ря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 сумма всех членов числового ряда, деленная на количество членов числового ря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471600"/>
            <a:ext cx="761976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800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6201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 161  164  164  164 165  168  168  173  174  175  175  1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4 158  158  158  159  162  162  165  165  170  171  172  182  1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 груп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а – 24                   1б – 22                                1в –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а – 23                   2б – 23                                2в –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а -  29                   3б – 28                                3в –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 груп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а – 26                   4б – 26                               4в –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а – 26                   5б – 26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а – 25                   6б – 25                               6г –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а – 25                   7г  -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 груп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а – 21                  8б – 19                               8г –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а – 16                  9б –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а – 24                10б –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а – 20                11б –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12:28:28Z</dcterms:created>
  <dc:creator>маман</dc:creator>
  <dc:description/>
  <dc:language>en-US</dc:language>
  <cp:lastModifiedBy>маман</cp:lastModifiedBy>
  <dcterms:modified xsi:type="dcterms:W3CDTF">2013-03-03T12:36:56Z</dcterms:modified>
  <cp:revision>2</cp:revision>
  <dc:subject/>
  <dc:title> УРОК ПО ТЕМЕ:         «Статистические характеристики                   интервального   ряда»          Класс: 9         Учитель : Доронина Галина Ивановна          ГБОУ  СОШ № 1996    Март 2013 г</dc:title>
</cp:coreProperties>
</file>