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BB6-2730-4998-9D6F-D9DEEC05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344-CD20-4712-9C86-9516C3BF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343-A9CB-4A4B-9FD5-C17E04E6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FF7-F1E5-4DE4-98D5-8796B582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475-5963-4561-8F5A-1FD43E95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655-6ED5-43EE-BEDD-A4F0CC61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6A6-FDFA-4023-A593-265C0F1D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8FE-E32F-4733-A791-EF49F1B8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65A5-3941-4131-8E81-DE81CA3F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B6E-7D33-4AF8-9DC2-3B1367E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A70-91C5-4BF4-9F0C-C7CD2E7B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420-7018-4B39-96EC-89A6DAF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2F55-65FC-4D6D-B36C-DE95EB53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ПО ТЕМЕ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«Статистические характеристик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интервального   ряда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асс: 9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Учитель 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оронина Галина Ивановн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ГБОУ  СОШ № 1996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Март 2013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учащим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дите ранжирование числового ряда учащихся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дите основные статистические характеристика числового ряда  ( среднее арифметическое, мода, медиана, размах ряд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 абсолютную и относительную частоту ранжированного ря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ройте столбчатую диаграмму «Количество учащихся в класс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 5.2. № 7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«Статистические характерист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интервального ря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повторительно - обобщ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торить основные характеристики интервального ря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ть  умения понимать и интерпретировать статистически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казать прикладной характер статистических характерис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вершенствовать вычислительные навыки учащихся, развивать алгоритмическое мыш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подготовить к решению задач данного типа в Г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  УРОК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й мо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изация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ботка умений и навыков решения задач со статистическими д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в групп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упорядочивание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бсолютная част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количество появлений данного собы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тносительная часто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абсолютная частота, деленная на весь объем выбо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аиболее часто встречающийся результат данного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Меди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значение, расположенное в середине ранжированн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змах ря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разность между наибольшим и наименьшим значением данного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сумма всех членов числового ряда, деленная на количество членов числового ря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471600"/>
            <a:ext cx="761976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800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6201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 161  164  164  164 165  168  168  173  174  175  175  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4 158  158  158  159  162  162  165  165  170  171  172  182  1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 груп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а – 24                   1б – 22                                1в –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а – 23                   2б – 23                                2в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а -  29                   3б – 28                                3в –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а – 26                   4б – 26                               4в – 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а – 26                   5б – 26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а – 25                   6б – 25                               6г –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а – 25                   7г  -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 груп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а – 21                  8б – 19                               8г –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а – 16                  9б –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а – 24                10б –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а – 20                11б –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3T12:28:28Z</dcterms:created>
  <dc:creator>маман</dc:creator>
  <dc:description/>
  <dc:language>en-US</dc:language>
  <cp:lastModifiedBy>маман</cp:lastModifiedBy>
  <dcterms:modified xsi:type="dcterms:W3CDTF">2013-03-03T12:36:56Z</dcterms:modified>
  <cp:revision>2</cp:revision>
  <dc:subject/>
  <dc:title> УРОК ПО ТЕМЕ:         «Статистические характеристики                   интервального   ряда»          Класс: 9         Учитель : Доронина Галина Ивановна          ГБОУ  СОШ № 1996    Март 2013 г</dc:title>
</cp:coreProperties>
</file>