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5.jpeg" ContentType="image/jpeg"/>
  <Override PartName="/ppt/media/image2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9.jpeg" ContentType="image/jpeg"/>
  <Override PartName="/ppt/media/image30.gif" ContentType="image/gif"/>
  <Override PartName="/ppt/media/image46.png" ContentType="image/png"/>
  <Override PartName="/ppt/media/image47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7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85246-EEB3-421D-A61A-911A8E326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7D464-788C-4DBB-83BE-BB04C99AAB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C564B-B67A-4C16-B22D-D2337AD41E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1AD3F-3BC7-4D6A-A8A1-AA787DC15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A45C9-25BC-4E99-A457-8BC7852DD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8A220-6284-4432-8688-326E7BAD66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F19DD-206E-4EF9-A1BB-786438729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2AEC8-D7B7-4710-8434-5BEE4CC861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AE82A-A88F-4CFA-B76C-E8F438EA0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55737-E1F4-4CBD-93F0-D7D28FC940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41D4D-0618-4131-88C8-C35028209C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7087F-9384-4F64-82BC-61238285DA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5CBA9-9796-4284-AB35-1984264B3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700E6-4F4D-451A-9C43-4C0148FFB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96102-D061-4F38-ACA9-B4C9D4843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8B31-52CF-475E-926F-BAB5B840B6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EEF64-60A8-40E2-B891-4484FBBF1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ACA04-4823-4979-AC9D-70956E46B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FFCF6-CD55-4C6F-8916-E741979A2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D270B-DDC5-440C-AF80-CBDDEF255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C035-83BF-4FA0-AC85-7C7B0BE849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D2B03-2892-4489-93DB-663B9DFEB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4BBFC-C38D-467B-8288-A581BA329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FC838-C47C-4F43-80A5-7DF288E2E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084D8-0DE1-4326-B04D-D5A8F28A4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AA1B9-5A34-47DE-A695-23A071A0A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0AEB-E046-4D14-817A-E4CE4844A7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1A9CA-EB42-42B6-99EC-F1D8A63A4B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55CF3-5EB5-4336-8141-7AAD173EE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EDBE9-7F77-467B-A96D-4A7B6D701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D3D1D-385D-4FB8-BC5B-EF2E20C08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5173D-9569-40E8-9A9B-6C9782334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36467-2E89-4504-9B1D-A7EEA368E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5334C-8584-4BB8-8924-7BDA9B3B1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0D53F-9BEF-4096-934D-4108A95EB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B0EF2-5C9B-4AFA-9333-26AE5EB63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026-A557-45E3-9552-CF970748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474-A852-4388-B634-CECE86C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3DA-7C37-4BB0-9F2C-D50E95D8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04D-DA96-45A5-8B1F-B3BDFD91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E857-CF54-461F-BBDC-173BBC5D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D881-86F7-4AED-BDDA-FEB7870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0D51-16F5-4D10-93E0-6D4E5F67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618-3A56-4F9E-8F2E-3784334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A00-ACAE-4B45-AFD2-FF76B2B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A0F0-EBA5-44F9-B059-D3C6D050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8FFD-406F-4E31-A467-4A58EB73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AB5-1F29-46CD-B797-3ADE718E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C0F7-3D82-477D-B1B2-4FEC947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8767-EF52-4941-BC51-6078431C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74CE-2920-4B06-9882-944F6BE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FE0C-D806-4EF9-8C84-BD738273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32B0-D2E5-450D-A5F7-AD8E9284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0EFE-A3CB-449E-A9DF-FFA7F5EA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EBD-54D2-423D-B809-4FA4DB95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3BA8-C0C1-4272-BE97-B71F408D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468-FA38-49FF-9BA6-3D25E8D2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B42-B6B6-4D6A-894F-BF75C23A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3FD-55E4-4263-9A52-5C8D3F7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FA5F-176F-4D5D-A241-A272ADBF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Rectangle 2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8720" y="1080"/>
              <a:ext cx="1292040" cy="6306120"/>
              <a:chOff x="7848720" y="1080"/>
              <a:chExt cx="1292040" cy="630612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81880" y="1080"/>
                <a:ext cx="758880" cy="2267280"/>
                <a:chOff x="8381880" y="1080"/>
                <a:chExt cx="758880" cy="226728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704440" y="1080"/>
                  <a:ext cx="276120" cy="272880"/>
                  <a:chOff x="8704440" y="1080"/>
                  <a:chExt cx="276120" cy="27288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704440" y="1080"/>
                    <a:ext cx="276120" cy="272880"/>
                    <a:chOff x="8704440" y="1080"/>
                    <a:chExt cx="276120" cy="27288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45120" y="-39600"/>
                      <a:ext cx="194760" cy="276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54120" y="95040"/>
                      <a:ext cx="135720" cy="222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54480" y="70560"/>
                    <a:ext cx="39600" cy="54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3960" y="64080"/>
                    <a:ext cx="60480" cy="33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19280" y="194400"/>
                    <a:ext cx="60480" cy="237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65280" y="168480"/>
                    <a:ext cx="3492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53480" y="4908600"/>
              <a:ext cx="118728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9080" y="4857840"/>
              <a:ext cx="1216080" cy="199692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7920" y="2817720"/>
              <a:ext cx="1228680" cy="4033800"/>
            </a:xfrm>
            <a:prstGeom prst="pie">
              <a:avLst/>
            </a:pr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10360" y="3538440"/>
              <a:ext cx="976320" cy="21812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4000" y="426960"/>
              <a:ext cx="911160" cy="50450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50120" y="262080"/>
              <a:ext cx="906480" cy="30686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3760" y="0"/>
              <a:ext cx="573120" cy="3349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3760" y="1440"/>
              <a:ext cx="297000" cy="334980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8160" y="6229440"/>
              <a:ext cx="1162080" cy="615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29000" y="3315960"/>
              <a:ext cx="6854760" cy="222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c16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FDE998-E87F-4529-AB59-ED1E0CB4EDFD}" type="slidenum">
              <a:rPr b="0" lang="ru-RU" sz="2400" spc="-1" strike="noStrike">
                <a:solidFill>
                  <a:srgbClr val="c1605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Rectangle 2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8720" y="1080"/>
              <a:ext cx="1292040" cy="6306120"/>
              <a:chOff x="7848720" y="1080"/>
              <a:chExt cx="1292040" cy="630612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81880" y="1080"/>
                <a:ext cx="758880" cy="2267280"/>
                <a:chOff x="8381880" y="1080"/>
                <a:chExt cx="758880" cy="226728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704440" y="1080"/>
                  <a:ext cx="276120" cy="272880"/>
                  <a:chOff x="8704440" y="1080"/>
                  <a:chExt cx="276120" cy="27288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704440" y="1080"/>
                    <a:ext cx="276120" cy="272880"/>
                    <a:chOff x="8704440" y="1080"/>
                    <a:chExt cx="276120" cy="27288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45120" y="-39600"/>
                      <a:ext cx="194760" cy="276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54120" y="95040"/>
                      <a:ext cx="135720" cy="2221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54480" y="70560"/>
                    <a:ext cx="39600" cy="540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3960" y="64080"/>
                    <a:ext cx="60480" cy="334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19280" y="194400"/>
                    <a:ext cx="60480" cy="237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65280" y="168480"/>
                    <a:ext cx="3492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53480" y="4908600"/>
              <a:ext cx="118728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9080" y="4857840"/>
              <a:ext cx="1216080" cy="199692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7920" y="2817720"/>
              <a:ext cx="1228680" cy="4033800"/>
            </a:xfrm>
            <a:prstGeom prst="pie">
              <a:avLst/>
            </a:prstGeom>
            <a:gradFill rotWithShape="0">
              <a:gsLst>
                <a:gs pos="0">
                  <a:srgbClr val="79af7d"/>
                </a:gs>
                <a:gs pos="50000">
                  <a:srgbClr val="375039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10360" y="3538440"/>
              <a:ext cx="976320" cy="218124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4000" y="426960"/>
              <a:ext cx="911160" cy="50450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50120" y="262080"/>
              <a:ext cx="906480" cy="30686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3760" y="0"/>
              <a:ext cx="573120" cy="3349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3760" y="1440"/>
              <a:ext cx="297000" cy="3349800"/>
            </a:xfrm>
            <a:prstGeom prst="pie">
              <a:avLst/>
            </a:pr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8160" y="6229440"/>
              <a:ext cx="1162080" cy="6159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29000" y="3315960"/>
              <a:ext cx="6854760" cy="222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62760" cy="20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2040"/>
            <a:ext cx="17794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160"/>
            <a:ext cx="34527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58CA05-ACB3-4378-93F4-BA28A9315A8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foodclub-ru.livejournal.com/413780.html" TargetMode="External"/><Relationship Id="rId2" Type="http://schemas.openxmlformats.org/officeDocument/2006/relationships/hyperlink" Target="http://www.gotovim.ru/recepts/sbs/kystybaykartof.shtml" TargetMode="External"/><Relationship Id="rId3" Type="http://schemas.openxmlformats.org/officeDocument/2006/relationships/hyperlink" Target="http://povar.ru/recipes/kystybyi_s_kartoshkoi-6071.html" TargetMode="External"/><Relationship Id="rId4" Type="http://schemas.openxmlformats.org/officeDocument/2006/relationships/hyperlink" Target="http://perfectfood.ru/2010/06/kystybyj-s-kartofelem-fotorecept/" TargetMode="External"/><Relationship Id="rId5" Type="http://schemas.openxmlformats.org/officeDocument/2006/relationships/hyperlink" Target="http://eda-recepty.com/cooking/1731-kjstjbji-s-kartofelem" TargetMode="External"/><Relationship Id="rId6" Type="http://schemas.openxmlformats.org/officeDocument/2006/relationships/hyperlink" Target="http://natalia11.ru/kystybyjj-iz-kartoshki/" TargetMode="External"/><Relationship Id="rId7" Type="http://schemas.openxmlformats.org/officeDocument/2006/relationships/hyperlink" Target="http://karaidel.livejournal.com/150872.html" TargetMode="External"/><Relationship Id="rId8" Type="http://schemas.openxmlformats.org/officeDocument/2006/relationships/hyperlink" Target="http://na-vilke.ru/tatarstan/kystybyj-s-kartofelem.html" TargetMode="External"/><Relationship Id="rId9" Type="http://schemas.openxmlformats.org/officeDocument/2006/relationships/hyperlink" Target="http://www.cookeranna.ru/receipes/Kisnibiy/" TargetMode="External"/><Relationship Id="rId10" Type="http://schemas.openxmlformats.org/officeDocument/2006/relationships/hyperlink" Target="http://goodfoodz.ru/2011-10-30-kystybyj.php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250920" y="285840"/>
            <a:ext cx="7416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3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СБ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«Приготовление татарского 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национального блюда КЫСТЫБЫЙ»</a:t>
            </a:r>
            <a:br>
              <a:rPr sz="23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11280" y="4143240"/>
            <a:ext cx="70563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пппоолдлдл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7143840" cy="46893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05808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ГКСКОУ имени Акчурина  А.З. с. Камышл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готовила учитель высшей категори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айруллина Мухтарамя Габдулхак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f7d47d"/>
                </a:solidFill>
                <a:latin typeface="Arial"/>
              </a:rPr>
              <a:t>ПРОВЕРЬ СЕБЯ!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5148360" y="2852640"/>
            <a:ext cx="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11" descr="молоко"/>
          <p:cNvPicPr/>
          <p:nvPr/>
        </p:nvPicPr>
        <p:blipFill>
          <a:blip r:embed="rId1"/>
          <a:stretch/>
        </p:blipFill>
        <p:spPr>
          <a:xfrm>
            <a:off x="3214800" y="14288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мука"/>
          <p:cNvPicPr/>
          <p:nvPr/>
        </p:nvPicPr>
        <p:blipFill>
          <a:blip r:embed="rId2"/>
          <a:stretch/>
        </p:blipFill>
        <p:spPr>
          <a:xfrm>
            <a:off x="5786280" y="1357200"/>
            <a:ext cx="1171800" cy="1729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3" descr="соль"/>
          <p:cNvPicPr/>
          <p:nvPr/>
        </p:nvPicPr>
        <p:blipFill>
          <a:blip r:embed="rId3"/>
          <a:stretch/>
        </p:blipFill>
        <p:spPr>
          <a:xfrm>
            <a:off x="250920" y="4292640"/>
            <a:ext cx="2305080" cy="1608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сода"/>
          <p:cNvPicPr/>
          <p:nvPr/>
        </p:nvPicPr>
        <p:blipFill>
          <a:blip r:embed="rId4"/>
          <a:stretch/>
        </p:blipFill>
        <p:spPr>
          <a:xfrm>
            <a:off x="3071880" y="4429080"/>
            <a:ext cx="1019160" cy="1523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раст масло"/>
          <p:cNvPicPr/>
          <p:nvPr/>
        </p:nvPicPr>
        <p:blipFill>
          <a:blip r:embed="rId5"/>
          <a:stretch/>
        </p:blipFill>
        <p:spPr>
          <a:xfrm>
            <a:off x="4357800" y="4429080"/>
            <a:ext cx="1081080" cy="1513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potatoe"/>
          <p:cNvPicPr/>
          <p:nvPr/>
        </p:nvPicPr>
        <p:blipFill>
          <a:blip r:embed="rId6"/>
          <a:stretch/>
        </p:blipFill>
        <p:spPr>
          <a:xfrm>
            <a:off x="755640" y="1413000"/>
            <a:ext cx="1371600" cy="1296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G:\show_image_in_imgtag.png"/>
          <p:cNvPicPr/>
          <p:nvPr/>
        </p:nvPicPr>
        <p:blipFill>
          <a:blip r:embed="rId7"/>
          <a:stretch/>
        </p:blipFill>
        <p:spPr>
          <a:xfrm>
            <a:off x="5715000" y="4429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79280" y="62064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ПЕРВИЧНАЯ ОБРАБОТКА ОВОЩЕЙ.</a:t>
            </a:r>
            <a:br>
              <a:rPr sz="36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263520" y="1598760"/>
            <a:ext cx="73882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ем грязные овощ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чищаем от кожур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моем очищенные  овощ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2627280" y="4149720"/>
            <a:ext cx="244800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016000" cy="2232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292720" y="4149720"/>
            <a:ext cx="2448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2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2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219240" y="324000"/>
            <a:ext cx="7478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7d47d"/>
                </a:solidFill>
                <a:latin typeface="Arial"/>
              </a:rPr>
              <a:t>ТЕПЛОВАЯ ОБРАБОТКА ОВОЩ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95280" y="1341360"/>
            <a:ext cx="7345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бираем воду в кастрюл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тавим на конфорк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закипании опуска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ртофель в кипящую воду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116000" y="3716280"/>
            <a:ext cx="2664000" cy="2808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26560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-ss" descr="&amp;kcy;&amp;acy;&amp;rcy;&amp;tcy;&amp;ocy;&amp;shcy;&amp;kcy;&amp;acy; &amp;rcy;&amp;acy;&amp;scy;&amp;tcy;&amp;rcy;&amp;ocy;&amp;vcy;&amp;ycy;&amp;jcy; &amp;rcy;&amp;icy;&amp;scy;&amp;ucy;&amp;ncy;&amp;ocy;&amp;kcy;"/>
          <p:cNvPicPr/>
          <p:nvPr/>
        </p:nvPicPr>
        <p:blipFill>
          <a:blip r:embed="rId1"/>
          <a:stretch/>
        </p:blipFill>
        <p:spPr>
          <a:xfrm>
            <a:off x="2714760" y="357120"/>
            <a:ext cx="20286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remove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20545E-006 L 1.94444E-006 0.77329 E">
                                      <p:cBhvr>
                                        <p:cTn id="426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3631E-006 C 0.18055 -0.01942 0.33871 0.13265 0.35156 0.34019 C 0.36389 0.54726 0.22621 0.73191 0.04566 0.75156 C -0.13576 0.77097 -0.29236 0.61821 -0.30538 0.41091 C -0.31771 0.2036 -0.18125 0.01964 1.11111E-006 2.73631E-006 Z">
                                      <p:cBhvr>
                                        <p:cTn id="429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023 C -0.22171 0.0067 -0.40487 0.1731 -0.40955 0.37485 C -0.41737 0.56736 -0.25973 0.73353 -0.04462 0.72706 C 0.15364 0.72475 0.33246 0.584 0.33697 0.40305 C 0.33871 0.23827 0.20902 0.0929 0.02482 0.09706 C -0.14445 0.09937 -0.29775 0.21793 -0.30365 0.37185 C -0.3066 0.51305 -0.19809 0.63531 -0.04306 0.63069 C 0.096 0.62815 0.2276 0.5327 0.22777 0.40674 C 0.23263 0.29235 0.14791 0.19251 0.02239 0.19343 C -0.09028 0.19713 -0.19636 0.269 -0.19723 0.36838 C -0.19983 0.45551 -0.13612 0.53686 -0.04046 0.53478 C 0.04184 0.53362 0.11927 0.48255 0.12222 0.40952 C 0.12621 0.3492 0.08628 0.28957 0.021 0.29212 C -0.03264 0.29096 -0.08785 0.31985 -0.0915 0.36468 C -0.08976 0.40097 -0.07535 0.43586 -0.03889 0.43864 C -0.01528 0.4391 0.00746 0.43147 0.01597 0.41275 C 0.01944 0.40374 0.01909 0.3975 0.01458 0.38918 E">
                                      <p:cBhvr>
                                        <p:cTn id="432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1"/>
          <p:cNvSpPr txBox="1"/>
          <p:nvPr/>
        </p:nvSpPr>
        <p:spPr>
          <a:xfrm>
            <a:off x="1476360" y="189000"/>
            <a:ext cx="70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WordArt 2"/>
          <p:cNvSpPr txBox="1"/>
          <p:nvPr/>
        </p:nvSpPr>
        <p:spPr>
          <a:xfrm>
            <a:off x="1619280" y="692280"/>
            <a:ext cx="6353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1" strike="noStrike">
                <a:ln cap="sq"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отовление картофельного пюре</a:t>
            </a:r>
            <a:endParaRPr b="0" i="1" lang="en-US" sz="1800" spc="1" strike="noStrike">
              <a:ln cap="sq"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914400" y="1268280"/>
            <a:ext cx="73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бери в кастрюлю воду и   поставь на пли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роведи первичную обработку картоф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роведи тепловую обработку картоф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лей в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догрей молоко 1-3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азомни картофель, чтобы не было ком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лей молоко, размеш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ложи сливочное масло, размеша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крой кастрюлю крышкой и убе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8480" indent="-528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28480"/>
                <a:tab algn="l" pos="976320"/>
                <a:tab algn="l" pos="1425600"/>
                <a:tab algn="l" pos="1874880"/>
                <a:tab algn="l" pos="2324160"/>
                <a:tab algn="l" pos="2773440"/>
                <a:tab algn="l" pos="3222720"/>
                <a:tab algn="l" pos="3672000"/>
                <a:tab algn="l" pos="4121280"/>
                <a:tab algn="l" pos="4570560"/>
                <a:tab algn="l" pos="5019840"/>
                <a:tab algn="l" pos="5468760"/>
                <a:tab algn="l" pos="5918040"/>
                <a:tab algn="l" pos="6367320"/>
                <a:tab algn="l" pos="6816600"/>
                <a:tab algn="l" pos="7265880"/>
                <a:tab algn="l" pos="7715160"/>
                <a:tab algn="l" pos="8164440"/>
                <a:tab algn="l" pos="8613720"/>
                <a:tab algn="l" pos="9063000"/>
                <a:tab algn="l" pos="9512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рабочее мест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4149720"/>
            <a:ext cx="1285920" cy="2550960"/>
          </a:xfrm>
          <a:prstGeom prst="rect">
            <a:avLst/>
          </a:prstGeom>
          <a:ln w="0">
            <a:noFill/>
          </a:ln>
        </p:spPr>
      </p:pic>
      <p:sp>
        <p:nvSpPr>
          <p:cNvPr id="275" name="WordArt 5"/>
          <p:cNvSpPr txBox="1"/>
          <p:nvPr/>
        </p:nvSpPr>
        <p:spPr>
          <a:xfrm>
            <a:off x="1476360" y="189000"/>
            <a:ext cx="70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6" name="WordArt 6"/>
          <p:cNvSpPr txBox="1"/>
          <p:nvPr/>
        </p:nvSpPr>
        <p:spPr>
          <a:xfrm>
            <a:off x="1476360" y="189000"/>
            <a:ext cx="705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карта</a:t>
            </a:r>
            <a:endParaRPr b="0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2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2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2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19240" y="324000"/>
            <a:ext cx="74786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ИНГРЕДИЕН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24000" y="155736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00720" y="1268280"/>
            <a:ext cx="33130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 ПОРЦ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фель- 3 ш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–5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. – 2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 – ½ ч.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500720" y="4005360"/>
            <a:ext cx="3384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0 ПОР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офель-   0,5 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око –      50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о слив. –  200 г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 –    3  ч.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00000" y="1628640"/>
            <a:ext cx="338472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ртофе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лок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сло сливоч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10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320840" cy="10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"/>
          <p:cNvPicPr/>
          <p:nvPr/>
        </p:nvPicPr>
        <p:blipFill>
          <a:blip r:embed="rId2"/>
          <a:stretch/>
        </p:blipFill>
        <p:spPr>
          <a:xfrm>
            <a:off x="3564000" y="501336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7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0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0"/>
            <a:ext cx="74768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готовление т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756144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3456000" cy="267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3457440" cy="2593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4356000" y="4005360"/>
            <a:ext cx="3456000" cy="2592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1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115920"/>
            <a:ext cx="7476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готовление лепешек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096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4392360" cy="3295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4033800" cy="318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 -6 3.33333 -6  C 0.06892 3.33333 -6  0.125 0.02847  0.125 0.06389  C 0.125 0.09907  0.06892 0.12777  3.61111 -6 0.12777  C -0.0691 0.12777  -0.125 0.09907  -0.125 0.06389  C -0.125 0.02847  -0.0691 3.33333 -6  3.61111 -6 3.33333 -6  Z">
                                      <p:cBhvr>
                                        <p:cTn id="640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115560"/>
            <a:ext cx="74768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иготовление кыстыбы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7632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168360" cy="2778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2"/>
          <a:stretch/>
        </p:blipFill>
        <p:spPr>
          <a:xfrm>
            <a:off x="3995640" y="907920"/>
            <a:ext cx="3600720" cy="2697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3"/>
          <a:stretch/>
        </p:blipFill>
        <p:spPr>
          <a:xfrm>
            <a:off x="2268360" y="3767040"/>
            <a:ext cx="3598920" cy="30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-47880"/>
            <a:ext cx="74768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bed644"/>
                </a:solidFill>
                <a:latin typeface="Arial"/>
              </a:rPr>
              <a:t>Технологическая карта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риготовление кыстыбый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777096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2916360" y="1413000"/>
            <a:ext cx="5256000" cy="4254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087280" cy="1524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"/>
          <p:cNvPicPr/>
          <p:nvPr/>
        </p:nvPicPr>
        <p:blipFill>
          <a:blip r:embed="rId4"/>
          <a:stretch/>
        </p:blipFill>
        <p:spPr>
          <a:xfrm>
            <a:off x="468360" y="4724280"/>
            <a:ext cx="2448000" cy="2000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2592360" cy="1943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1084320" y="3941640"/>
            <a:ext cx="455436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звенел зво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чинается урок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4000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WordArt 2"/>
          <p:cNvSpPr txBox="1"/>
          <p:nvPr/>
        </p:nvSpPr>
        <p:spPr>
          <a:xfrm>
            <a:off x="1692360" y="3357720"/>
            <a:ext cx="56293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68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итература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9600" y="863640"/>
            <a:ext cx="73864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SzPct val="136785"/>
              <a:buBlip>
                <a:blip r:embed="rId1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cc00"/>
                </a:solidFill>
                <a:uFillTx/>
                <a:latin typeface="Tahoma"/>
              </a:rPr>
              <a:t>Бродниковская О. М. Использование ИКТ на уроках СБО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2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оронкова В.В. СБО учащихся 5-9 классов  в С(К)ОУ 8 вида. М., ВЛАДОС,200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3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евяткова Т.А. СБО в С(К)ОУ 8 вида. М., 200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4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ружинина Л. Блюда эсонской кухни. М, Планета,1973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5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Львова С.А. Практический материал к урокам СБО в С(К)ОУ 8 вида. М., ВЛАДОС,2005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SzPct val="136785"/>
              <a:buBlip>
                <a:blip r:embed="rId6"/>
              </a:buBlip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ахуридзе Н. Блюда русской кухни. М, Планета,197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6800" y="-18000"/>
            <a:ext cx="74768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нтернет -ресурс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7160" y="1119240"/>
            <a:ext cx="738648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oodclub-ru.livejournal.com/413780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gotovim.ru/recepts/sbs/kystybaykartof.s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povar.ru/recipes/kystybyi_s_kartoshkoi-6071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perfectfood.ru/2010/06/kystybyj-s-kartofelem-fotorecept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eda-recepty.com/cooking/1731-kjstjbji-s-kartofelem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natalia11.ru/kystybyjj-iz-kartoshki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karaidel.livejournal.com/150872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-vilke.ru/tatarstan/kystybyj-s-kartofelem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cookeranna.ru/receipes/Kisnibiy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goodfoodz.ru/2011-10-30-kystybyj.php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www.edimdoma.ru/photos/from_recipe/10702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russianfood.com/recipes/recipe.php?rid=1492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bestfood.ru/r/10823/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ccff"/>
                </a:solidFill>
                <a:latin typeface="Arial"/>
              </a:rPr>
              <a:t>http://gotovim-doma-vkusno.ru/kyistyibyiy-s-kartofelem.htm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115560"/>
            <a:ext cx="74768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Мои контакт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63520" y="863640"/>
            <a:ext cx="3552840" cy="2808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024440" y="1439640"/>
            <a:ext cx="3603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2f1311"/>
              </a:buClr>
              <a:buSzPct val="178000"/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СБО ГКС(К)ОУ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(К)ШИ им. Акчурина А.З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. Камышла Самарcкой об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60360" y="3672000"/>
            <a:ext cx="734364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SzPct val="102792"/>
              <a:buBlip>
                <a:blip r:embed="rId2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E-mail:</a:t>
            </a: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xmg59@mail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SzPct val="102792"/>
              <a:buBlip>
                <a:blip r:embed="rId3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й блог:</a:t>
            </a: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xmginter@gmai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SzPct val="102792"/>
              <a:buBlip>
                <a:blip r:embed="rId4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Мой мини сай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Arial"/>
              </a:rPr>
              <a:t>http://nsportal.ru/hayrullna-muhtaramya-gabdulhakovn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933560" y="3700440"/>
            <a:ext cx="5238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f7d47d"/>
                </a:solidFill>
                <a:latin typeface="Arial"/>
              </a:rPr>
              <a:t>ОТГАДАЙ БУКВУ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24000" y="1773360"/>
            <a:ext cx="7524720" cy="170640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cap="sq"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3"/>
          <p:cNvSpPr/>
          <p:nvPr/>
        </p:nvSpPr>
        <p:spPr>
          <a:xfrm>
            <a:off x="1476360" y="1773360"/>
            <a:ext cx="1440" cy="165564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2627280" y="1773360"/>
            <a:ext cx="1800" cy="165564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8360" y="1916280"/>
            <a:ext cx="91260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708360" y="1773360"/>
            <a:ext cx="1800" cy="172872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7"/>
          <p:cNvSpPr/>
          <p:nvPr/>
        </p:nvSpPr>
        <p:spPr>
          <a:xfrm flipV="1">
            <a:off x="4643280" y="1770120"/>
            <a:ext cx="1800" cy="166536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 flipV="1">
            <a:off x="5724360" y="1770120"/>
            <a:ext cx="1800" cy="166536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9"/>
          <p:cNvSpPr/>
          <p:nvPr/>
        </p:nvSpPr>
        <p:spPr>
          <a:xfrm flipV="1">
            <a:off x="6877080" y="1770120"/>
            <a:ext cx="1440" cy="1665360"/>
          </a:xfrm>
          <a:prstGeom prst="line">
            <a:avLst/>
          </a:prstGeom>
          <a:ln cap="sq" w="5724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547640" y="1989000"/>
            <a:ext cx="100836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00360" y="1989000"/>
            <a:ext cx="93672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4716360" y="1989000"/>
            <a:ext cx="93672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5796000" y="1989000"/>
            <a:ext cx="100800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6948360" y="1989000"/>
            <a:ext cx="792360" cy="13129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ffffe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619280" y="3645000"/>
            <a:ext cx="5400720" cy="3025800"/>
          </a:xfrm>
          <a:prstGeom prst="rect">
            <a:avLst/>
          </a:prstGeom>
          <a:blipFill rotWithShape="0">
            <a:blip r:embed="rId1"/>
            <a:srcRect/>
            <a:stretch/>
          </a:blipFill>
          <a:ln cap="sq" w="763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6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52560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700" spc="-1" strike="noStrike">
                <a:solidFill>
                  <a:srgbClr val="f7d47d"/>
                </a:solidFill>
                <a:latin typeface="Arial"/>
              </a:rPr>
              <a:t>КАРТОФЕЛЬ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539640" y="1600200"/>
            <a:ext cx="418464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то копали из земли, жарили, вари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Что в золе мы испекли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Ели да хвалили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344340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914400" y="-1000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700"/>
            </a:br>
            <a:r>
              <a:rPr b="1" lang="ru-RU" sz="2700" spc="-1" strike="noStrike">
                <a:solidFill>
                  <a:srgbClr val="f7d47d"/>
                </a:solidFill>
                <a:latin typeface="Arial"/>
              </a:rPr>
              <a:t>: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24000" y="1413000"/>
            <a:ext cx="804996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артофель - это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Родиной картофеля является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Завез в Россию картофель 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Из картофеля можно приготовить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buClr>
                <a:srgbClr val="b2b2b2"/>
              </a:buClr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артофель очень полезны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овощ потому, что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-ss" descr="&amp;kcy;&amp;acy;&amp;rcy;&amp;tcy;&amp;ocy;&amp;shcy;&amp;kcy;&amp;acy; &amp;rcy;&amp;acy;&amp;scy;&amp;tcy;&amp;rcy;&amp;ocy;&amp;vcy;&amp;ycy;&amp;jcy; &amp;rcy;&amp;icy;&amp;scy;&amp;ucy;&amp;ncy;&amp;ocy;&amp;kcy;"/>
          <p:cNvPicPr/>
          <p:nvPr/>
        </p:nvPicPr>
        <p:blipFill>
          <a:blip r:embed="rId1"/>
          <a:stretch/>
        </p:blipFill>
        <p:spPr>
          <a:xfrm>
            <a:off x="2714760" y="357120"/>
            <a:ext cx="202860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20545E-006 L 1.94444E-006 0.77329 E">
                                      <p:cBhvr>
                                        <p:cTn id="188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3631E-006 C 0.18055 -0.01942 0.33871 0.13265 0.35156 0.34019 C 0.36389 0.54726 0.22621 0.73191 0.04566 0.75156 C -0.13576 0.77097 -0.29236 0.61821 -0.30538 0.41091 C -0.31771 0.2036 -0.18125 0.01964 1.11111E-006 2.73631E-006 Z">
                                      <p:cBhvr>
                                        <p:cTn id="191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024 C 0.02361 -0.00739 0.04861 -0.0171 0.07396 -0.01248 C 0.10087 -0.00739 0.13038 0.00439 0.16007 0.0178 C 0.18959 0.02982 0.21129 0.04923 0.23542 0.06957 C 0.25747 0.08921 0.2809 0.11209 0.29601 0.1419 C 0.31215 0.16917 0.32031 0.20245 0.3257 0.23712 C 0.33004 0.26832 0.32847 0.30229 0.32205 0.33187 C 0.31632 0.36238 0.30677 0.39104 0.29323 0.41392 C 0.27865 0.43911 0.2599 0.45852 0.23594 0.46938 C 0.21337 0.48094 0.18768 0.48741 0.16094 0.48209 C 0.13403 0.48024 0.10452 0.46684 0.08038 0.45205 C 0.0559 0.4398 0.02917 0.42016 0.0099 0.39242 C -0.00764 0.36954 -0.01788 0.33765 -0.01632 0.30391 C -0.01232 0.27179 0.00486 0.24798 0.02622 0.23897 C 0.04775 0.2325 0.07587 0.23527 0.10417 0.25006 C 0.13177 0.26716 0.15677 0.28565 0.17448 0.31084 C 0.19184 0.33603 0.19653 0.33626 0.20799 0.40028 C 0.22327 0.46083 0.19983 0.49781 0.19271 0.52508 C 0.18403 0.5505 0.16771 0.56575 0.15018 0.58655 C 0.13004 0.60874 0.10226 0.61983 0.07969 0.62538 C 0.05677 0.63093 0.03247 0.62492 -0.00503 0.6129 C -0.04114 0.59834 -0.0585 0.58771 -0.08437 0.5713 C -0.11059 0.5542 -0.13594 0.53895 -0.16111 0.523 E">
                                      <p:cBhvr>
                                        <p:cTn id="19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50920" y="-243000"/>
            <a:ext cx="741672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3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Приготовление татарского </a:t>
            </a:r>
            <a:br>
              <a:rPr sz="2800"/>
            </a:b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национального блюда КЫСТЫБЫЙ.</a:t>
            </a:r>
            <a:br>
              <a:rPr sz="23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11280" y="1268280"/>
            <a:ext cx="7056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264360" cy="469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2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241200" y="330120"/>
            <a:ext cx="7412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24000" y="1600200"/>
            <a:ext cx="440028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5280" indent="-530280" algn="ctr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Font typeface="Arial"/>
              <a:buAutoNum type="arabicPeriod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Научиться готовить кыстыбы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 algn="ctr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Arial"/>
              <a:buAutoNum type="arabicPeriod"/>
              <a:tabLst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f1311"/>
                </a:solidFill>
                <a:latin typeface="Arial"/>
              </a:rPr>
              <a:t>Уметь эстетически красиво оформлять блюдо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5280" indent="-530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652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487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4716360" y="4076640"/>
            <a:ext cx="295272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219240" y="317520"/>
            <a:ext cx="74786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УБЕРИ ЛИШНИЕ ПРОДУК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473120" cy="194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1908000" y="2997360"/>
            <a:ext cx="1338480" cy="1584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3"/>
          <a:stretch/>
        </p:blipFill>
        <p:spPr>
          <a:xfrm>
            <a:off x="4284720" y="4941720"/>
            <a:ext cx="1582560" cy="149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4"/>
          <a:stretch/>
        </p:blipFill>
        <p:spPr>
          <a:xfrm>
            <a:off x="2627280" y="5013360"/>
            <a:ext cx="1584360" cy="1287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"/>
          <p:cNvPicPr/>
          <p:nvPr/>
        </p:nvPicPr>
        <p:blipFill>
          <a:blip r:embed="rId5"/>
          <a:stretch/>
        </p:blipFill>
        <p:spPr>
          <a:xfrm>
            <a:off x="3635280" y="1341360"/>
            <a:ext cx="1146240" cy="165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6"/>
          <a:stretch/>
        </p:blipFill>
        <p:spPr>
          <a:xfrm>
            <a:off x="4932360" y="1484280"/>
            <a:ext cx="1033560" cy="151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7"/>
          <a:stretch/>
        </p:blipFill>
        <p:spPr>
          <a:xfrm>
            <a:off x="4859280" y="3141720"/>
            <a:ext cx="1440000" cy="1655640"/>
          </a:xfrm>
          <a:prstGeom prst="rect">
            <a:avLst/>
          </a:prstGeom>
          <a:ln w="0">
            <a:noFill/>
          </a:ln>
        </p:spPr>
      </p:pic>
      <p:sp>
        <p:nvSpPr>
          <p:cNvPr id="244" name="Line 16"/>
          <p:cNvSpPr/>
          <p:nvPr/>
        </p:nvSpPr>
        <p:spPr>
          <a:xfrm>
            <a:off x="5148360" y="2852640"/>
            <a:ext cx="144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5" descr="молоко"/>
          <p:cNvPicPr/>
          <p:nvPr/>
        </p:nvPicPr>
        <p:blipFill>
          <a:blip r:embed="rId8"/>
          <a:stretch/>
        </p:blipFill>
        <p:spPr>
          <a:xfrm>
            <a:off x="1835280" y="134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6" descr="мука"/>
          <p:cNvPicPr/>
          <p:nvPr/>
        </p:nvPicPr>
        <p:blipFill>
          <a:blip r:embed="rId9"/>
          <a:stretch/>
        </p:blipFill>
        <p:spPr>
          <a:xfrm>
            <a:off x="6156360" y="1268280"/>
            <a:ext cx="1171440" cy="172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соль"/>
          <p:cNvPicPr/>
          <p:nvPr/>
        </p:nvPicPr>
        <p:blipFill>
          <a:blip r:embed="rId10"/>
          <a:stretch/>
        </p:blipFill>
        <p:spPr>
          <a:xfrm>
            <a:off x="179280" y="4869000"/>
            <a:ext cx="2305080" cy="1608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8" descr="сода"/>
          <p:cNvPicPr/>
          <p:nvPr/>
        </p:nvPicPr>
        <p:blipFill>
          <a:blip r:embed="rId11"/>
          <a:stretch/>
        </p:blipFill>
        <p:spPr>
          <a:xfrm>
            <a:off x="3635280" y="3141720"/>
            <a:ext cx="1019160" cy="152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9" descr="раст масло"/>
          <p:cNvPicPr/>
          <p:nvPr/>
        </p:nvPicPr>
        <p:blipFill>
          <a:blip r:embed="rId12"/>
          <a:stretch/>
        </p:blipFill>
        <p:spPr>
          <a:xfrm>
            <a:off x="6443640" y="3284640"/>
            <a:ext cx="1081080" cy="1512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1" descr="potatoe"/>
          <p:cNvPicPr/>
          <p:nvPr/>
        </p:nvPicPr>
        <p:blipFill>
          <a:blip r:embed="rId13"/>
          <a:stretch/>
        </p:blipFill>
        <p:spPr>
          <a:xfrm>
            <a:off x="6012000" y="5084640"/>
            <a:ext cx="1371600" cy="129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3" descr="G:\show_image_in_imgtag.png"/>
          <p:cNvPicPr/>
          <p:nvPr/>
        </p:nvPicPr>
        <p:blipFill>
          <a:blip r:embed="rId14"/>
          <a:stretch/>
        </p:blipFill>
        <p:spPr>
          <a:xfrm>
            <a:off x="285840" y="32860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8:12:44Z</dcterms:created>
  <dc:creator>User</dc:creator>
  <dc:description/>
  <dc:language>en-US</dc:language>
  <cp:lastModifiedBy>USER</cp:lastModifiedBy>
  <dcterms:modified xsi:type="dcterms:W3CDTF">2013-02-25T14:58:08Z</dcterms:modified>
  <cp:revision>46</cp:revision>
  <dc:subject/>
  <dc:title>Слайд 1</dc:title>
</cp:coreProperties>
</file>