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5.jpeg" ContentType="image/jpeg"/>
  <Override PartName="/ppt/media/image2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44.gif" ContentType="image/gif"/>
  <Override PartName="/ppt/media/image36.jpeg" ContentType="image/jpeg"/>
  <Override PartName="/ppt/media/image9.jpeg" ContentType="image/jpeg"/>
  <Override PartName="/ppt/media/image30.gif" ContentType="image/gif"/>
  <Override PartName="/ppt/media/image46.png" ContentType="image/png"/>
  <Override PartName="/ppt/media/image47.jpeg" ContentType="image/jpe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37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BBCD6-F422-40C3-B579-3B578BAF78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0D663-95B4-4EEC-9606-6A6FE71722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18C9E-1EC3-4D26-93B5-80D63F8D4F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4A5A4-AA4D-4684-80E8-C24F9EC3DB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7C0B5-00F5-49E1-A052-8178D33669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653EF-EB50-4F7B-87A6-8B34BD2B69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9D6F5-D422-4413-86CB-872D7425CD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B2D95-87C9-412C-B6B8-59371EE3C9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090BB-FA36-48BE-B6F1-1B5C7B18A8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8096B-3911-4713-A425-40A0B69A48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5344C-CF66-415E-A4FD-56F6EB7FC9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F84E1-1700-49FA-B6BA-6290600138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3E914-D2A8-4760-8594-24ABA2FCA0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BC120-7DE5-46CC-AD52-79B1226D30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846E0-8910-45CA-8A42-35A5757E24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E72CF-CF80-4242-B1DF-09812AD676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3AB97-587B-4DFC-BAC1-DCC03DFF67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55980-B2D5-4123-B128-E279F50717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07CFE-2D26-43B9-957A-11C3FE12FA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4E6E7-B795-43F0-B586-97B20C75EF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76209-FCE1-4F85-8557-19D808C8BF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CB3FE-4AD4-4691-82CA-577D8933CF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218BB-E3F3-4899-B6B9-82331214A7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960B6-497C-4DAB-BF03-CB879C3E0D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3EE8D-B7E7-492C-A0F0-54C04997DD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7043A-6F9C-4008-92A8-652FDA3EFD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9E2C3-A17C-4110-9F2A-4480951A59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E9CCE-89B3-4770-A0D7-153179A75F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63DE6-39A8-4233-8713-E1DF3E4611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6B4B1-4B83-4D0A-B7A2-DF0658FFBB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58839-C358-4BD4-8DCD-8CC0A186DB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178EA-B421-45C3-B2C4-3A477B92C9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A6178-5C0C-480C-8ACA-654D858BC9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2D141-F118-48F2-8BED-C87CE20D32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7A4AE-D325-4354-A97F-D5DA77829C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E3E7C-39BD-427D-827D-7F601A5D73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F44-C2C4-4431-8428-84EE0B84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A59-CA3B-45A2-9093-22FB561A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00F-E1DE-4FA1-A4F8-1B440CE8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1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08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1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08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1FBA-7CFC-45FD-B141-01D49381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772E-ABDB-486A-9388-E79DB226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4E39-F534-429C-ADF1-75C0479A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94BF-3047-4AF8-B9CC-6E616948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D747-E3D1-45AF-B7C2-8B427477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8280-9EBB-4077-8B51-2B4FD41D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3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BBE1-1E07-403E-A804-6B164B2D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3009-1C8D-4791-BEFF-6F95ECBD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092-2BC3-41DB-9F71-A0BEA874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B2D7-60F4-438C-8512-C3821027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4236-9800-4084-A416-0B340C33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463A-1AEF-4E5D-821B-707F0D74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6127-36A8-4D72-A231-4BCC24B3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1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708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1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708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69E4-EFF8-4337-9A7A-F4AFF3F9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88C2-655C-4F08-8FC3-0D88D51C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654-B586-48B2-91B9-8A1B991D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D2C-170E-4666-9B83-488905D6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3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636-D0A5-46E5-8E4D-E5B1938E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EAE-68DF-4E3F-ACF8-71E64B7E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A3E-8369-4142-8343-59C53EB5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54D8-D162-4A25-A965-8C97B13A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1" name="Rectangle 2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7848720" y="1080"/>
              <a:ext cx="1292040" cy="6306120"/>
              <a:chOff x="7848720" y="1080"/>
              <a:chExt cx="1292040" cy="6306120"/>
            </a:xfrm>
          </p:grpSpPr>
          <p:grpSp>
            <p:nvGrpSpPr>
              <p:cNvPr id="5" name="Group 6"/>
              <p:cNvGrpSpPr/>
              <p:nvPr/>
            </p:nvGrpSpPr>
            <p:grpSpPr>
              <a:xfrm>
                <a:off x="8381880" y="1080"/>
                <a:ext cx="758880" cy="2267280"/>
                <a:chOff x="8381880" y="1080"/>
                <a:chExt cx="758880" cy="2267280"/>
              </a:xfrm>
            </p:grpSpPr>
            <p:grpSp>
              <p:nvGrpSpPr>
                <p:cNvPr id="6" name="Group 7"/>
                <p:cNvGrpSpPr/>
                <p:nvPr/>
              </p:nvGrpSpPr>
              <p:grpSpPr>
                <a:xfrm>
                  <a:off x="8704440" y="1080"/>
                  <a:ext cx="276120" cy="272880"/>
                  <a:chOff x="8704440" y="1080"/>
                  <a:chExt cx="276120" cy="272880"/>
                </a:xfrm>
              </p:grpSpPr>
              <p:grpSp>
                <p:nvGrpSpPr>
                  <p:cNvPr id="7" name="Group 8"/>
                  <p:cNvGrpSpPr/>
                  <p:nvPr/>
                </p:nvGrpSpPr>
                <p:grpSpPr>
                  <a:xfrm>
                    <a:off x="8704440" y="1080"/>
                    <a:ext cx="276120" cy="272880"/>
                    <a:chOff x="8704440" y="1080"/>
                    <a:chExt cx="276120" cy="272880"/>
                  </a:xfrm>
                </p:grpSpPr>
                <p:sp>
                  <p:nvSpPr>
                    <p:cNvPr id="8" name="Freeform 9"/>
                    <p:cNvSpPr/>
                    <p:nvPr/>
                  </p:nvSpPr>
                  <p:spPr>
                    <a:xfrm rot="16200000">
                      <a:off x="8745120" y="-39600"/>
                      <a:ext cx="194760" cy="27612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0"/>
                    <p:cNvSpPr/>
                    <p:nvPr/>
                  </p:nvSpPr>
                  <p:spPr>
                    <a:xfrm rot="16200000">
                      <a:off x="8754120" y="95040"/>
                      <a:ext cx="135720" cy="22212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1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 rot="16200000">
                    <a:off x="8754480" y="70560"/>
                    <a:ext cx="39600" cy="540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 rot="16200000">
                    <a:off x="8823960" y="64080"/>
                    <a:ext cx="60480" cy="334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 rot="16200000">
                    <a:off x="8819280" y="194400"/>
                    <a:ext cx="60480" cy="237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 rot="16200000">
                    <a:off x="8765280" y="168480"/>
                    <a:ext cx="34920" cy="396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5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25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5"/>
            <p:cNvSpPr/>
            <p:nvPr/>
          </p:nvSpPr>
          <p:spPr>
            <a:xfrm>
              <a:off x="7953480" y="4908600"/>
              <a:ext cx="1187280" cy="19368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7939080" y="4857840"/>
              <a:ext cx="1216080" cy="1996920"/>
            </a:xfrm>
            <a:prstGeom prst="pie">
              <a:avLst/>
            </a:pr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7"/>
            <p:cNvSpPr/>
            <p:nvPr/>
          </p:nvSpPr>
          <p:spPr>
            <a:xfrm>
              <a:off x="7927920" y="2817720"/>
              <a:ext cx="1228680" cy="4033800"/>
            </a:xfrm>
            <a:prstGeom prst="pie">
              <a:avLst/>
            </a:prstGeom>
            <a:gradFill rotWithShape="0">
              <a:gsLst>
                <a:gs pos="0">
                  <a:srgbClr val="79af7d"/>
                </a:gs>
                <a:gs pos="50000">
                  <a:srgbClr val="375039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8"/>
            <p:cNvSpPr/>
            <p:nvPr/>
          </p:nvSpPr>
          <p:spPr>
            <a:xfrm>
              <a:off x="8010360" y="3538440"/>
              <a:ext cx="976320" cy="21812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49"/>
            <p:cNvSpPr/>
            <p:nvPr/>
          </p:nvSpPr>
          <p:spPr>
            <a:xfrm>
              <a:off x="8244000" y="426960"/>
              <a:ext cx="911160" cy="504504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0"/>
            <p:cNvSpPr/>
            <p:nvPr/>
          </p:nvSpPr>
          <p:spPr>
            <a:xfrm>
              <a:off x="8250120" y="262080"/>
              <a:ext cx="906480" cy="30686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1"/>
            <p:cNvSpPr/>
            <p:nvPr/>
          </p:nvSpPr>
          <p:spPr>
            <a:xfrm>
              <a:off x="7943760" y="0"/>
              <a:ext cx="573120" cy="33498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2"/>
            <p:cNvSpPr/>
            <p:nvPr/>
          </p:nvSpPr>
          <p:spPr>
            <a:xfrm>
              <a:off x="7943760" y="1440"/>
              <a:ext cx="297000" cy="3349800"/>
            </a:xfrm>
            <a:prstGeom prst="pie">
              <a:avLst/>
            </a:pr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3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4"/>
            <p:cNvSpPr/>
            <p:nvPr/>
          </p:nvSpPr>
          <p:spPr>
            <a:xfrm>
              <a:off x="7958160" y="6229440"/>
              <a:ext cx="1162080" cy="6159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5"/>
            <p:cNvSpPr/>
            <p:nvPr/>
          </p:nvSpPr>
          <p:spPr>
            <a:xfrm rot="5400000">
              <a:off x="4329000" y="3315960"/>
              <a:ext cx="6854760" cy="222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320" y="6242040"/>
            <a:ext cx="17794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200" y="6248160"/>
            <a:ext cx="345276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c160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A568B6-D507-4221-A089-D50CBB06CC48}" type="slidenum">
              <a:rPr b="0" lang="ru-RU" sz="2400" spc="-1" strike="noStrike">
                <a:solidFill>
                  <a:srgbClr val="c1605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97" name="Rectangle 2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3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4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5"/>
            <p:cNvGrpSpPr/>
            <p:nvPr/>
          </p:nvGrpSpPr>
          <p:grpSpPr>
            <a:xfrm>
              <a:off x="7848720" y="1080"/>
              <a:ext cx="1292040" cy="6306120"/>
              <a:chOff x="7848720" y="1080"/>
              <a:chExt cx="1292040" cy="6306120"/>
            </a:xfrm>
          </p:grpSpPr>
          <p:grpSp>
            <p:nvGrpSpPr>
              <p:cNvPr id="101" name="Group 6"/>
              <p:cNvGrpSpPr/>
              <p:nvPr/>
            </p:nvGrpSpPr>
            <p:grpSpPr>
              <a:xfrm>
                <a:off x="8381880" y="1080"/>
                <a:ext cx="758880" cy="2267280"/>
                <a:chOff x="8381880" y="1080"/>
                <a:chExt cx="758880" cy="2267280"/>
              </a:xfrm>
            </p:grpSpPr>
            <p:grpSp>
              <p:nvGrpSpPr>
                <p:cNvPr id="102" name="Group 7"/>
                <p:cNvGrpSpPr/>
                <p:nvPr/>
              </p:nvGrpSpPr>
              <p:grpSpPr>
                <a:xfrm>
                  <a:off x="8704440" y="1080"/>
                  <a:ext cx="276120" cy="272880"/>
                  <a:chOff x="8704440" y="1080"/>
                  <a:chExt cx="276120" cy="272880"/>
                </a:xfrm>
              </p:grpSpPr>
              <p:grpSp>
                <p:nvGrpSpPr>
                  <p:cNvPr id="103" name="Group 8"/>
                  <p:cNvGrpSpPr/>
                  <p:nvPr/>
                </p:nvGrpSpPr>
                <p:grpSpPr>
                  <a:xfrm>
                    <a:off x="8704440" y="1080"/>
                    <a:ext cx="276120" cy="272880"/>
                    <a:chOff x="8704440" y="1080"/>
                    <a:chExt cx="276120" cy="272880"/>
                  </a:xfrm>
                </p:grpSpPr>
                <p:sp>
                  <p:nvSpPr>
                    <p:cNvPr id="104" name="Freeform 9"/>
                    <p:cNvSpPr/>
                    <p:nvPr/>
                  </p:nvSpPr>
                  <p:spPr>
                    <a:xfrm rot="16200000">
                      <a:off x="8745120" y="-39600"/>
                      <a:ext cx="194760" cy="27612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0"/>
                    <p:cNvSpPr/>
                    <p:nvPr/>
                  </p:nvSpPr>
                  <p:spPr>
                    <a:xfrm rot="16200000">
                      <a:off x="8754120" y="95040"/>
                      <a:ext cx="135720" cy="22212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1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2"/>
                  <p:cNvSpPr/>
                  <p:nvPr/>
                </p:nvSpPr>
                <p:spPr>
                  <a:xfrm rot="16200000">
                    <a:off x="8754480" y="70560"/>
                    <a:ext cx="39600" cy="540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3"/>
                  <p:cNvSpPr/>
                  <p:nvPr/>
                </p:nvSpPr>
                <p:spPr>
                  <a:xfrm rot="16200000">
                    <a:off x="8823960" y="64080"/>
                    <a:ext cx="60480" cy="334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4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5"/>
                  <p:cNvSpPr/>
                  <p:nvPr/>
                </p:nvSpPr>
                <p:spPr>
                  <a:xfrm rot="16200000">
                    <a:off x="8819280" y="194400"/>
                    <a:ext cx="60480" cy="237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6"/>
                  <p:cNvSpPr/>
                  <p:nvPr/>
                </p:nvSpPr>
                <p:spPr>
                  <a:xfrm rot="16200000">
                    <a:off x="8765280" y="168480"/>
                    <a:ext cx="34920" cy="396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5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121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5"/>
            <p:cNvSpPr/>
            <p:nvPr/>
          </p:nvSpPr>
          <p:spPr>
            <a:xfrm>
              <a:off x="7953480" y="4908600"/>
              <a:ext cx="1187280" cy="19368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6"/>
            <p:cNvSpPr/>
            <p:nvPr/>
          </p:nvSpPr>
          <p:spPr>
            <a:xfrm>
              <a:off x="7939080" y="4857840"/>
              <a:ext cx="1216080" cy="1996920"/>
            </a:xfrm>
            <a:prstGeom prst="pie">
              <a:avLst/>
            </a:pr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7"/>
            <p:cNvSpPr/>
            <p:nvPr/>
          </p:nvSpPr>
          <p:spPr>
            <a:xfrm>
              <a:off x="7927920" y="2817720"/>
              <a:ext cx="1228680" cy="4033800"/>
            </a:xfrm>
            <a:prstGeom prst="pie">
              <a:avLst/>
            </a:prstGeom>
            <a:gradFill rotWithShape="0">
              <a:gsLst>
                <a:gs pos="0">
                  <a:srgbClr val="79af7d"/>
                </a:gs>
                <a:gs pos="50000">
                  <a:srgbClr val="375039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8"/>
            <p:cNvSpPr/>
            <p:nvPr/>
          </p:nvSpPr>
          <p:spPr>
            <a:xfrm>
              <a:off x="8010360" y="3538440"/>
              <a:ext cx="976320" cy="21812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9"/>
            <p:cNvSpPr/>
            <p:nvPr/>
          </p:nvSpPr>
          <p:spPr>
            <a:xfrm>
              <a:off x="8244000" y="426960"/>
              <a:ext cx="911160" cy="504504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0"/>
            <p:cNvSpPr/>
            <p:nvPr/>
          </p:nvSpPr>
          <p:spPr>
            <a:xfrm>
              <a:off x="8250120" y="262080"/>
              <a:ext cx="906480" cy="30686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7943760" y="0"/>
              <a:ext cx="573120" cy="33498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2"/>
            <p:cNvSpPr/>
            <p:nvPr/>
          </p:nvSpPr>
          <p:spPr>
            <a:xfrm>
              <a:off x="7943760" y="1440"/>
              <a:ext cx="297000" cy="3349800"/>
            </a:xfrm>
            <a:prstGeom prst="pie">
              <a:avLst/>
            </a:pr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4"/>
            <p:cNvSpPr/>
            <p:nvPr/>
          </p:nvSpPr>
          <p:spPr>
            <a:xfrm>
              <a:off x="7958160" y="6229440"/>
              <a:ext cx="1162080" cy="6159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5"/>
            <p:cNvSpPr/>
            <p:nvPr/>
          </p:nvSpPr>
          <p:spPr>
            <a:xfrm rot="5400000">
              <a:off x="4329000" y="3315960"/>
              <a:ext cx="6854760" cy="222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370160"/>
            <a:ext cx="6962760" cy="20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320" y="6242040"/>
            <a:ext cx="17794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200" y="6248160"/>
            <a:ext cx="345276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52EBCC-B802-4223-AAB8-B2F532C162F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foodclub-ru.livejournal.com/413780.html" TargetMode="External"/><Relationship Id="rId2" Type="http://schemas.openxmlformats.org/officeDocument/2006/relationships/hyperlink" Target="http://www.gotovim.ru/recepts/sbs/kystybaykartof.shtml" TargetMode="External"/><Relationship Id="rId3" Type="http://schemas.openxmlformats.org/officeDocument/2006/relationships/hyperlink" Target="http://povar.ru/recipes/kystybyi_s_kartoshkoi-6071.html" TargetMode="External"/><Relationship Id="rId4" Type="http://schemas.openxmlformats.org/officeDocument/2006/relationships/hyperlink" Target="http://perfectfood.ru/2010/06/kystybyj-s-kartofelem-fotorecept/" TargetMode="External"/><Relationship Id="rId5" Type="http://schemas.openxmlformats.org/officeDocument/2006/relationships/hyperlink" Target="http://eda-recepty.com/cooking/1731-kjstjbji-s-kartofelem" TargetMode="External"/><Relationship Id="rId6" Type="http://schemas.openxmlformats.org/officeDocument/2006/relationships/hyperlink" Target="http://natalia11.ru/kystybyjj-iz-kartoshki/" TargetMode="External"/><Relationship Id="rId7" Type="http://schemas.openxmlformats.org/officeDocument/2006/relationships/hyperlink" Target="http://karaidel.livejournal.com/150872.html" TargetMode="External"/><Relationship Id="rId8" Type="http://schemas.openxmlformats.org/officeDocument/2006/relationships/hyperlink" Target="http://na-vilke.ru/tatarstan/kystybyj-s-kartofelem.html" TargetMode="External"/><Relationship Id="rId9" Type="http://schemas.openxmlformats.org/officeDocument/2006/relationships/hyperlink" Target="http://www.cookeranna.ru/receipes/Kisnibiy/" TargetMode="External"/><Relationship Id="rId10" Type="http://schemas.openxmlformats.org/officeDocument/2006/relationships/hyperlink" Target="http://goodfoodz.ru/2011-10-30-kystybyj.php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250920" y="285840"/>
            <a:ext cx="74167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3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 СБ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«Приготовление татарского 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национального блюда КЫСТЫБЫЙ»</a:t>
            </a:r>
            <a:br>
              <a:rPr sz="23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611280" y="4143240"/>
            <a:ext cx="705636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пппоолдлдл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7143840" cy="46893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371600" y="4786200"/>
            <a:ext cx="60580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КСКОУ имени Акчурина  А.З. с. Камышл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дготовила учитель высшей категор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Хайруллина Мухтарамя Габдулхаков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219240" y="317520"/>
            <a:ext cx="74786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700" spc="-1" strike="noStrike">
                <a:solidFill>
                  <a:srgbClr val="f7d47d"/>
                </a:solidFill>
                <a:latin typeface="Arial"/>
              </a:rPr>
              <a:t>ПРОВЕРЬ СЕБЯ!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5148360" y="2852640"/>
            <a:ext cx="1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11" descr="молоко"/>
          <p:cNvPicPr/>
          <p:nvPr/>
        </p:nvPicPr>
        <p:blipFill>
          <a:blip r:embed="rId1"/>
          <a:stretch/>
        </p:blipFill>
        <p:spPr>
          <a:xfrm>
            <a:off x="3214800" y="14288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2" descr="мука"/>
          <p:cNvPicPr/>
          <p:nvPr/>
        </p:nvPicPr>
        <p:blipFill>
          <a:blip r:embed="rId2"/>
          <a:stretch/>
        </p:blipFill>
        <p:spPr>
          <a:xfrm>
            <a:off x="5786280" y="1357200"/>
            <a:ext cx="1171800" cy="1729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3" descr="соль"/>
          <p:cNvPicPr/>
          <p:nvPr/>
        </p:nvPicPr>
        <p:blipFill>
          <a:blip r:embed="rId3"/>
          <a:stretch/>
        </p:blipFill>
        <p:spPr>
          <a:xfrm>
            <a:off x="250920" y="4292640"/>
            <a:ext cx="2305080" cy="1608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сода"/>
          <p:cNvPicPr/>
          <p:nvPr/>
        </p:nvPicPr>
        <p:blipFill>
          <a:blip r:embed="rId4"/>
          <a:stretch/>
        </p:blipFill>
        <p:spPr>
          <a:xfrm>
            <a:off x="3071880" y="4429080"/>
            <a:ext cx="1019160" cy="1523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раст масло"/>
          <p:cNvPicPr/>
          <p:nvPr/>
        </p:nvPicPr>
        <p:blipFill>
          <a:blip r:embed="rId5"/>
          <a:stretch/>
        </p:blipFill>
        <p:spPr>
          <a:xfrm>
            <a:off x="4357800" y="4429080"/>
            <a:ext cx="1081080" cy="1513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potatoe"/>
          <p:cNvPicPr/>
          <p:nvPr/>
        </p:nvPicPr>
        <p:blipFill>
          <a:blip r:embed="rId6"/>
          <a:stretch/>
        </p:blipFill>
        <p:spPr>
          <a:xfrm>
            <a:off x="755640" y="1413000"/>
            <a:ext cx="1371600" cy="1296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G:\show_image_in_imgtag.png"/>
          <p:cNvPicPr/>
          <p:nvPr/>
        </p:nvPicPr>
        <p:blipFill>
          <a:blip r:embed="rId7"/>
          <a:stretch/>
        </p:blipFill>
        <p:spPr>
          <a:xfrm>
            <a:off x="5715000" y="442908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179280" y="620640"/>
            <a:ext cx="777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7d47d"/>
                </a:solidFill>
                <a:latin typeface="Arial"/>
              </a:rPr>
              <a:t>ПЕРВИЧНАЯ ОБРАБОТКА ОВОЩЕЙ.</a:t>
            </a:r>
            <a:br>
              <a:rPr sz="36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263520" y="1598760"/>
            <a:ext cx="738828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оем грязные овощ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чищаем от кожур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оем очищенные  овощ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2627280" y="4149720"/>
            <a:ext cx="2448000" cy="2286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2016000" cy="2232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3"/>
          <a:stretch/>
        </p:blipFill>
        <p:spPr>
          <a:xfrm>
            <a:off x="5292720" y="4149720"/>
            <a:ext cx="24480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2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219240" y="324000"/>
            <a:ext cx="7478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7d47d"/>
                </a:solidFill>
                <a:latin typeface="Arial"/>
              </a:rPr>
              <a:t>ТЕПЛОВАЯ ОБРАБОТКА ОВОЩЕ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395280" y="1341360"/>
            <a:ext cx="7345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бираем воду в кастрюлю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тавим на конфорку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 закипании опуска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ртофель в кипящую воду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1116000" y="3716280"/>
            <a:ext cx="2664000" cy="2808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265608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-ss" descr="&amp;kcy;&amp;acy;&amp;rcy;&amp;tcy;&amp;ocy;&amp;shcy;&amp;kcy;&amp;acy; &amp;rcy;&amp;acy;&amp;scy;&amp;tcy;&amp;rcy;&amp;ocy;&amp;vcy;&amp;ycy;&amp;jcy; &amp;rcy;&amp;icy;&amp;scy;&amp;ucy;&amp;ncy;&amp;ocy;&amp;kcy;"/>
          <p:cNvPicPr/>
          <p:nvPr/>
        </p:nvPicPr>
        <p:blipFill>
          <a:blip r:embed="rId1"/>
          <a:stretch/>
        </p:blipFill>
        <p:spPr>
          <a:xfrm>
            <a:off x="2714760" y="357120"/>
            <a:ext cx="202860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0"/>
                            </p:stCondLst>
                            <p:childTnLst>
                              <p:par>
                                <p:cTn id="425" nodeType="afterEffect" fill="remove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20545E-006 L 1.94444E-006 0.77329 E">
                                      <p:cBhvr>
                                        <p:cTn id="426" dur="5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73631E-006 C 0.18055 -0.01942 0.33871 0.13265 0.35156 0.34019 C 0.36389 0.54726 0.22621 0.73191 0.04566 0.75156 C -0.13576 0.77097 -0.29236 0.61821 -0.30538 0.41091 C -0.31771 0.2036 -0.18125 0.01964 1.11111E-006 2.73631E-006 Z">
                                      <p:cBhvr>
                                        <p:cTn id="429" dur="5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1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.00023 C -0.22171 0.0067 -0.40487 0.1731 -0.40955 0.37485 C -0.41737 0.56736 -0.25973 0.73353 -0.04462 0.72706 C 0.15364 0.72475 0.33246 0.584 0.33697 0.40305 C 0.33871 0.23827 0.20902 0.0929 0.02482 0.09706 C -0.14445 0.09937 -0.29775 0.21793 -0.30365 0.37185 C -0.3066 0.51305 -0.19809 0.63531 -0.04306 0.63069 C 0.096 0.62815 0.2276 0.5327 0.22777 0.40674 C 0.23263 0.29235 0.14791 0.19251 0.02239 0.19343 C -0.09028 0.19713 -0.19636 0.269 -0.19723 0.36838 C -0.19983 0.45551 -0.13612 0.53686 -0.04046 0.53478 C 0.04184 0.53362 0.11927 0.48255 0.12222 0.40952 C 0.12621 0.3492 0.08628 0.28957 0.021 0.29212 C -0.03264 0.29096 -0.08785 0.31985 -0.0915 0.36468 C -0.08976 0.40097 -0.07535 0.43586 -0.03889 0.43864 C -0.01528 0.4391 0.00746 0.43147 0.01597 0.41275 C 0.01944 0.40374 0.01909 0.3975 0.01458 0.38918 E">
                                      <p:cBhvr>
                                        <p:cTn id="432" dur="5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1"/>
          <p:cNvSpPr txBox="1"/>
          <p:nvPr/>
        </p:nvSpPr>
        <p:spPr>
          <a:xfrm>
            <a:off x="1476360" y="189000"/>
            <a:ext cx="705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ологическая карта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WordArt 2"/>
          <p:cNvSpPr txBox="1"/>
          <p:nvPr/>
        </p:nvSpPr>
        <p:spPr>
          <a:xfrm>
            <a:off x="1619280" y="692280"/>
            <a:ext cx="63532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cap="sq"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готовление картофельного пюре</a:t>
            </a:r>
            <a:endParaRPr b="0" i="1" lang="en-US" sz="1800" spc="1" strike="noStrike">
              <a:ln cap="sq"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914400" y="1268280"/>
            <a:ext cx="73296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8480" indent="-528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бери в кастрюлю воду и   поставь на пли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роведи первичную обработку картофе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роведи тепловую обработку картофе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лей в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догрей молоко 1-3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Разомни картофель, чтобы не было ком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Влей молоко, размеша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ложи сливочное масло, размеша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крой кастрюлю крышкой и убе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рабочее мест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0" y="4149720"/>
            <a:ext cx="1285920" cy="2550960"/>
          </a:xfrm>
          <a:prstGeom prst="rect">
            <a:avLst/>
          </a:prstGeom>
          <a:ln w="0">
            <a:noFill/>
          </a:ln>
        </p:spPr>
      </p:pic>
      <p:sp>
        <p:nvSpPr>
          <p:cNvPr id="275" name="WordArt 5"/>
          <p:cNvSpPr txBox="1"/>
          <p:nvPr/>
        </p:nvSpPr>
        <p:spPr>
          <a:xfrm>
            <a:off x="1476360" y="189000"/>
            <a:ext cx="705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ологическая карта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WordArt 6"/>
          <p:cNvSpPr txBox="1"/>
          <p:nvPr/>
        </p:nvSpPr>
        <p:spPr>
          <a:xfrm>
            <a:off x="1476360" y="189000"/>
            <a:ext cx="705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ологическая карта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20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20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20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2000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219240" y="324000"/>
            <a:ext cx="7478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ИНГРЕДИЕНТ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24000" y="155736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500720" y="1268280"/>
            <a:ext cx="33130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1 ПОРЦ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офель- 3 ш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ко –50 г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о слив. – 20 г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ь – ½ ч.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4500720" y="4005360"/>
            <a:ext cx="3384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10 ПОР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офель-   0,5 к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ко –      500 г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о слив. –  200 г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ь –    3  ч.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00000" y="1628640"/>
            <a:ext cx="338472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10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ртофе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10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лок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10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сло сливочн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10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10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у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6" descr=""/>
          <p:cNvPicPr/>
          <p:nvPr/>
        </p:nvPicPr>
        <p:blipFill>
          <a:blip r:embed="rId1"/>
          <a:stretch/>
        </p:blipFill>
        <p:spPr>
          <a:xfrm>
            <a:off x="6516720" y="2924280"/>
            <a:ext cx="1320840" cy="107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"/>
          <p:cNvPicPr/>
          <p:nvPr/>
        </p:nvPicPr>
        <p:blipFill>
          <a:blip r:embed="rId2"/>
          <a:stretch/>
        </p:blipFill>
        <p:spPr>
          <a:xfrm>
            <a:off x="3564000" y="5013360"/>
            <a:ext cx="9525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8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7" dur="2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0" dur="2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готовление те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756144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3456000" cy="2673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3457440" cy="2593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"/>
          <p:cNvPicPr/>
          <p:nvPr/>
        </p:nvPicPr>
        <p:blipFill>
          <a:blip r:embed="rId4"/>
          <a:stretch/>
        </p:blipFill>
        <p:spPr>
          <a:xfrm>
            <a:off x="4356000" y="400536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14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115920"/>
            <a:ext cx="7476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готовление лепеше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0960" cy="47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392360" cy="3295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"/>
          <p:cNvPicPr/>
          <p:nvPr/>
        </p:nvPicPr>
        <p:blipFill>
          <a:blip r:embed="rId2"/>
          <a:stretch/>
        </p:blipFill>
        <p:spPr>
          <a:xfrm>
            <a:off x="3851280" y="3284640"/>
            <a:ext cx="4033800" cy="318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 -6 3.33333 -6  C 0.06892 3.33333 -6  0.125 0.02847  0.125 0.06389  C 0.125 0.09907  0.06892 0.12777  3.61111 -6 0.12777  C -0.0691 0.12777  -0.125 0.09907  -0.125 0.06389  C -0.125 0.02847  -0.0691 3.33333 -6  3.61111 -6 3.33333 -6  Z">
                                      <p:cBhvr>
                                        <p:cTn id="640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8880" y="115560"/>
            <a:ext cx="74768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готовление кыстыбы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7632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3168360" cy="2778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2"/>
          <a:stretch/>
        </p:blipFill>
        <p:spPr>
          <a:xfrm>
            <a:off x="3995640" y="907920"/>
            <a:ext cx="3600720" cy="26971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"/>
          <p:cNvPicPr/>
          <p:nvPr/>
        </p:nvPicPr>
        <p:blipFill>
          <a:blip r:embed="rId3"/>
          <a:stretch/>
        </p:blipFill>
        <p:spPr>
          <a:xfrm>
            <a:off x="2268360" y="3767040"/>
            <a:ext cx="3598920" cy="3029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4285">
                                          <p:val>
                                            <p:strVal val="#ppt_h/2"/>
                                          </p:val>
                                        </p:tav>
                                        <p:tav tm="28571">
                                          <p:val>
                                            <p:strVal val="#ppt_h"/>
                                          </p:val>
                                        </p:tav>
                                        <p:tav tm="42857">
                                          <p:val>
                                            <p:strVal val="#ppt_h/2"/>
                                          </p:val>
                                        </p:tav>
                                        <p:tav tm="57142">
                                          <p:val>
                                            <p:strVal val="#ppt_h"/>
                                          </p:val>
                                        </p:tav>
                                        <p:tav tm="71428">
                                          <p:val>
                                            <p:strVal val="#ppt_h/2"/>
                                          </p:val>
                                        </p:tav>
                                        <p:tav tm="85714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2500">
                                          <p:val>
                                            <p:strVal val="#ppt_y-.2"/>
                                          </p:val>
                                        </p:tav>
                                        <p:tav tm="25000">
                                          <p:val>
                                            <p:strVal val="#ppt_y"/>
                                          </p:val>
                                        </p:tav>
                                        <p:tav tm="375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2500">
                                          <p:val>
                                            <p:strVal val="#ppt_y-.1"/>
                                          </p:val>
                                        </p:tav>
                                        <p:tav tm="75000">
                                          <p:val>
                                            <p:strVal val="#ppt_y"/>
                                          </p:val>
                                        </p:tav>
                                        <p:tav tm="875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-47880"/>
            <a:ext cx="747684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bed644"/>
                </a:solidFill>
                <a:latin typeface="Arial"/>
              </a:rPr>
              <a:t>Технологическая карта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иготовление кыстыбый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777096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2916360" y="1413000"/>
            <a:ext cx="5256000" cy="42544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2592360" cy="1943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"/>
          <p:cNvPicPr/>
          <p:nvPr/>
        </p:nvPicPr>
        <p:blipFill>
          <a:blip r:embed="rId3"/>
          <a:stretch/>
        </p:blipFill>
        <p:spPr>
          <a:xfrm>
            <a:off x="684360" y="3213000"/>
            <a:ext cx="2087280" cy="1524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"/>
          <p:cNvPicPr/>
          <p:nvPr/>
        </p:nvPicPr>
        <p:blipFill>
          <a:blip r:embed="rId4"/>
          <a:stretch/>
        </p:blipFill>
        <p:spPr>
          <a:xfrm>
            <a:off x="468360" y="4724280"/>
            <a:ext cx="2448000" cy="20005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"/>
          <p:cNvPicPr/>
          <p:nvPr/>
        </p:nvPicPr>
        <p:blipFill>
          <a:blip r:embed="rId5"/>
          <a:stretch/>
        </p:blipFill>
        <p:spPr>
          <a:xfrm>
            <a:off x="324000" y="1268280"/>
            <a:ext cx="2592360" cy="194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1084320" y="3941640"/>
            <a:ext cx="455436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звенел звон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чинается урок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24000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WordArt 2"/>
          <p:cNvSpPr txBox="1"/>
          <p:nvPr/>
        </p:nvSpPr>
        <p:spPr>
          <a:xfrm>
            <a:off x="1692360" y="3357720"/>
            <a:ext cx="56293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ДО НОВЫХ ВСТРЕЧ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684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итератур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9600" y="863640"/>
            <a:ext cx="738648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SzPct val="136785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Бродниковская О. М. Использование ИКТ на уроках СБО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SzPct val="136785"/>
              <a:buBlip>
                <a:blip r:embed="rId2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Воронкова В.В. СБО учащихся 5-9 классов  в С(К)ОУ 8 вида. М., ВЛАДОС,2005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SzPct val="136785"/>
              <a:buBlip>
                <a:blip r:embed="rId3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Девяткова Т.А. СБО в С(К)ОУ 8 вида. М., 20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SzPct val="136785"/>
              <a:buBlip>
                <a:blip r:embed="rId4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Дружинина Л. Блюда эсонской кухни. М, Планета,197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SzPct val="136785"/>
              <a:buBlip>
                <a:blip r:embed="rId5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Львова С.А. Практический материал к урокам СБО в С(К)ОУ 8 вида. М., ВЛАДОС,2005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SzPct val="136785"/>
              <a:buBlip>
                <a:blip r:embed="rId6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ахуридзе Н. Блюда русской кухни. М, Планета,197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6800" y="-18000"/>
            <a:ext cx="74768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нтернет -ресурс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7160" y="1119240"/>
            <a:ext cx="738648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foodclub-ru.livejournal.com/413780.htm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gotovim.ru/recepts/sbs/kystybaykartof.shtm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povar.ru/recipes/kystybyi_s_kartoshkoi-6071.htm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perfectfood.ru/2010/06/kystybyj-s-kartofelem-fotorecept/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eda-recepty.com/cooking/1731-kjstjbji-s-kartofele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natalia11.ru/kystybyjj-iz-kartoshki/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karaidel.livejournal.com/150872.htm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na-vilke.ru/tatarstan/kystybyj-s-kartofelem.htm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www.cookeranna.ru/receipes/Kisnibiy/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goodfoodz.ru/2011-10-30-kystybyj.php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http://www.edimdoma.ru/photos/from_recipe/107029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http://russianfood.com/recipes/recipe.php?rid=1492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http://bestfood.ru/r/10823/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http://gotovim-doma-vkusno.ru/kyistyibyiy-s-kartofelem.htm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115560"/>
            <a:ext cx="74768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Мои контак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263520" y="863640"/>
            <a:ext cx="3552840" cy="2808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024440" y="1439640"/>
            <a:ext cx="3603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2f1311"/>
              </a:buClr>
              <a:buSzPct val="178000"/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читель СБО ГКС(К)О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(К)ШИ им. Акчурина А.З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. Камышла Самарcкой об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360360" y="3672000"/>
            <a:ext cx="734364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SzPct val="102792"/>
              <a:buBlip>
                <a:blip r:embed="rId2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E-mail:</a:t>
            </a:r>
            <a:r>
              <a:rPr b="0" lang="ru-RU" sz="2000" spc="-1" strike="noStrike">
                <a:solidFill>
                  <a:srgbClr val="ccccff"/>
                </a:solidFill>
                <a:latin typeface="Arial"/>
              </a:rPr>
              <a:t>xmg59@mail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SzPct val="102792"/>
              <a:buBlip>
                <a:blip r:embed="rId3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Мой блог:</a:t>
            </a:r>
            <a:r>
              <a:rPr b="0" lang="ru-RU" sz="2000" spc="-1" strike="noStrike">
                <a:solidFill>
                  <a:srgbClr val="ccccff"/>
                </a:solidFill>
                <a:latin typeface="Arial"/>
              </a:rPr>
              <a:t>xmginter@gmail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SzPct val="102792"/>
              <a:buBlip>
                <a:blip r:embed="rId4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Мой мини сай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Arial"/>
              </a:rPr>
              <a:t>http://nsportal.ru/hayrullna-muhtaramya-gabdulhakovn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933560" y="3700440"/>
            <a:ext cx="5238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219240" y="317520"/>
            <a:ext cx="74786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700" spc="-1" strike="noStrike">
                <a:solidFill>
                  <a:srgbClr val="f7d47d"/>
                </a:solidFill>
                <a:latin typeface="Arial"/>
              </a:rPr>
              <a:t>ОТГАДАЙ БУКВУ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24000" y="1773360"/>
            <a:ext cx="7524720" cy="17064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cap="sq"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1476360" y="1773360"/>
            <a:ext cx="1440" cy="1655640"/>
          </a:xfrm>
          <a:prstGeom prst="line">
            <a:avLst/>
          </a:prstGeom>
          <a:ln cap="sq"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2627280" y="1773360"/>
            <a:ext cx="1800" cy="1655640"/>
          </a:xfrm>
          <a:prstGeom prst="line">
            <a:avLst/>
          </a:prstGeom>
          <a:ln cap="sq"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68360" y="1916280"/>
            <a:ext cx="912600" cy="13129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708360" y="1773360"/>
            <a:ext cx="1800" cy="1728720"/>
          </a:xfrm>
          <a:prstGeom prst="line">
            <a:avLst/>
          </a:prstGeom>
          <a:ln cap="sq"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 flipV="1">
            <a:off x="4643280" y="1770120"/>
            <a:ext cx="1800" cy="1665360"/>
          </a:xfrm>
          <a:prstGeom prst="line">
            <a:avLst/>
          </a:prstGeom>
          <a:ln cap="sq"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 flipV="1">
            <a:off x="5724360" y="1770120"/>
            <a:ext cx="1800" cy="1665360"/>
          </a:xfrm>
          <a:prstGeom prst="line">
            <a:avLst/>
          </a:prstGeom>
          <a:ln cap="sq"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 flipV="1">
            <a:off x="6877080" y="1770120"/>
            <a:ext cx="1440" cy="1665360"/>
          </a:xfrm>
          <a:prstGeom prst="line">
            <a:avLst/>
          </a:prstGeom>
          <a:ln cap="sq"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547640" y="1989000"/>
            <a:ext cx="1008360" cy="13129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2700360" y="1989000"/>
            <a:ext cx="936720" cy="13129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4716360" y="1989000"/>
            <a:ext cx="936720" cy="13129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5796000" y="1989000"/>
            <a:ext cx="1008000" cy="13129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6948360" y="1989000"/>
            <a:ext cx="792360" cy="13129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1619280" y="3645000"/>
            <a:ext cx="5400720" cy="302580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6" descr=""/>
          <p:cNvPicPr/>
          <p:nvPr/>
        </p:nvPicPr>
        <p:blipFill>
          <a:blip r:embed="rId2"/>
          <a:stretch/>
        </p:blipFill>
        <p:spPr>
          <a:xfrm>
            <a:off x="1692360" y="3716280"/>
            <a:ext cx="52560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219240" y="317520"/>
            <a:ext cx="74786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700" spc="-1" strike="noStrike">
                <a:solidFill>
                  <a:srgbClr val="f7d47d"/>
                </a:solidFill>
                <a:latin typeface="Arial"/>
              </a:rPr>
              <a:t>КАРТОФЕЛЬ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539640" y="1600200"/>
            <a:ext cx="418464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Что копали из земли, жарили, варил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Что в золе мы испекли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Ели да хвалили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3443400" cy="40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914400" y="-10008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f7d47d"/>
                </a:solidFill>
                <a:latin typeface="Arial"/>
              </a:rPr>
              <a:t>: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24000" y="1413000"/>
            <a:ext cx="804996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Картофель - это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Родиной картофеля является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Завез в Россию картофель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Из картофеля можно приготовить…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Картофель очень полезны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овощ потому, что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-ss" descr="&amp;kcy;&amp;acy;&amp;rcy;&amp;tcy;&amp;ocy;&amp;shcy;&amp;kcy;&amp;acy; &amp;rcy;&amp;acy;&amp;scy;&amp;tcy;&amp;rcy;&amp;ocy;&amp;vcy;&amp;ycy;&amp;jcy; &amp;rcy;&amp;icy;&amp;scy;&amp;ucy;&amp;ncy;&amp;ocy;&amp;kcy;"/>
          <p:cNvPicPr/>
          <p:nvPr/>
        </p:nvPicPr>
        <p:blipFill>
          <a:blip r:embed="rId1"/>
          <a:stretch/>
        </p:blipFill>
        <p:spPr>
          <a:xfrm>
            <a:off x="2714760" y="357120"/>
            <a:ext cx="202860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20545E-006 L 1.94444E-006 0.77329 E">
                                      <p:cBhvr>
                                        <p:cTn id="188" dur="5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73631E-006 C 0.18055 -0.01942 0.33871 0.13265 0.35156 0.34019 C 0.36389 0.54726 0.22621 0.73191 0.04566 0.75156 C -0.13576 0.77097 -0.29236 0.61821 -0.30538 0.41091 C -0.31771 0.2036 -0.18125 0.01964 1.11111E-006 2.73631E-006 Z">
                                      <p:cBhvr>
                                        <p:cTn id="191" dur="5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" nodeType="after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024 C 0.02361 -0.00739 0.04861 -0.0171 0.07396 -0.01248 C 0.10087 -0.00739 0.13038 0.00439 0.16007 0.0178 C 0.18959 0.02982 0.21129 0.04923 0.23542 0.06957 C 0.25747 0.08921 0.2809 0.11209 0.29601 0.1419 C 0.31215 0.16917 0.32031 0.20245 0.3257 0.23712 C 0.33004 0.26832 0.32847 0.30229 0.32205 0.33187 C 0.31632 0.36238 0.30677 0.39104 0.29323 0.41392 C 0.27865 0.43911 0.2599 0.45852 0.23594 0.46938 C 0.21337 0.48094 0.18768 0.48741 0.16094 0.48209 C 0.13403 0.48024 0.10452 0.46684 0.08038 0.45205 C 0.0559 0.4398 0.02917 0.42016 0.0099 0.39242 C -0.00764 0.36954 -0.01788 0.33765 -0.01632 0.30391 C -0.01232 0.27179 0.00486 0.24798 0.02622 0.23897 C 0.04775 0.2325 0.07587 0.23527 0.10417 0.25006 C 0.13177 0.26716 0.15677 0.28565 0.17448 0.31084 C 0.19184 0.33603 0.19653 0.33626 0.20799 0.40028 C 0.22327 0.46083 0.19983 0.49781 0.19271 0.52508 C 0.18403 0.5505 0.16771 0.56575 0.15018 0.58655 C 0.13004 0.60874 0.10226 0.61983 0.07969 0.62538 C 0.05677 0.63093 0.03247 0.62492 -0.00503 0.6129 C -0.04114 0.59834 -0.0585 0.58771 -0.08437 0.5713 C -0.11059 0.5542 -0.13594 0.53895 -0.16111 0.523 E">
                                      <p:cBhvr>
                                        <p:cTn id="194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50920" y="-243000"/>
            <a:ext cx="741672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3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Приготовление татарского 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национального блюда КЫСТЫБЫЙ.</a:t>
            </a:r>
            <a:br>
              <a:rPr sz="23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11280" y="1268280"/>
            <a:ext cx="70563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264360" cy="469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68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68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68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241200" y="330120"/>
            <a:ext cx="7412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ЦЕЛИ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24000" y="1600200"/>
            <a:ext cx="440028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5280" indent="-530280" algn="ctr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Font typeface="Arial"/>
              <a:buAutoNum type="arabicPeriod"/>
              <a:tabLst>
                <a:tab algn="l" pos="6652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Научиться готовить кыстыбы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65280" indent="-530280" algn="ct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6652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Уметь эстетически красиво оформлять блюдо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5280" indent="-530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652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487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5280" indent="-530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652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487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5280" indent="-530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652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487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3529080" cy="2648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4716360" y="4076640"/>
            <a:ext cx="2952720" cy="24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219240" y="317520"/>
            <a:ext cx="74786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УБЕРИ ЛИШНИЕ ПРОДУ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1908000" y="2997360"/>
            <a:ext cx="1338480" cy="1584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3"/>
          <a:stretch/>
        </p:blipFill>
        <p:spPr>
          <a:xfrm>
            <a:off x="4284720" y="4941720"/>
            <a:ext cx="1582560" cy="149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4"/>
          <a:stretch/>
        </p:blipFill>
        <p:spPr>
          <a:xfrm>
            <a:off x="2627280" y="5013360"/>
            <a:ext cx="1584360" cy="1287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5"/>
          <a:stretch/>
        </p:blipFill>
        <p:spPr>
          <a:xfrm>
            <a:off x="3635280" y="1341360"/>
            <a:ext cx="1146240" cy="1656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"/>
          <p:cNvPicPr/>
          <p:nvPr/>
        </p:nvPicPr>
        <p:blipFill>
          <a:blip r:embed="rId6"/>
          <a:stretch/>
        </p:blipFill>
        <p:spPr>
          <a:xfrm>
            <a:off x="4932360" y="1484280"/>
            <a:ext cx="1033560" cy="1513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7"/>
          <a:stretch/>
        </p:blipFill>
        <p:spPr>
          <a:xfrm>
            <a:off x="4859280" y="3141720"/>
            <a:ext cx="1440000" cy="1655640"/>
          </a:xfrm>
          <a:prstGeom prst="rect">
            <a:avLst/>
          </a:prstGeom>
          <a:ln w="0">
            <a:noFill/>
          </a:ln>
        </p:spPr>
      </p:pic>
      <p:sp>
        <p:nvSpPr>
          <p:cNvPr id="244" name="Line 16"/>
          <p:cNvSpPr/>
          <p:nvPr/>
        </p:nvSpPr>
        <p:spPr>
          <a:xfrm>
            <a:off x="5148360" y="2852640"/>
            <a:ext cx="1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5" descr="молоко"/>
          <p:cNvPicPr/>
          <p:nvPr/>
        </p:nvPicPr>
        <p:blipFill>
          <a:blip r:embed="rId8"/>
          <a:stretch/>
        </p:blipFill>
        <p:spPr>
          <a:xfrm>
            <a:off x="1835280" y="1341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6" descr="мука"/>
          <p:cNvPicPr/>
          <p:nvPr/>
        </p:nvPicPr>
        <p:blipFill>
          <a:blip r:embed="rId9"/>
          <a:stretch/>
        </p:blipFill>
        <p:spPr>
          <a:xfrm>
            <a:off x="6156360" y="1268280"/>
            <a:ext cx="1171440" cy="1729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соль"/>
          <p:cNvPicPr/>
          <p:nvPr/>
        </p:nvPicPr>
        <p:blipFill>
          <a:blip r:embed="rId10"/>
          <a:stretch/>
        </p:blipFill>
        <p:spPr>
          <a:xfrm>
            <a:off x="179280" y="4869000"/>
            <a:ext cx="2305080" cy="1608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8" descr="сода"/>
          <p:cNvPicPr/>
          <p:nvPr/>
        </p:nvPicPr>
        <p:blipFill>
          <a:blip r:embed="rId11"/>
          <a:stretch/>
        </p:blipFill>
        <p:spPr>
          <a:xfrm>
            <a:off x="3635280" y="3141720"/>
            <a:ext cx="1019160" cy="152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9" descr="раст масло"/>
          <p:cNvPicPr/>
          <p:nvPr/>
        </p:nvPicPr>
        <p:blipFill>
          <a:blip r:embed="rId12"/>
          <a:stretch/>
        </p:blipFill>
        <p:spPr>
          <a:xfrm>
            <a:off x="6443640" y="3284640"/>
            <a:ext cx="1081080" cy="1512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1" descr="potatoe"/>
          <p:cNvPicPr/>
          <p:nvPr/>
        </p:nvPicPr>
        <p:blipFill>
          <a:blip r:embed="rId13"/>
          <a:stretch/>
        </p:blipFill>
        <p:spPr>
          <a:xfrm>
            <a:off x="6012000" y="5084640"/>
            <a:ext cx="1371600" cy="1297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3" descr="G:\show_image_in_imgtag.png"/>
          <p:cNvPicPr/>
          <p:nvPr/>
        </p:nvPicPr>
        <p:blipFill>
          <a:blip r:embed="rId14"/>
          <a:stretch/>
        </p:blipFill>
        <p:spPr>
          <a:xfrm>
            <a:off x="285840" y="328608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8:12:44Z</dcterms:created>
  <dc:creator>User</dc:creator>
  <dc:description/>
  <dc:language>en-US</dc:language>
  <cp:lastModifiedBy>USER</cp:lastModifiedBy>
  <dcterms:modified xsi:type="dcterms:W3CDTF">2013-02-25T14:58:08Z</dcterms:modified>
  <cp:revision>46</cp:revision>
  <dc:subject/>
  <dc:title>Слайд 1</dc:title>
</cp:coreProperties>
</file>