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63251-F901-4E31-BD25-0473DE7BC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EE67D-4C52-4875-A2C1-DB492F4CE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CCEE4-1503-4CB6-AE66-6FC3088B3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7A4AB-6399-49ED-B449-D56577B41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3A3AF-F51C-4416-B5E1-5AE161399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9B114-1656-472C-AF59-9B6334135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55EBA-A08F-439D-BD06-DACFDEC80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5B5B1-FBB9-4778-AC31-A6AA392D3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6EE9A-96D4-417E-A0E8-B2DEE4B06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978EB-16DE-4F71-9D24-A97A0B9B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0C312-F71E-4ABC-86F6-0D14451A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9E92C-826B-4685-A7EE-7EAFC24B9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845E3-8795-4ADC-A0F3-D46CDC17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598BA-7CEB-40DE-8A47-2C3D4F56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F9ED7-1DD8-43A4-8211-AED85D4EE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B8D77-DE65-493A-BEAF-CE3A01C16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B9440-83E4-425C-899B-76A2539E9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7271E-4D05-4FD4-8918-6F99E09A0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E78BD-D205-415E-9A6D-5DE16FAC3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A21FE-ADF7-4DE5-9D9C-F6A2CCFED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F523E-9AAA-4BA8-B472-F869B42D7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F1D5B-1084-4982-B514-C82AF20D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7DEEB-4477-4170-816C-19B3F62A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A6555-CEFD-4F14-A3A2-93F40230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EBB4F-1023-469A-B4E8-CFB73D8688E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6B2A1-CC96-4FAD-B002-73A49863ABE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447920" y="2057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Трудовое воспитание и профориентация старшеклассников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cc"/>
                </a:solidFill>
                <a:latin typeface="Tahoma"/>
              </a:rPr>
              <a:t>Функции труд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ряду с обучающей функцией, труд имеет и развивающую: обеспечивает интеллектуальное, физическое, эмоционально – волевое, социальное развитие. Воспитывающая функция труда состоит в том, что правильно организованный труд формирует трудолюбие, ответственность, дисциплинированность, инициатив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ffcc"/>
                </a:solidFill>
                <a:latin typeface="Tahoma"/>
              </a:rPr>
              <a:t>Почему трудовое</a:t>
            </a:r>
            <a:r>
              <a:rPr b="0" lang="en-US" sz="3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i="1" lang="en-US" sz="3400" spc="-1" strike="noStrike">
                <a:solidFill>
                  <a:srgbClr val="ffffcc"/>
                </a:solidFill>
                <a:latin typeface="Tahoma"/>
              </a:rPr>
              <a:t>воспитание так</a:t>
            </a:r>
            <a:r>
              <a:rPr b="0" lang="en-US" sz="3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i="1" lang="en-US" sz="3400" spc="-1" strike="noStrike">
                <a:solidFill>
                  <a:srgbClr val="ffffcc"/>
                </a:solidFill>
                <a:latin typeface="Tahoma"/>
              </a:rPr>
              <a:t>важно на</a:t>
            </a:r>
            <a:r>
              <a:rPr b="0" lang="en-US" sz="3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i="1" lang="en-US" sz="3400" spc="-1" strike="noStrike">
                <a:solidFill>
                  <a:srgbClr val="ffffcc"/>
                </a:solidFill>
                <a:latin typeface="Tahoma"/>
              </a:rPr>
              <a:t>подростковом</a:t>
            </a:r>
            <a:r>
              <a:rPr b="0" lang="en-US" sz="3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i="1" lang="en-US" sz="3400" spc="-1" strike="noStrike">
                <a:solidFill>
                  <a:srgbClr val="ffffcc"/>
                </a:solidFill>
                <a:latin typeface="Tahoma"/>
              </a:rPr>
              <a:t>уровне</a:t>
            </a:r>
            <a:r>
              <a:rPr b="0" lang="en-US" sz="3400" spc="-1" strike="noStrike">
                <a:solidFill>
                  <a:srgbClr val="ffffcc"/>
                </a:solidFill>
                <a:latin typeface="Tahoma"/>
              </a:rPr>
              <a:t>?</a:t>
            </a:r>
            <a:br>
              <a:rPr sz="3400"/>
            </a:b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отому что именно на этом этапе подросток впервые начинает активно социализироваться, то есть осознавать права и обязанности своей личности по отношению к другим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ffffcc"/>
                </a:solidFill>
                <a:latin typeface="Tahoma"/>
              </a:rPr>
              <a:t>Что должен уметь ребенок в 10-11лет?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тирать пыль, чистить обувь и одежду, пришивать пуговицы, пылесосить, расставлять книги, поливать цветы, выносить мусор, бегать в ближайший магазин, мыть посуду, наводить порядок, поддерживать порядок в своем шкафу, ухаживать за домашними животны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ffffcc"/>
                </a:solidFill>
                <a:latin typeface="Tahoma"/>
              </a:rPr>
              <a:t>Что должен уметь подросток в 12-13 лет</a:t>
            </a: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?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следовательно убирать комнаты, ходить в магазин со списком покупок, готовить себе завтрак, мыть за собой посуду, чистить овощи для приготовления пищи, поддерживать чистоту в санузле, загружать стиральную машину, гладить бель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ffffcc"/>
                </a:solidFill>
                <a:latin typeface="Tahoma"/>
              </a:rPr>
              <a:t>Что должен уметь подросток 14-15 лет</a:t>
            </a: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?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амостоятельно готовить пищу, самостоятельно определять меню и список продуктов для его приготовления, самостоятельно ставит перед собой трудовые задачи по обслуживанию квартиры, самостоятельно держать свой гардероб в порядке, ухаживать за младшими и престарелыми членами семьи, мыть и обслуживать машину (если таковая имеется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Профессиональная </a:t>
            </a:r>
            <a:r>
              <a:rPr b="0" i="1" lang="en-US" sz="3800" spc="-1" strike="noStrike">
                <a:solidFill>
                  <a:srgbClr val="ffffcc"/>
                </a:solidFill>
                <a:latin typeface="Tahoma"/>
              </a:rPr>
              <a:t>ориентация</a:t>
            </a: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Составной частью Т.В. является профессиональная ориентация – процесс оказания помощи учащимися в выборе профессии в соответствии со способностями, склонностями и рынком труд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ffffcc"/>
                </a:solidFill>
                <a:latin typeface="Tahoma"/>
              </a:rPr>
              <a:t>Как помочь школьнику выбрать профессию?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еобходимо помочь школьнику выбрать именно ту профессию, чтобы требования, которые она предъявляет к работающему, совпадали с его личностными качествами и возможностями. Неоценимая помощь человеку ответить на важнейшие вопросы: Кто я? Чего я хочу? Что я могу?. И помочь в этом разобраться должны мы с вами общими усилиями, и именно разобраться, подсказать, направить, а не ставить перед конкретным факто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2T09:35:39Z</dcterms:created>
  <dc:creator>дом</dc:creator>
  <dc:description/>
  <dc:language>en-US</dc:language>
  <cp:lastModifiedBy>школа</cp:lastModifiedBy>
  <dcterms:modified xsi:type="dcterms:W3CDTF">2012-03-14T04:24:4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