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EF51-DC92-4501-BB95-21F3B01A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C2F2-B144-404D-BCED-E5E24182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968C-0A75-4EAD-9DA7-C6547EBA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D208-2321-486C-9C79-2A4C9E1E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9F68-669B-4EFC-AD02-A3788AE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B9D7-8DE9-4F9F-9681-83FA1BC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FB8-D031-4BC2-9968-F4164A68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F22C-6820-4F87-BDAC-21DD4968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007B-3162-49B5-8472-6480FBE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C5E-4D9F-4EAE-830F-7AB7348A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6B89-5D00-4AAB-A5FB-AFC19EB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2C07-1E48-450F-8C5E-F60D59C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8228-3E0A-4362-9AB4-3AD60A8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4EAF-4EBA-48C4-AC1B-EFCFAE6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D24-5077-498C-A950-60CBBFF5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D438-B8A2-4FDB-8C9E-7585C225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D84-C868-4565-95BE-4555F09A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C673-64B1-4C26-92F9-36E4DA0E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B072-B77E-42C9-AD7B-4D7318D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C060-A658-42F2-9F5F-91B3D82D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3F2A-7EEC-4EF4-8DD5-17D7CCF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C80A-9340-4F1F-B560-D451AED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88FB-56CE-4D11-A064-5C322AC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9FBB-D9ED-4915-9DF0-8534C42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4704-D184-4902-A62B-7BA57BCDE8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A00A-2EBD-403B-93BE-AEED90032F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Трудовое воспитание и профориентация старшеклассни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Функции тру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яду с обучающей функцией, труд имеет и развивающую: обеспечивает интеллектуальное, физическое, эмоционально – волевое, социальное развитие. Воспитывающая функция труда состоит в том, что правильно организованный труд формирует трудолюбие, ответственность, дисциплинированность, инициати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Почему трудовое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воспитание так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важно на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подростковом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уровне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тому что именно на этом этапе подросток впервые начинает активно социализироваться, то есть осознавать права и обязанности своей личности по отношению к друг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Что должен уметь ребенок в 10-11ле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тирать пыль, чистить обувь и одежду, пришивать пуговицы, пылесосить, расставлять книги, поливать цветы, выносить мусор, бегать в ближайший магазин, мыть посуду, наводить порядок, поддерживать порядок в своем шкафу, ухаживать за домашними животн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Что должен уметь подросток в 12-13 лет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довательно убирать комнаты, ходить в магазин со списком покупок, готовить себе завтрак, мыть за собой посуду, чистить овощи для приготовления пищи, поддерживать чистоту в санузле, загружать стиральную машину, гладить бел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Что должен уметь подросток 14-15 лет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стоятельно готовить пищу, самостоятельно определять меню и список продуктов для его приготовления, самостоятельно ставит перед собой трудовые задачи по обслуживанию квартиры, самостоятельно держать свой гардероб в порядке, ухаживать за младшими и престарелыми членами семьи, мыть и обслуживать машину (если таковая имеетс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рофессиональная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ориентация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ной частью Т.В. является профессиональная ориентация – процесс оказания помощи учащимися в выборе профессии в соответствии со способностями, склонностями и рынком тру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Как помочь школьнику выбрать профессию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помочь школьнику выбрать именно ту профессию, чтобы требования, которые она предъявляет к работающему, совпадали с его личностными качествами и возможностями. Неоценимая помощь человеку ответить на важнейшие вопросы: Кто я? Чего я хочу? Что я могу?. И помочь в этом разобраться должны мы с вами общими усилиями, и именно разобраться, подсказать, направить, а не ставить перед конкретным фак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9:35:39Z</dcterms:created>
  <dc:creator>дом</dc:creator>
  <dc:description/>
  <dc:language>en-US</dc:language>
  <cp:lastModifiedBy>школа</cp:lastModifiedBy>
  <dcterms:modified xsi:type="dcterms:W3CDTF">2012-03-14T04:24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