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B16-FB24-4514-8BCB-ACDE587B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FFB-4FAF-4060-A483-19E13BF8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676-8064-49DF-B64B-C6582459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47F-0E64-4C84-BE45-04B69A88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1A1A-3D73-4905-9CE2-B5A79428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62D8-553B-4E93-B5E3-7021A299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92B7-4B14-4674-B0FC-C6682B0F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6080-0E31-40D7-90EB-3AB471B4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7862-3B0C-4651-9AEF-1E66D98F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E944-57D9-4AF1-A26B-40A095C6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BBAD-F306-4745-8134-7CDB101A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28E-ADAC-4ED7-AD99-EBD9B0A9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2228-C033-403D-8D2E-2AFC4035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3996-61F0-43EB-9A4F-69329EF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58C-F187-4ACF-A247-ED7B298D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AD1D-4F21-492F-B04C-AC1BC147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6314-FA16-4C98-953A-3ABDC4A3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DE63-F3EA-432E-9D52-D9AA4ACF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52EB-8A8A-4AD2-A6F3-3CE77F67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8492-F20C-4A1B-8651-AE65AFF1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3731-7F29-4C93-8E68-7D28C76D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0D79-AD45-4F1A-AEC0-FB8729C3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511-4C44-4C98-B4F9-DD4F45FD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8D55-AD85-4CEE-A8C1-93BF45F9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666F-321E-4FC1-A2EB-10AAED8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FF8F-D3EF-4987-904E-AB4F674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2EDF-DB53-42C3-BACA-46A45DA1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B0FE-A85B-4A71-A769-F944DB5E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7F0C-E103-45BC-ADF5-CB7F1066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FB0E-F55D-4116-856A-ECD9E76B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1F7F-E541-451B-A7DD-39221762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917B-7E1E-4624-A74E-DEE8A551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DCAE-CE20-411B-8E8C-1B5C34EA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31C-AAE9-4889-995D-1E033289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9022-C1FB-4CDA-9BA6-875AA965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927A9-6530-4EE4-AAC8-9C8FE262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F8B7-E6FD-4263-9D3A-18737F9A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0050-CD93-4351-BC48-C98F7F0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E5B6-74A9-49F8-A5DB-3F97186C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3223-D173-4F82-81A0-99399FF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64A6E-6162-4962-8CB9-8BC3DF3C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51E3-A8E1-403C-B4EE-87E073E9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3C18-B75D-4A26-9C38-51E1B746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C1A0F-B5BC-4BB5-BE97-BD297DAE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D0E-6303-4F94-B510-F61E3A39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02B7B-8FE2-4754-B5FB-A7A3B0EE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8B03E-E3C5-4C56-8138-0BE77A0C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11B9-0DB1-4C1D-BDC3-5CB443E4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6EE08-BB4B-477D-A607-FA9EEC4F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27A71-0D78-4065-8419-0D029641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6507F-D43B-45EB-B48F-7C21523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32C00-3415-42B5-88C9-C8891F8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DE4D7-58CE-4E59-BFE8-F6BE0120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AD0A4-1AC2-42C3-B9FA-97A0BC35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BC918-6DF9-4102-AF79-9C2EE43F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783-E13F-4A7B-ACB7-2528C627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F2001-F556-431E-95AD-FD87C86B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47E7E-4C70-447A-9BB4-11F0F6C3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67001-83F7-4126-847D-A845AD93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B6842-6066-4824-AB4B-E0CB3622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7868-5C40-4C33-884E-DE5ED12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B333-20A6-49E3-A61B-2C73E68D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1B77-AB2F-49A8-A5E9-DBA511D1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A14B7-D00E-4716-A889-7D2EAD2B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892AC-909F-42C0-849E-F0F2464D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9D32-6345-4E8C-9BAF-9D0FCF66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B65-0736-4917-B05B-FFDC4C5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42591-2078-4A59-840B-6710BD4B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A4C7A-0A94-4940-BD88-D350B884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EEB1-01F6-41E3-A0A8-0D763469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6132E-9D2F-44A7-91B1-3E855E45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5BCAF-996F-4778-9407-A2CAD09E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DC236-C1BD-4910-95BA-997BC174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48E9-3FE0-4CAD-AAC5-324DD0E6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C684D-3903-41A6-9D66-4CCCDFE6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BBE81-8EAC-4178-A258-9F304D6C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6C1C7-651B-44C6-A4B4-79D1125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822-A7FA-4E9C-A27A-614C123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D3256-C747-49EF-8A72-9167C56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E4BA6-7EED-4DDD-A6CC-581D0974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84C8A-ED74-4D06-8239-7561D56B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D4CF9-3C6F-43BA-8AAB-F0DFE87F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FAF5-3C0A-4835-8A11-079C59FD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F2169-DC83-4375-930B-929EDCFF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5ACB1-4FCB-460B-BC67-82ECF4B9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2EB79-CABB-4E1A-B89C-DDC9DD46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5D1D2-B091-4597-A97E-C1A7E390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70471-27C2-42AA-AAFF-39A7BC6C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274-B719-4B89-B184-EB98BB72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0988B-CBD1-4198-B1CA-B263EEBF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4D071-7D43-473A-977F-9EA6569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F25CF-F30B-491A-ADE4-B38BC89D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AE2BD-A072-4285-8D76-C5DB9FE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F0E23-6DAE-42D6-BF59-F69C7607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065FA-F437-400B-9D1E-DD4A06B8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2A6B1-826B-4E68-8246-4C2D7DE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73B2-1342-4C27-A5F1-D71A2B53E7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2619-CAB2-4767-A07C-8875342C166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F94-3B90-4ACD-AD89-ADAA63507F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9505-B2CE-409A-B4DC-B9A0EA3E39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4D2A-DC9E-461D-AC7F-5CE5F054F9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02C3-00D4-42FF-BAEE-FC74822F3F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B617-2293-441B-91CD-5C914A8AB33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4E53-2E9D-4CC0-AA05-23C425DFCF2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2103480"/>
            <a:ext cx="8071200" cy="2151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1. Изучить бюджет моей семьи.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2. Какие доходы получает семья?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3. Какие расходы в нашей семье?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4. Выяснить, соответствует ли доход расходу?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0" name="Содержимое 3" descr="ю..jpg"/>
          <p:cNvPicPr/>
          <p:nvPr/>
        </p:nvPicPr>
        <p:blipFill>
          <a:blip r:embed="rId2"/>
          <a:stretch/>
        </p:blipFill>
        <p:spPr>
          <a:xfrm>
            <a:off x="900000" y="1341360"/>
            <a:ext cx="3311640" cy="5112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</p:pic>
      <p:sp>
        <p:nvSpPr>
          <p:cNvPr id="351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Лагунец Александр Владимиро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Лагунец Татьяна Дмитриевн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258920" y="5157360"/>
            <a:ext cx="74167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Я учусь в 4 классе, Мой вид дохода – детское пособи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Содержимое 6" descr="катя.jpg"/>
          <p:cNvPicPr/>
          <p:nvPr/>
        </p:nvPicPr>
        <p:blipFill>
          <a:blip r:embed="rId2"/>
          <a:srcRect l="13252" t="22338" r="33773" b="0"/>
          <a:stretch/>
        </p:blipFill>
        <p:spPr>
          <a:xfrm>
            <a:off x="2411280" y="1341360"/>
            <a:ext cx="4105440" cy="3384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2" descr="корова.jpg"/>
          <p:cNvPicPr/>
          <p:nvPr/>
        </p:nvPicPr>
        <p:blipFill>
          <a:blip r:embed="rId1"/>
          <a:stretch/>
        </p:blipFill>
        <p:spPr>
          <a:xfrm>
            <a:off x="250920" y="476280"/>
            <a:ext cx="3600360" cy="27464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3" descr="свинья.jpg"/>
          <p:cNvPicPr/>
          <p:nvPr/>
        </p:nvPicPr>
        <p:blipFill>
          <a:blip r:embed="rId2"/>
          <a:stretch/>
        </p:blipFill>
        <p:spPr>
          <a:xfrm>
            <a:off x="4427640" y="3573360"/>
            <a:ext cx="4114800" cy="28083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овца.jpg"/>
          <p:cNvPicPr/>
          <p:nvPr/>
        </p:nvPicPr>
        <p:blipFill>
          <a:blip r:embed="rId3"/>
          <a:srcRect l="19597" t="0" r="20959" b="7253"/>
          <a:stretch/>
        </p:blipFill>
        <p:spPr>
          <a:xfrm>
            <a:off x="324000" y="3429000"/>
            <a:ext cx="3671640" cy="312588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5" descr=""/>
          <p:cNvPicPr/>
          <p:nvPr/>
        </p:nvPicPr>
        <p:blipFill>
          <a:blip r:embed="rId4"/>
          <a:stretch/>
        </p:blipFill>
        <p:spPr>
          <a:xfrm>
            <a:off x="3986280" y="798480"/>
            <a:ext cx="5102280" cy="1438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2" descr="индюк.jpg"/>
          <p:cNvPicPr/>
          <p:nvPr/>
        </p:nvPicPr>
        <p:blipFill>
          <a:blip r:embed="rId2"/>
          <a:srcRect l="0" t="0" r="0" b="10600"/>
          <a:stretch/>
        </p:blipFill>
        <p:spPr>
          <a:xfrm>
            <a:off x="1835280" y="1341360"/>
            <a:ext cx="5429160" cy="331164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3" descr=""/>
          <p:cNvPicPr/>
          <p:nvPr/>
        </p:nvPicPr>
        <p:blipFill>
          <a:blip r:embed="rId3"/>
          <a:stretch/>
        </p:blipFill>
        <p:spPr>
          <a:xfrm>
            <a:off x="1292400" y="4675320"/>
            <a:ext cx="7149960" cy="1993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536400" y="-396720"/>
            <a:ext cx="8242560" cy="1585800"/>
          </a:xfrm>
          <a:prstGeom prst="rect">
            <a:avLst/>
          </a:prstGeom>
          <a:ln w="0">
            <a:noFill/>
          </a:ln>
        </p:spPr>
      </p:pic>
      <p:pic>
        <p:nvPicPr>
          <p:cNvPr id="363" name="Диаграмма 2" descr=""/>
          <p:cNvPicPr/>
          <p:nvPr/>
        </p:nvPicPr>
        <p:blipFill>
          <a:blip r:embed="rId2"/>
          <a:stretch/>
        </p:blipFill>
        <p:spPr>
          <a:xfrm>
            <a:off x="1352520" y="1793880"/>
            <a:ext cx="6197760" cy="416556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3" descr=""/>
          <p:cNvPicPr/>
          <p:nvPr/>
        </p:nvPicPr>
        <p:blipFill>
          <a:blip r:embed="rId3"/>
          <a:stretch/>
        </p:blipFill>
        <p:spPr>
          <a:xfrm>
            <a:off x="3127320" y="5900760"/>
            <a:ext cx="7053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6" name="Диаграмма 2" descr=""/>
          <p:cNvPicPr/>
          <p:nvPr/>
        </p:nvPicPr>
        <p:blipFill>
          <a:blip r:embed="rId2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3" descr=""/>
          <p:cNvPicPr/>
          <p:nvPr/>
        </p:nvPicPr>
        <p:blipFill>
          <a:blip r:embed="rId3"/>
          <a:stretch/>
        </p:blipFill>
        <p:spPr>
          <a:xfrm>
            <a:off x="4492800" y="5803920"/>
            <a:ext cx="398124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Наш семейный бюджет не является убыточным, так как доходы равны расходам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3:57:43Z</dcterms:created>
  <dc:creator>User</dc:creator>
  <dc:description/>
  <dc:language>en-US</dc:language>
  <cp:lastModifiedBy>User</cp:lastModifiedBy>
  <dcterms:modified xsi:type="dcterms:W3CDTF">2013-02-24T08:36:52Z</dcterms:modified>
  <cp:revision>10</cp:revision>
  <dc:subject/>
  <dc:title> СЕМЕЙНЫЙ БЮДЖЕТ</dc:title>
</cp:coreProperties>
</file>