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5AF-CC0C-4354-8AC9-23EAC108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03A-57B1-4CC4-9C60-4FCB7BB0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7EE-C252-475D-B1D0-A8C4D3CB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A17-5C52-4441-B9EC-DED8F213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80A2-801E-421D-A7C9-4A125A5D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319D-C7D0-4E12-A1BC-C4C03D9C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1F0C-38DF-4DA0-9808-02AE5E64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C234-C94C-48BB-BC31-2E550EC4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A196-92D4-4830-BF6F-8F7AE47A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19E3-F5E7-498C-862E-09DEA559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CE76-C42F-4A8B-8BA0-94B0A911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CA1-974B-43FF-BADE-DA229807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5A8F-2612-42D8-88B7-AE522DF0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6B02-F419-4F7F-9EC2-445905D4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ACB3-C731-4FC2-B690-4D887DB1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DFBD-0D24-44C6-90F7-754B9C68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E571-854F-4FCA-BCCD-F2468602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6F04-0F7C-4A29-8C4B-CBC4A21E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6E66-5C8F-4F8A-96B7-2CF38510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CA76-1C03-4D82-B809-7667A3A0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E8B42-53B8-4FA5-8887-6E0230F1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C336-31D0-4C3D-AE7A-352A7B91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112-0A86-4DE9-8153-70BD68CA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3A28-E941-453B-8924-85A5D9D8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EE8F-255D-4518-8862-964E9EE9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A4FB-B555-4C20-BD13-57B8C89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A854-B3AD-472A-BE2C-2B58E384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4B56-D65F-4D4D-AE93-A59B9FA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4A2D-5BD7-4958-8A18-2FD9B782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4F52-05B0-43B3-A4B5-29FA7471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C100-3F79-4F33-B82F-860FE116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6F015-7850-4BAB-9BBB-60654F22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77FC-5B55-44BA-AD72-42C8962E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2A6-38DF-4193-B557-09DE186D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8A916-98B1-4619-BC9E-AE7C90FC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F130-D30F-495B-B900-248AF9D7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0A2E-9A64-49E0-87A4-22A2E85F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5FA3A-17CC-4881-998F-36979A51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3BF5-9D3C-4F25-ABB0-7438A38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497C8-F525-4E63-B867-71711FF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D87D-2609-42E6-ADFC-AE5E2119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2093-7428-4521-BCD3-2F11DCA2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3C4A-69F2-4B27-8401-1B62DBA7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9607-5B11-42AE-9C03-F63E0486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AD2-5E79-4B8B-8D37-40374A0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885CA-6468-4FF5-A224-B92E029D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D8F5C-0C74-4C2B-967C-68E6BFB2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4F17-4416-4F26-B500-6B158F6D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CA90-477F-44E6-A592-6D439041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94F69-12D9-482F-874D-DA97E90D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1BA5B-59EA-4C6C-87C4-E2D4E96E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3E07-0FEC-42B6-B98C-66624C20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B1AE-30FD-46B4-9D4F-146CAFA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8CF6-5AF3-48AA-8F4F-FFB6510C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E6B58-3C6C-49FC-9AC6-276E39E7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E9D-8BF5-4258-B921-C2DB16CD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95B24-4F91-4E43-9C8E-BBF9695F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56C7A-017D-46D4-B5EF-99F9B5EB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40C7-F8D7-4BC6-A530-E1B286A1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2F5F-7734-4F4F-81C1-56E670C6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9287-EA27-4010-AC72-5DEE1E7A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63B9D-9371-4D85-97EB-23BC5A96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EAC9D-89EC-4684-A023-21A924AF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D242C-0326-4761-9FFD-B43E9902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5469-7E48-4F60-A196-FA3A9D7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855A4-77CB-4579-9CDC-C5BEFC02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8B3-9765-4B31-A3AC-BA8F3DBA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60C5-8EB3-45E0-A7F8-B5D40282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5ED6E-9439-471E-A2BC-D160924F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19F6A-80E4-4DBF-8145-6851C6C4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5F9C-097C-4C54-81D7-7AF1E02D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38A6-B192-4932-A3D5-D69AEA43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AAB39-5AB4-4873-BFF6-E040CE48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55731-3D7A-4B9A-8C40-34B5831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B72DF-EB65-44D8-8231-75EE2C34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3DAD1-7A58-4885-9A84-38599F7F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1AC1E-E7C4-4D26-8C14-2D094D3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D5A-430A-4542-A1A6-DEDBA8EC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C3183-12E6-410B-9F6F-85CECF4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35A4E-8AD5-411C-9815-77FD0F0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E3CDF-A037-41F4-A321-AF89B60F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51406-B6E8-495A-8209-BF9A0F5A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E4F34-AEF3-45E4-ABD1-889B6ADB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0D915-CAC6-496D-B574-11F0E87B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ABBFE-11BE-4E8E-84C2-1ABAB67F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50A2B-9296-48A8-99D3-B5F74F30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7DC90-3370-4A34-BA1F-D7571CD6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4BEF3-4F0D-406D-9604-DA979F7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7B2-9812-44F6-9A02-7334DFB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AF4CF-BBFA-4FC4-8758-5F24347D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66A73-9C3C-48AF-83F0-79F99B30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49454-7534-4BE8-9F54-88BC2648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7DCCF-AE98-4143-A3B3-6D1A76F3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359B-EBB0-4A5D-95C9-D1A0AD61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ED3A2-DD31-4EC5-8AA4-0531BEA4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41C25-A962-4881-805A-2631A059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A4CC-AE6B-4C08-B1E1-9D22AB2FD1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CDB8-B56E-4274-931A-7C45B39EE95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E5F6-9FB4-4AF1-A8A2-2549CD6643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4DD3-3EE2-4776-A767-F73282D2AB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191A-D19F-4BBB-B633-77F8AF26E6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B57C-78DD-4FCE-86F0-44AB930587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CA7F-321A-48CF-AED4-5FA3541FE1D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1B1D-BA8A-4DFB-A3CE-843C6B538A0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2103480"/>
            <a:ext cx="8071200" cy="2151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1. Изучить бюджет моей семьи.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2. Какие доходы получает семья?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3. Какие расходы в нашей семье?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4. Выяснить, соответствует ли доход расходу?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0" name="Содержимое 3" descr="ю..jpg"/>
          <p:cNvPicPr/>
          <p:nvPr/>
        </p:nvPicPr>
        <p:blipFill>
          <a:blip r:embed="rId2"/>
          <a:stretch/>
        </p:blipFill>
        <p:spPr>
          <a:xfrm>
            <a:off x="900000" y="1341360"/>
            <a:ext cx="3311640" cy="5112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</p:pic>
      <p:sp>
        <p:nvSpPr>
          <p:cNvPr id="351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Лагунец Александр Владимиро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Лагунец Татьяна Дмитриевн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258920" y="5157360"/>
            <a:ext cx="74167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Я учусь в 4 классе, Мой вид дохода – детское пособи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Содержимое 6" descr="катя.jpg"/>
          <p:cNvPicPr/>
          <p:nvPr/>
        </p:nvPicPr>
        <p:blipFill>
          <a:blip r:embed="rId2"/>
          <a:srcRect l="13252" t="22338" r="33773" b="0"/>
          <a:stretch/>
        </p:blipFill>
        <p:spPr>
          <a:xfrm>
            <a:off x="2411280" y="1341360"/>
            <a:ext cx="4105440" cy="3384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2" descr="корова.jpg"/>
          <p:cNvPicPr/>
          <p:nvPr/>
        </p:nvPicPr>
        <p:blipFill>
          <a:blip r:embed="rId1"/>
          <a:stretch/>
        </p:blipFill>
        <p:spPr>
          <a:xfrm>
            <a:off x="250920" y="476280"/>
            <a:ext cx="3600360" cy="27464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3" descr="свинья.jpg"/>
          <p:cNvPicPr/>
          <p:nvPr/>
        </p:nvPicPr>
        <p:blipFill>
          <a:blip r:embed="rId2"/>
          <a:stretch/>
        </p:blipFill>
        <p:spPr>
          <a:xfrm>
            <a:off x="4427640" y="3573360"/>
            <a:ext cx="4114800" cy="28083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овца.jpg"/>
          <p:cNvPicPr/>
          <p:nvPr/>
        </p:nvPicPr>
        <p:blipFill>
          <a:blip r:embed="rId3"/>
          <a:srcRect l="19597" t="0" r="20959" b="7253"/>
          <a:stretch/>
        </p:blipFill>
        <p:spPr>
          <a:xfrm>
            <a:off x="324000" y="3429000"/>
            <a:ext cx="3671640" cy="312588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5" descr=""/>
          <p:cNvPicPr/>
          <p:nvPr/>
        </p:nvPicPr>
        <p:blipFill>
          <a:blip r:embed="rId4"/>
          <a:stretch/>
        </p:blipFill>
        <p:spPr>
          <a:xfrm>
            <a:off x="3986280" y="798480"/>
            <a:ext cx="5102280" cy="1438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2" descr="индюк.jpg"/>
          <p:cNvPicPr/>
          <p:nvPr/>
        </p:nvPicPr>
        <p:blipFill>
          <a:blip r:embed="rId2"/>
          <a:srcRect l="0" t="0" r="0" b="10600"/>
          <a:stretch/>
        </p:blipFill>
        <p:spPr>
          <a:xfrm>
            <a:off x="1835280" y="1341360"/>
            <a:ext cx="5429160" cy="331164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3" descr=""/>
          <p:cNvPicPr/>
          <p:nvPr/>
        </p:nvPicPr>
        <p:blipFill>
          <a:blip r:embed="rId3"/>
          <a:stretch/>
        </p:blipFill>
        <p:spPr>
          <a:xfrm>
            <a:off x="1292400" y="4675320"/>
            <a:ext cx="7149960" cy="1993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536400" y="-396720"/>
            <a:ext cx="8242560" cy="1585800"/>
          </a:xfrm>
          <a:prstGeom prst="rect">
            <a:avLst/>
          </a:prstGeom>
          <a:ln w="0">
            <a:noFill/>
          </a:ln>
        </p:spPr>
      </p:pic>
      <p:pic>
        <p:nvPicPr>
          <p:cNvPr id="363" name="Диаграмма 2" descr=""/>
          <p:cNvPicPr/>
          <p:nvPr/>
        </p:nvPicPr>
        <p:blipFill>
          <a:blip r:embed="rId2"/>
          <a:stretch/>
        </p:blipFill>
        <p:spPr>
          <a:xfrm>
            <a:off x="1352520" y="1793880"/>
            <a:ext cx="6197760" cy="416556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3" descr=""/>
          <p:cNvPicPr/>
          <p:nvPr/>
        </p:nvPicPr>
        <p:blipFill>
          <a:blip r:embed="rId3"/>
          <a:stretch/>
        </p:blipFill>
        <p:spPr>
          <a:xfrm>
            <a:off x="3127320" y="5900760"/>
            <a:ext cx="7053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6" name="Диаграмма 2" descr=""/>
          <p:cNvPicPr/>
          <p:nvPr/>
        </p:nvPicPr>
        <p:blipFill>
          <a:blip r:embed="rId2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3" descr=""/>
          <p:cNvPicPr/>
          <p:nvPr/>
        </p:nvPicPr>
        <p:blipFill>
          <a:blip r:embed="rId3"/>
          <a:stretch/>
        </p:blipFill>
        <p:spPr>
          <a:xfrm>
            <a:off x="4492800" y="5803920"/>
            <a:ext cx="398124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Наш семейный бюджет не является убыточным, так как доходы равны расходам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3:57:43Z</dcterms:created>
  <dc:creator>User</dc:creator>
  <dc:description/>
  <dc:language>en-US</dc:language>
  <cp:lastModifiedBy>User</cp:lastModifiedBy>
  <dcterms:modified xsi:type="dcterms:W3CDTF">2013-02-24T08:36:52Z</dcterms:modified>
  <cp:revision>10</cp:revision>
  <dc:subject/>
  <dc:title> СЕМЕЙНЫЙ БЮДЖЕТ</dc:title>
</cp:coreProperties>
</file>