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7F0A-2625-4107-A391-7DA97DD6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C40-0A3E-4F48-B974-0E4AF5FC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BD37-40F7-4584-9EDC-E01CA071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7B5-17B5-49DE-9D43-CA7E722F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750-FAB2-4827-A786-B8266AB1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C1B-B18F-462B-A92A-CDEB508A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481-5D73-456C-9539-AD457091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23A-2AA0-4CB0-9F3D-BB3F9F95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61B-D866-42D4-B95C-65A46126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9C3-68BB-406B-AFE0-CCFE0CA1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5C36-9C36-4A93-8DDD-6127470D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E40B-DC52-4DB1-B853-49DF5534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5D4A-74B6-40F0-B2BB-B0E25280B4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                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дание 2</a:t>
            </a:r>
            <a:br>
              <a:rPr sz="20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10" descr="RomeConstantine'sArch03"/>
          <p:cNvPicPr/>
          <p:nvPr/>
        </p:nvPicPr>
        <p:blipFill>
          <a:blip r:embed="rId1"/>
          <a:stretch/>
        </p:blipFill>
        <p:spPr>
          <a:xfrm>
            <a:off x="762120" y="914400"/>
            <a:ext cx="769608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Задание 3.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400"/>
            </a:b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Рассмотрите картину Б.М. Неменского (1993 г.), опишите и проанализируйте её  и оформите свои рассуждения в виде литературного текста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609480" y="1809720"/>
            <a:ext cx="579132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мила</dc:creator>
  <dc:description/>
  <dc:language>en-US</dc:language>
  <cp:lastModifiedBy>Камила</cp:lastModifiedBy>
  <dcterms:modified xsi:type="dcterms:W3CDTF">2012-10-26T06:24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