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5BA-DB60-47A2-A20F-61D5C1AD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8B7-0CAA-4032-AD42-8D17C9E9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2AF-7D0C-442D-85DA-14A5FCE7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881-37F8-4A1C-9ED5-C8D5E71D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F83-4592-4571-9172-F51DC49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DDC-6188-4BE7-9304-DBA26A2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F8A-8C91-49E8-A0CE-9B90A4A7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4CB-DE2A-49FD-AAE6-4F0F107A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EB1-FC1A-4693-A820-02EAC9C9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984-DF87-414C-BC0E-884ABE4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22C-B1E9-4FEA-9377-197046C0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E1A-EFEB-430B-8CAD-59BF44D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2AA-56CD-4F24-98E5-CC513D1D6A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2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10" descr="RomeConstantine'sArch03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3.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ссмотрите картину Б.М. Неменского (1993 г.), опишите и проанализируйте её  и оформите свои рассуждения в виде литературного текст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09480" y="1809720"/>
            <a:ext cx="57913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мила</dc:creator>
  <dc:description/>
  <dc:language>en-US</dc:language>
  <cp:lastModifiedBy>Камила</cp:lastModifiedBy>
  <dcterms:modified xsi:type="dcterms:W3CDTF">2012-10-26T06:24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