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0DD-A674-45D1-9888-F05A268A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77B-E449-4D06-B2B1-1EC099D2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966-0A1E-415E-B8A0-EB6D200E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659-7861-45F2-BA8C-4B54E7F6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8EC-A95D-4D61-8790-5819555A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FCC-6F39-47DB-BF10-B5C4C49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650-4121-4B1C-ACE6-866C312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107-4333-48F7-B64F-C7C5F15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E1D-6F69-49BC-ADDE-AA84959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873-F8DB-49C3-8B71-A759D8C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687-BFA8-439A-BC69-3B39541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C5A-E078-4188-BA3D-AD3BD27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B2C-7144-4D4A-9C1A-F7C5C47688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38052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2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) Напиши не менее 15 определений и словосочетаний, которые понадобятся для описания данного произведения искусства.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2) Распределите свои определения по группам. Объясните принцип группировки.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3) Если узнали произведение, напишите его название,  время создания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9" descr="1101"/>
          <p:cNvPicPr/>
          <p:nvPr/>
        </p:nvPicPr>
        <p:blipFill>
          <a:blip r:embed="rId1"/>
          <a:stretch/>
        </p:blipFill>
        <p:spPr>
          <a:xfrm>
            <a:off x="152280" y="609480"/>
            <a:ext cx="438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3.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ссмотрите картину Б.М. Неменского (1945 г.), опишите и проанализируйте её  и оформите свои рассуждения в виде литературного текст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533520" y="1706400"/>
            <a:ext cx="5562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мила</dc:creator>
  <dc:description/>
  <dc:language>en-US</dc:language>
  <cp:lastModifiedBy>Камила</cp:lastModifiedBy>
  <dcterms:modified xsi:type="dcterms:W3CDTF">2012-10-26T06:24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