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F41B-9DE6-4D2E-BE42-2CBDF28A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6545-645F-4A74-81A1-C1F6DCD5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C386-3C01-416E-A0BC-CFCA6F28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9C8-6CCA-4888-A04B-F4D4E6C0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D737-5874-4143-B486-35814839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7D06-A279-47B7-BEF2-3A8173FF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AF7-022C-460F-BA4C-C40F4CB4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8A3-3918-4D3B-975D-8542BB8F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35D7-82DF-453C-B082-F4B0EDAA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8CE-E7F0-4E2A-BE1B-E763E068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EB5-41A0-4EEA-AE1B-FAE1F904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F18-F8A1-4A33-B48B-021F99B5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C0FE-6C93-4240-BC9F-E12C3AE3E6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47960" y="380520"/>
            <a:ext cx="426708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                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адание 2</a:t>
            </a: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) Напиши не менее 15 определений и словосочетаний, которые понадобятся для описания данного произведения искусства. </a:t>
            </a:r>
            <a:br>
              <a:rPr sz="2000"/>
            </a:b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2) Распределите свои определения по группам. Объясните принцип группировки.</a:t>
            </a:r>
            <a:br>
              <a:rPr sz="2000"/>
            </a:b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3) Если узнали произведение, напишите его название,  время создания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9" descr="1101"/>
          <p:cNvPicPr/>
          <p:nvPr/>
        </p:nvPicPr>
        <p:blipFill>
          <a:blip r:embed="rId1"/>
          <a:stretch/>
        </p:blipFill>
        <p:spPr>
          <a:xfrm>
            <a:off x="152280" y="609480"/>
            <a:ext cx="4381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адание 3.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400"/>
            </a:b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ссмотрите картину Б.М. Неменского (1945 г.), опишите и проанализируйте её  и оформите свои рассуждения в виде литературного текста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533520" y="1706400"/>
            <a:ext cx="5562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мила</dc:creator>
  <dc:description/>
  <dc:language>en-US</dc:language>
  <cp:lastModifiedBy>Камила</cp:lastModifiedBy>
  <dcterms:modified xsi:type="dcterms:W3CDTF">2012-10-26T06:24:0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