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033-0230-43F0-BC4F-C6E2E781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03D-ED6F-4121-9BEA-D71E7B8A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379-3824-4175-99E0-9C94ACA8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3820-F693-4A13-AFFD-FF251247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F0E-0DBF-4292-9F55-CC4E4C2A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802-FD48-4CB5-B9A8-79B28A78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785-E3FC-485E-977B-3727BA0C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728-36AC-4786-AF7C-BB3735C5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701A-7A7B-43CC-8A1C-D8C2D205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F58-6CE5-4766-8900-755E96D2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A9E-544A-4486-A617-720A7688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2FB-8B1F-4534-851A-89B3EC29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8767-B7AB-4051-9888-5993028C3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755640" y="620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Основы светской э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390600" y="1279440"/>
            <a:ext cx="7789680" cy="19814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2335320" y="3084480"/>
            <a:ext cx="4400280" cy="11527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611280" y="5013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Составитель: Пичугина Л.Н.,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БОУ «Караваннен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24000" y="620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овесть обычно мучает не тех, кто виноват. (Эрих Мария Ремар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"/>
          <p:cNvSpPr/>
          <p:nvPr/>
        </p:nvSpPr>
        <p:spPr>
          <a:xfrm>
            <a:off x="395280" y="2205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Человек должен быть властелином своей воли и рабом своей совести. (Мария фон Эбнер-Эшенб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39640" y="3860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Не совесть мучает человека, а человек совесть. (Неизвестный автор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468360" y="530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ятна на совести не выводятся. (Сергей Фед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097080" cy="43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3097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18900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ступать вопреки своим убежд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179280" y="1052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Жить честно, справедли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179280" y="191628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елать что-либо хорошо, добросове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0" y="285264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Жить спокойно, не испытывая угрызения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179280" y="3789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ступать без стыда, без стес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250920" y="4724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Когда человек не выполнил того, что был обязан сделать, схитрил, обманул ко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7"/>
          <p:cNvSpPr/>
          <p:nvPr/>
        </p:nvSpPr>
        <p:spPr>
          <a:xfrm>
            <a:off x="5364000" y="128736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оступать против с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4859280" y="371628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Жить по с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4572000" y="26028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оступать без зазрения сов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4788000" y="29973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Поступок на его со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5148360" y="486900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Жить со спокойной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сове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2"/>
          <p:cNvSpPr/>
          <p:nvPr/>
        </p:nvSpPr>
        <p:spPr>
          <a:xfrm>
            <a:off x="4859280" y="242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Делать на сов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324000" y="11714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Случалось ли вам испытывать угрызения сове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Было ли стыдно за свои поступ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109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Всегда ли вы поступали по сове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684360" y="236880"/>
            <a:ext cx="784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к дал мне для жиз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2286000" y="907920"/>
            <a:ext cx="4572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овесть.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Словно ненаписанная повесть.                                                                                    Всех поступков, помыслов сердец,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Нас порою обличает совесть.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Это кара или дар Небес? 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Для кого-то этот голос громок: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Слышит он души упрек немой,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Совершив проступок или промах -</a:t>
            </a:r>
            <a:br>
              <a:rPr sz="2400"/>
            </a:br>
            <a:r>
              <a:rPr b="1" i="1" lang="ru-RU" sz="2400" spc="-1" strike="noStrike">
                <a:solidFill>
                  <a:srgbClr val="08684e"/>
                </a:solidFill>
                <a:latin typeface="Calibri"/>
              </a:rPr>
              <a:t>Сразу же теряет свой покой. </a:t>
            </a:r>
            <a:br>
              <a:rPr sz="24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47640" y="45000"/>
            <a:ext cx="597708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684e"/>
                </a:solidFill>
                <a:latin typeface="Calibri"/>
              </a:rPr>
              <a:t>А другой - уже тот глас не слышит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Calibri"/>
              </a:rPr>
              <a:t>(Он любое зло себе прощал):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Calibri"/>
              </a:rPr>
              <a:t>Что бы ни случилось, ровно дышит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Calibri"/>
              </a:rPr>
              <a:t>Человек, что совесть потерял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Знаем, что она - бывает чистой;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А еще способна укорять;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И в делах раскаяться и в мыслях</a:t>
            </a:r>
            <a:br>
              <a:rPr sz="2800"/>
            </a:b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(даже тайных) может заставл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                                                    </a:t>
            </a:r>
            <a:r>
              <a:rPr b="1" i="1" lang="ru-RU" sz="2800" spc="-1" strike="noStrike">
                <a:solidFill>
                  <a:srgbClr val="08684e"/>
                </a:solidFill>
                <a:latin typeface="Times New Roman"/>
                <a:ea typeface="Calibri"/>
              </a:rPr>
              <a:t>Яна Кузовлева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0_5de5a_bb0390f9_XL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590400" y="3633840"/>
            <a:ext cx="2328840" cy="204156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4" descr=""/>
          <p:cNvPicPr/>
          <p:nvPr/>
        </p:nvPicPr>
        <p:blipFill>
          <a:blip r:embed="rId2"/>
          <a:stretch/>
        </p:blipFill>
        <p:spPr>
          <a:xfrm>
            <a:off x="3602160" y="469800"/>
            <a:ext cx="2506680" cy="204156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5" descr=""/>
          <p:cNvPicPr/>
          <p:nvPr/>
        </p:nvPicPr>
        <p:blipFill>
          <a:blip r:embed="rId3"/>
          <a:stretch/>
        </p:blipFill>
        <p:spPr>
          <a:xfrm>
            <a:off x="6083280" y="3706920"/>
            <a:ext cx="2365560" cy="2041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4"/>
          <a:stretch/>
        </p:blipFill>
        <p:spPr>
          <a:xfrm>
            <a:off x="585720" y="324000"/>
            <a:ext cx="2279880" cy="20412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7" descr=""/>
          <p:cNvPicPr/>
          <p:nvPr/>
        </p:nvPicPr>
        <p:blipFill>
          <a:blip r:embed="rId5"/>
          <a:stretch/>
        </p:blipFill>
        <p:spPr>
          <a:xfrm>
            <a:off x="4194000" y="2914560"/>
            <a:ext cx="2329200" cy="20415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6"/>
          <a:stretch/>
        </p:blipFill>
        <p:spPr>
          <a:xfrm>
            <a:off x="2346480" y="2054160"/>
            <a:ext cx="2286000" cy="20415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9" descr=""/>
          <p:cNvPicPr/>
          <p:nvPr/>
        </p:nvPicPr>
        <p:blipFill>
          <a:blip r:embed="rId7"/>
          <a:stretch/>
        </p:blipFill>
        <p:spPr>
          <a:xfrm>
            <a:off x="5907240" y="901800"/>
            <a:ext cx="23587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24000" y="189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libri"/>
              </a:rPr>
              <a:t>Урок №23. СОВЕС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1197000"/>
            <a:ext cx="864072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познакомить учащихся с понятием «совесть»;воспитывать чувство чуткости, совестливости, ответственности к своим поступкам, толерантного отношения к другим мн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на основании формирования этического понятия совести стимулировать самооценку у учащихся и их самоконтроля в повседневном повед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формировать у учащихся культуру общения (коммуникативные ум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вать умение высказывать свое мнение, отстаивать его, а также умение признавать свои ошибки, анализировать их и делать вы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вать учебное умение работы с информацией в процессе чтения: ориентироваться в источниках информации, адекватно понимать прочитанное, сортировать информацию с точки зрения её важности, делать выводы и об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развивать кругозор учащихся, обогащать словарный зап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676440" y="36360"/>
            <a:ext cx="8223120" cy="174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rcRect l="15506" t="4359" r="1398" b="5795"/>
          <a:stretch/>
        </p:blipFill>
        <p:spPr>
          <a:xfrm>
            <a:off x="2050920" y="1773360"/>
            <a:ext cx="50421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Прямоугольник 2" descr=""/>
          <p:cNvPicPr/>
          <p:nvPr/>
        </p:nvPicPr>
        <p:blipFill>
          <a:blip r:embed="rId1"/>
          <a:stretch/>
        </p:blipFill>
        <p:spPr>
          <a:xfrm>
            <a:off x="749160" y="433440"/>
            <a:ext cx="779148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rcRect l="17565" t="19606" r="11917" b="21566"/>
          <a:stretch/>
        </p:blipFill>
        <p:spPr>
          <a:xfrm>
            <a:off x="900000" y="177336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2556000" y="141480"/>
            <a:ext cx="619272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Calibri"/>
              </a:rPr>
              <a:t>Притча «Сове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 сказала совесть человеку, что он не прав, другой, третий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 четвертый он решил избавиться от нее. Да не на день или два – навсегд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Думал-думал, как это сделать, и надумал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Давай, - говорит, - совесть, в прятки игр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Нет, - говорит та. – Ты меня все равно обманешь – подглядывать будеш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творился тогда человек совсем больным и говори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Занедужил я что-то… Принеси-ка мне из погреба молочк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смогла отказать ему в этом совесть. Спустилась в погреб. А мужик прыг из кровати – и закрыл е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звал он на радостях друзей и с легким сердцем: одного обманул, другого обидел, а когда они стали обижаться, и вовсе выгнал всех вон. И никаких тебе угрызений, никаких попреков – хорошо на душе, спокой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Хорошо-то хорошо, да только прошел день, другой, а чего-то стало не хватать человеку. И через месяц он понял чего – совести! И такая тут тоска на него навалилась, что он не выдержал и открыл крышку погреб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Ладно, - говорит, - выходи! Только теперь не команду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А в ответ – молча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пустился в погреб: туда, сюда – нет нигде совести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идно, и впрямь, избавился от нее навсегда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рыдал челове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Как же я теперь без совести жить-то буду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И вдруг слышит тихий-претихий голос. Не из погреба – в сердц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- Здесь я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звал человек на радостях друзей, извинился и такой им тут пир устроил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се думали, что у него день рождения, и поздравляли его с этим. А он и не отказывался, и совесть не возражала. И совсем не потому, что боялась опять оказаться в подва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Ведь, если разобраться, так всё оно и было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Calibri"/>
              </a:rPr>
              <a:t>Автор: Монах Варнава (Сани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33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 rot="21391800">
            <a:off x="323640" y="46404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*Может ли жить человек без совести? Какое это чувство? (моральное или физическо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* А что же значит быть совестливым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  <a:ea typeface="Calibri"/>
              </a:rPr>
              <a:t>*Что такое сове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11640" y="2997360"/>
            <a:ext cx="43927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images (1).jpg"/>
          <p:cNvPicPr/>
          <p:nvPr/>
        </p:nvPicPr>
        <p:blipFill>
          <a:blip r:embed="rId1"/>
          <a:stretch/>
        </p:blipFill>
        <p:spPr>
          <a:xfrm rot="20611200">
            <a:off x="584280" y="124128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ozhegov.jpg"/>
          <p:cNvPicPr/>
          <p:nvPr/>
        </p:nvPicPr>
        <p:blipFill>
          <a:blip r:embed="rId2"/>
          <a:stretch/>
        </p:blipFill>
        <p:spPr>
          <a:xfrm rot="20914200">
            <a:off x="3281040" y="1914480"/>
            <a:ext cx="2486160" cy="32194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3" descr=""/>
          <p:cNvPicPr/>
          <p:nvPr/>
        </p:nvPicPr>
        <p:blipFill>
          <a:blip r:embed="rId3"/>
          <a:stretch/>
        </p:blipFill>
        <p:spPr>
          <a:xfrm>
            <a:off x="639720" y="311040"/>
            <a:ext cx="3328920" cy="7430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4" descr=""/>
          <p:cNvPicPr/>
          <p:nvPr/>
        </p:nvPicPr>
        <p:blipFill>
          <a:blip r:embed="rId4"/>
          <a:stretch/>
        </p:blipFill>
        <p:spPr>
          <a:xfrm>
            <a:off x="3968640" y="858960"/>
            <a:ext cx="3346560" cy="519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1297717689_1.jpg"/>
          <p:cNvPicPr/>
          <p:nvPr/>
        </p:nvPicPr>
        <p:blipFill>
          <a:blip r:embed="rId5"/>
          <a:stretch/>
        </p:blipFill>
        <p:spPr>
          <a:xfrm>
            <a:off x="611280" y="3860640"/>
            <a:ext cx="2736720" cy="277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6"/>
          <a:srcRect l="15506" t="4359" r="1398" b="5795"/>
          <a:stretch/>
        </p:blipFill>
        <p:spPr>
          <a:xfrm>
            <a:off x="6156360" y="1916280"/>
            <a:ext cx="2519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684360" y="69228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Без совести и при большом уме не проживе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539640" y="20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Говори по делу, живи по со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395280" y="328464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Совесть без зубов, а загрыз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468360" y="4221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Как ни мудри, а совесть не перемудриш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11280" y="5300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Добрая совесть — глаз Бож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8:26:35Z</dcterms:created>
  <dc:creator>рим</dc:creator>
  <dc:description/>
  <dc:language>en-US</dc:language>
  <cp:lastModifiedBy>Admin</cp:lastModifiedBy>
  <dcterms:modified xsi:type="dcterms:W3CDTF">2013-04-12T18:13:32Z</dcterms:modified>
  <cp:revision>15</cp:revision>
  <dc:subject/>
  <dc:title>Слайд 1</dc:title>
</cp:coreProperties>
</file>