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9DE-FE83-4E3B-AE0D-455E0EDF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170-45B2-438A-9E21-8D6C1A46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1F0-3C8F-4F12-973B-860A18BF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83B-A592-4ED7-9CB5-0500AF98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5762-F68B-41C4-A105-7506DD01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26C5-B291-4535-8E5C-36D3E53A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697C-9266-43C2-912F-7EB1EE08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741A-7679-46B2-BDEA-03AAB8ED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80D3-4F6D-4B3F-84E4-07558C20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79BD-9B73-4EE6-82F1-CD0F61E5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1DD6-4638-4008-B737-6B5DAF93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489-DDB1-49F8-BEDF-0166A60B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E3E8-888F-4365-8440-A9D54DA2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5160-AF26-4A44-8413-C3C0433F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1757-BC66-43A1-AAA1-38591352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4228-0218-4AA1-BCD4-1C6A1A73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E62E-F173-4A86-8580-E8EFD17A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22F-7D40-4D8E-92C1-0F009386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72A-EE57-4F63-8337-43C0FB51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212-71E7-485C-A745-7C94B948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0A5-221D-40AA-B8FF-DBE5DF10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609-760C-4A85-89EF-B78438A3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03A-C552-4174-BBE3-FFD35C2E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EAD-3A1D-4302-BFD8-2C88D19D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9B8D-0DEB-452A-B2A5-F61C09F77F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8F2C-7839-4992-8270-213ED5E2668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8064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Verdana"/>
              </a:rPr>
              <a:t>Тесты и познавательные задачи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Verdana"/>
              </a:rPr>
              <a:t>по технологи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Picture 15" descr="j0251301"/>
          <p:cNvPicPr/>
          <p:nvPr/>
        </p:nvPicPr>
        <p:blipFill>
          <a:blip r:embed="rId1"/>
          <a:stretch/>
        </p:blipFill>
        <p:spPr>
          <a:xfrm>
            <a:off x="5148360" y="328464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6"/>
          <p:cNvSpPr/>
          <p:nvPr/>
        </p:nvSpPr>
        <p:spPr>
          <a:xfrm>
            <a:off x="3052800" y="605952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Verdana"/>
              </a:rPr>
              <a:t>Сальс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Verdana"/>
              </a:rPr>
              <a:t>2007            Югринова В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16-Vivaldi (Bubamara Version).mp3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Машиноведе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7.Причинами поломки иглы могут быт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1- тупая иг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2- погнутая иг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3- игла вставлена не до уп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4- номер иглы не соответствует номеру тка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8172360" y="242100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8172360" y="299736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8172360" y="386064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8172360" y="494172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Материаловед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51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8.Перечислите признаки, по которым можно определить направление долевой нити в тка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9.По каким признакам можно определить лицевую и изнаночную сторону в тка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10. Сырьём для производства искусственных волокон служа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1- неф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2- угол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3- древеси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4-природный газ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4427640" y="422100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4427640" y="472428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4427640" y="515772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4427640" y="566100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Технология обработки</a:t>
            </a:r>
            <a:br>
              <a:rPr sz="4000"/>
            </a:b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издел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11.Величина припусков на обработку зависит о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1- вида ш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2- осыпаемости срезов ткан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3- толщины ткан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4- пороков ткан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12. При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укладке выкройки на ткани учитываетс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Verdana"/>
              </a:rPr>
              <a:t>1- направление нитей основ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Verdana"/>
              </a:rPr>
              <a:t>2- особенность рисунка на ткан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Verdana"/>
              </a:rPr>
              <a:t>3- величина припусков на шв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Verdana"/>
              </a:rPr>
              <a:t>4- ширина ткан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Verdana"/>
              </a:rPr>
              <a:t>5- толщина ткан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6012000" y="249228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012000" y="285264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6012000" y="328464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012000" y="206064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6516720" y="407664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6516720" y="458136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6516720" y="501336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6516720" y="544500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516720" y="580536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офориент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Verdana"/>
              </a:rPr>
              <a:t>Выбор своей профессии в первую очередь определяетс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1-востребованностью данной профессии в регион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2- наличием образовательных учреждений определенного профил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3- эффективностью общественного производст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4- образом жиз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5- состоянием здоровь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6- советом близких друз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7667640" y="364500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7667640" y="278136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7667640" y="623736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7667640" y="558972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7667640" y="508464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7667640" y="429264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71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тветы к тест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-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-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-3и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-кака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5-переборка, сортировка, мыть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6-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7-2и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8-по кромке, звуку, растяжению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9- по чистоте и яркости рису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0-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1-2и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2-1и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6" name="Picture 4" descr="IMGP0384"/>
          <p:cNvPicPr/>
          <p:nvPr/>
        </p:nvPicPr>
        <p:blipFill>
          <a:blip r:embed="rId1"/>
          <a:stretch/>
        </p:blipFill>
        <p:spPr>
          <a:xfrm>
            <a:off x="4500720" y="0"/>
            <a:ext cx="4392360" cy="299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6кл. Репродуктивные задачи</a:t>
            </a:r>
            <a:br>
              <a:rPr sz="4000"/>
            </a:b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(материаловедение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1. Назовите сказки в которых герои плетут, шьют, вяжу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2. Назовите волокна растительного и животного происхожд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3. Шерсть, шелк, ситец, лён, дра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самая толстая и самая тонкая ткан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88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2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Машиноведение и машинные шв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1. Нарисуйте машинную иглу и напишите название её част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2. Назовите соединительные машинные швы, укажите их назначени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3. Приведите классификацию машинных шв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4.Длина строчки 10см, рассчитайте длину стежка, при котором игла остановится точно в конце стр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Частично-поисковые</a:t>
            </a:r>
            <a:br>
              <a:rPr sz="4000"/>
            </a:b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(моделирование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1. Покажите возможные варианты моделирования прямой юб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2. Предложите модель юбки со сборкой по линии талии, аргументируйте свой выбо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                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Машинные шв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Составить алгоритм выполнения накладного карма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Какие соединительные швы следует выбрать для изготовления юбки из шелка? Ответ обоснуйт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Творческие задачи</a:t>
            </a:r>
            <a:br>
              <a:rPr sz="4000"/>
            </a:b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(Материаловедение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1.Составьте кроссворд на заданную тем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Verdana"/>
              </a:rPr>
              <a:t>2. Какими свойствами должна обладать одежда пожарного, каскадера, регулировщика? Обоснуй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               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(Моделирование и машинные швы )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1. Предложи модель юбки из кожи или замш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2. предложи модели юбок из мужских галстук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3.Предложите все возможные варианты соединения двух детал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Технология 9класс</a:t>
            </a:r>
            <a:br>
              <a:rPr sz="4000"/>
            </a:b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Тест  (Кулинария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9" descr="DSCF3926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530064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724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Verdana"/>
              </a:rPr>
              <a:t>1. Отметьте знаком «+» элемент, необходимый для роста костей и зуб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1-натр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2-йо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3-кал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4-кальц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5-магн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Verdana"/>
              </a:rPr>
              <a:t>2. Наибольшее количество кальция содержи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1- смета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2- творог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3- кефир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4- молок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5- простокваш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3995640" y="4581360"/>
            <a:ext cx="287280" cy="287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3635280" y="105264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3635280" y="206064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635280" y="263700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635280" y="314172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635280" y="155736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3995640" y="515772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995640" y="657072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995640" y="602136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3995640" y="558972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14" descr="торт_с днем рождения"/>
          <p:cNvPicPr/>
          <p:nvPr/>
        </p:nvPicPr>
        <p:blipFill>
          <a:blip r:embed="rId1"/>
          <a:stretch/>
        </p:blipFill>
        <p:spPr>
          <a:xfrm>
            <a:off x="4932360" y="4029120"/>
            <a:ext cx="3809880" cy="28288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40" name="Picture 15" descr="торт_невс"/>
          <p:cNvPicPr/>
          <p:nvPr/>
        </p:nvPicPr>
        <p:blipFill>
          <a:blip r:embed="rId2"/>
          <a:stretch/>
        </p:blipFill>
        <p:spPr>
          <a:xfrm>
            <a:off x="5292720" y="907920"/>
            <a:ext cx="3524400" cy="26654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3. Кисломолочными продуктами являютс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1- молок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2- смета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3- простокваш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4- кефи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5- творог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6- слив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4643280" y="1557360"/>
            <a:ext cx="28764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4643280" y="2060640"/>
            <a:ext cx="28764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4716360" y="270828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4716360" y="328464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4716360" y="3860640"/>
            <a:ext cx="287280" cy="287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4716360" y="443700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10" descr="корзинки с яблочной начинкой"/>
          <p:cNvPicPr/>
          <p:nvPr/>
        </p:nvPicPr>
        <p:blipFill>
          <a:blip r:embed="rId1"/>
          <a:stretch/>
        </p:blipFill>
        <p:spPr>
          <a:xfrm>
            <a:off x="5940360" y="1341360"/>
            <a:ext cx="2381400" cy="409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4.Высококаллорийный напиток, получаемый из семян тропического дерева называется………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5.Последовательность первичной обработки овощ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6.При стерилизации банку с консервируемыми продуктами ставят в ёмкос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1-с кипящей во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2- с холодной во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3- с водой температура которой близка к температуре бан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4-температура воды не имеет зна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8459640" y="3573360"/>
            <a:ext cx="28764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8459640" y="4076640"/>
            <a:ext cx="28764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8459640" y="4581360"/>
            <a:ext cx="28764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8459640" y="5445000"/>
            <a:ext cx="28764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3:47:46Z</dcterms:created>
  <dc:creator>MiXaiL</dc:creator>
  <dc:description/>
  <dc:language>en-US</dc:language>
  <cp:lastModifiedBy>homeuser</cp:lastModifiedBy>
  <dcterms:modified xsi:type="dcterms:W3CDTF">2013-04-12T12:03:17Z</dcterms:modified>
  <cp:revision>11</cp:revision>
  <dc:subject/>
  <dc:title>Технология 6 класс</dc:title>
</cp:coreProperties>
</file>