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FDD-864E-4F47-8CD4-45DCE251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402-6BD9-479B-B1D9-29E8314F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C2D-CC7B-4EDB-B53E-A61B1077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112-FD17-4AB9-AA78-2491CD71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1E6B-E9AD-4112-9F26-67465FE8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9BED-78E0-44EC-9C31-1473AB1D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A303-B6BF-49CC-ACD6-A09469DB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FD6E-7FD5-4618-91AE-65227CDD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88DA-3FF5-473A-A1A6-51E12630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5C50-DBD3-4750-98AE-EE586390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DD18-D4C8-413A-A166-D3E6FA01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AF4-0912-4970-A4BB-25D78A2E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7A34-A6C4-4800-AEF2-EC5BBB0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D986-E073-40D9-A5F4-D566B36F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E5D1-ECC1-437E-8B0C-F7CD317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A818-A3FB-4223-8057-DE8E8362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B9D2-B439-41CB-8CF6-77136A38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31D-0313-4268-886C-43957600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701-8A10-4170-9F48-5099E524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BD4-FA42-448A-A7C7-7D3C8C55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B99-900D-4DE7-A0C0-B2E5629A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E1C-6B78-4B34-A9E8-9F23CBBD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242-C024-4975-AB62-9A2D391B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ECF-5AAF-43F6-B890-49B07DF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208-0935-4FB1-9B61-1251B0613DF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5869-CEA1-43B9-AF38-7A2D6D636E42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23640" y="404640"/>
            <a:ext cx="8064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Verdana"/>
              </a:rPr>
              <a:t>Тесты и познавательные задачи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ff"/>
                </a:solidFill>
                <a:latin typeface="Verdana"/>
              </a:rPr>
              <a:t>по технологи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Picture 15" descr="j0251301"/>
          <p:cNvPicPr/>
          <p:nvPr/>
        </p:nvPicPr>
        <p:blipFill>
          <a:blip r:embed="rId1"/>
          <a:stretch/>
        </p:blipFill>
        <p:spPr>
          <a:xfrm>
            <a:off x="5148360" y="328464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6"/>
          <p:cNvSpPr/>
          <p:nvPr/>
        </p:nvSpPr>
        <p:spPr>
          <a:xfrm>
            <a:off x="3052800" y="605952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Verdana"/>
              </a:rPr>
              <a:t>Сальс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Verdana"/>
              </a:rPr>
              <a:t>2007            Югринова В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16-Vivaldi (Bubamara Version).mp3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Машиноведе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7.Причинами поломки иглы могут быт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1- тупая иг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2- погнутая иг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3- игла вставлена не до уп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Verdana"/>
              </a:rPr>
              <a:t>4- номер иглы не соответствует номеру ткан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8172360" y="242100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Oval 5"/>
          <p:cNvSpPr/>
          <p:nvPr/>
        </p:nvSpPr>
        <p:spPr>
          <a:xfrm>
            <a:off x="8172360" y="299736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8172360" y="386064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Oval 7"/>
          <p:cNvSpPr/>
          <p:nvPr/>
        </p:nvSpPr>
        <p:spPr>
          <a:xfrm>
            <a:off x="8172360" y="494172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Материаловед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51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8.Перечислите признаки, по которым можно определить направление долевой нити в тк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9.По каким признакам можно определить лицевую и изнаночную сторону в тк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10. Сырьём для производства искусственных волокон служа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1- неф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- угол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3- древеси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4-природный газ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4427640" y="422100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4427640" y="472428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4427640" y="515772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4427640" y="566100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Технология обработки</a:t>
            </a:r>
            <a:br>
              <a:rPr sz="4000"/>
            </a:b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издел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11.Величина припусков на обработку зависит о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1- вида ш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2- осыпаемости срезов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3- толщины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Verdana"/>
              </a:rPr>
              <a:t>4- пороков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12. При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укладке выкройки на ткани учитываетс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1- направление нитей основ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2- особенность рисунка на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3- величина припусков на шв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4- ширина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33"/>
                </a:solidFill>
                <a:latin typeface="Verdana"/>
              </a:rPr>
              <a:t>5- толщина ткан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6012000" y="249228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6012000" y="285264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6012000" y="328464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012000" y="206064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6516720" y="407664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6516720" y="458136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6516720" y="501336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6516720" y="544500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516720" y="580536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офориентац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Verdana"/>
              </a:rPr>
              <a:t>Выбор своей профессии в первую очередь определяетс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1-востребованностью данной профессии в регион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- наличием образовательных учреждений определенного профил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3- эффективностью общественного производств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4- образом жиз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5- состоянием здоровь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6- советом близких друз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7667640" y="364500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7667640" y="278136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7667640" y="623736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7667640" y="558972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7667640" y="5084640"/>
            <a:ext cx="28728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7667640" y="4292640"/>
            <a:ext cx="287280" cy="288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веты к тест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-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-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-3и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-кака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5-переборка, сортировка, мыть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6-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7-2и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8-по кромке, звуку, растяжению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9- по чистоте и яркости рисунк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0-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1-2и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2-1и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6" name="Picture 4" descr="IMGP0384"/>
          <p:cNvPicPr/>
          <p:nvPr/>
        </p:nvPicPr>
        <p:blipFill>
          <a:blip r:embed="rId1"/>
          <a:stretch/>
        </p:blipFill>
        <p:spPr>
          <a:xfrm>
            <a:off x="4500720" y="0"/>
            <a:ext cx="4392360" cy="29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6кл. Репродуктивные задачи</a:t>
            </a:r>
            <a:br>
              <a:rPr sz="4000"/>
            </a:b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(материаловедение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1. Назовите сказки в которых герои плетут, шьют, вяжу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2. Назовите волокна растительного и животного происхожд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3. Шерсть, шелк, ситец, лён, драп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cc66"/>
                </a:solidFill>
                <a:latin typeface="Verdana"/>
              </a:rPr>
              <a:t>самая толстая и самая тонкая ткан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88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2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Машиноведение и машинные шв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1. Нарисуйте машинную иглу и напишите название её част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2. Назовите соединительные машинные швы, укажите их назнач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3. Приведите классификацию машинных шв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4.Длина строчки 10см, рассчитайте длину стежка, при котором игла остановится точно в конце стр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Частично-поисковые</a:t>
            </a:r>
            <a:br>
              <a:rPr sz="4000"/>
            </a:b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(моделирование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. Покажите возможные варианты моделирования прямой юб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. Предложите модель юбки со сборкой по линии талии, аргументируйте свой выбо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               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Машинные шв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Составить алгоритм выполнения накладного карма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Какие соединительные швы следует выбрать для изготовления юбки из шелка? Ответ обоснуйт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Творческие задачи</a:t>
            </a:r>
            <a:br>
              <a:rPr sz="4000"/>
            </a:b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(Материаловедение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.Составьте кроссворд на заданную тем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ff"/>
                </a:solidFill>
                <a:latin typeface="Verdana"/>
              </a:rPr>
              <a:t>2. Какими свойствами должна обладать одежда пожарного, каскадера, регулировщика? Обоснуй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               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(Моделирование и машинные швы )</a:t>
            </a: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. Предложи модель юбки из кожи или замш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. предложи модели юбок из мужских галстук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3.Предложите все возможные варианты соединения двух детал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Технология 9класс</a:t>
            </a:r>
            <a:br>
              <a:rPr sz="4000"/>
            </a:br>
            <a:r>
              <a:rPr b="0" lang="ru-RU" sz="4000" spc="-1" strike="noStrike">
                <a:solidFill>
                  <a:srgbClr val="9933ff"/>
                </a:solidFill>
                <a:latin typeface="Arial"/>
              </a:rPr>
              <a:t>Тест  (Кулинария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9" descr="DSCF3926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5300640"/>
          </a:xfrm>
          <a:prstGeom prst="rect">
            <a:avLst/>
          </a:prstGeom>
          <a:ln w="57240">
            <a:solidFill>
              <a:srgbClr val="eaeaea"/>
            </a:solidFill>
            <a:miter/>
          </a:ln>
        </p:spPr>
      </p:pic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724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Verdana"/>
              </a:rPr>
              <a:t>1. Отметьте знаком «+» элемент, необходимый для роста костей и зубов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1-натр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-й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3-кал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4-кальц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5-магн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0093"/>
                </a:solidFill>
                <a:latin typeface="Verdana"/>
              </a:rPr>
              <a:t>2. Наибольшее количество кальция содержи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1- смета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2- творог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3- кефир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4- молок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ff33"/>
                </a:solidFill>
                <a:latin typeface="Verdana"/>
              </a:rPr>
              <a:t>5- простокваш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3995640" y="4581360"/>
            <a:ext cx="287280" cy="287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3635280" y="105264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Oval 6"/>
          <p:cNvSpPr/>
          <p:nvPr/>
        </p:nvSpPr>
        <p:spPr>
          <a:xfrm>
            <a:off x="3635280" y="206064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3635280" y="263700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635280" y="314172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Oval 9"/>
          <p:cNvSpPr/>
          <p:nvPr/>
        </p:nvSpPr>
        <p:spPr>
          <a:xfrm>
            <a:off x="3635280" y="155736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3995640" y="515772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Oval 11"/>
          <p:cNvSpPr/>
          <p:nvPr/>
        </p:nvSpPr>
        <p:spPr>
          <a:xfrm>
            <a:off x="3995640" y="657072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Oval 12"/>
          <p:cNvSpPr/>
          <p:nvPr/>
        </p:nvSpPr>
        <p:spPr>
          <a:xfrm>
            <a:off x="3995640" y="602136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3995640" y="558972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14" descr="торт_с днем рождения"/>
          <p:cNvPicPr/>
          <p:nvPr/>
        </p:nvPicPr>
        <p:blipFill>
          <a:blip r:embed="rId1"/>
          <a:stretch/>
        </p:blipFill>
        <p:spPr>
          <a:xfrm>
            <a:off x="4932360" y="4029120"/>
            <a:ext cx="3809880" cy="28288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140" name="Picture 15" descr="торт_невс"/>
          <p:cNvPicPr/>
          <p:nvPr/>
        </p:nvPicPr>
        <p:blipFill>
          <a:blip r:embed="rId2"/>
          <a:stretch/>
        </p:blipFill>
        <p:spPr>
          <a:xfrm>
            <a:off x="5292720" y="907920"/>
            <a:ext cx="3524400" cy="2665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push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60093"/>
                </a:solidFill>
                <a:latin typeface="Verdana"/>
              </a:rPr>
              <a:t>3. Кисломолочными продуктами являютс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1- молок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2- смета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3- простокваш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4- кефи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5- творог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33"/>
                </a:solidFill>
                <a:latin typeface="Verdana"/>
              </a:rPr>
              <a:t>6- слив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4643280" y="1557360"/>
            <a:ext cx="28764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4643280" y="2060640"/>
            <a:ext cx="28764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4716360" y="270828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4716360" y="328464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4716360" y="3860640"/>
            <a:ext cx="287280" cy="287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4716360" y="4437000"/>
            <a:ext cx="287280" cy="287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10" descr="корзинки с яблочной начинкой"/>
          <p:cNvPicPr/>
          <p:nvPr/>
        </p:nvPicPr>
        <p:blipFill>
          <a:blip r:embed="rId1"/>
          <a:stretch/>
        </p:blipFill>
        <p:spPr>
          <a:xfrm>
            <a:off x="5940360" y="1341360"/>
            <a:ext cx="2381400" cy="4095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4.Высококаллорийный напиток, получаемый из семян тропического дерева называется………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5.Последовательность первичной обработки овощ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Verdana"/>
              </a:rPr>
              <a:t>6.При стерилизации банку с консервируемыми продуктами ставят в ёмкост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1-с кипящей во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2- с холодной во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3- с водой температура которой близка к температуре бан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Verdana"/>
              </a:rPr>
              <a:t>4-температура воды не имеет зна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8459640" y="3573360"/>
            <a:ext cx="28764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8459640" y="4076640"/>
            <a:ext cx="28764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8459640" y="4581360"/>
            <a:ext cx="28764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8459640" y="5445000"/>
            <a:ext cx="287640" cy="289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3:47:46Z</dcterms:created>
  <dc:creator>MiXaiL</dc:creator>
  <dc:description/>
  <dc:language>en-US</dc:language>
  <cp:lastModifiedBy>homeuser</cp:lastModifiedBy>
  <dcterms:modified xsi:type="dcterms:W3CDTF">2013-04-12T12:03:17Z</dcterms:modified>
  <cp:revision>11</cp:revision>
  <dc:subject/>
  <dc:title>Технология 6 класс</dc:title>
</cp:coreProperties>
</file>