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158-BED3-4A3D-8D88-E625245E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C43-2249-4275-8E41-48CABF96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298-506E-4AC5-9FBA-B78009CB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873-E2E4-4715-B82A-1D9CF902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0B04-C6CD-4C92-9094-A9A93B9C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5460-474D-4B7B-BEB4-A1C06193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8E27-12CB-4BBD-B429-A010BA4A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EA8C-30A0-4346-B9C8-83F0E77A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47F4-8F48-4051-8FDD-A6300199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38C8-FED3-41CF-A322-7B3ADC85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7D08-F250-4827-BF6D-9F9C8B64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DA6-9879-4749-933B-0FD3B36F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03ED-C518-44A6-A257-F6F803E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98CD-75B1-435B-8E5F-692F8198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253F-F4B9-4388-93D5-AF39E48F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0AAA-DA07-4F1F-87C4-D6621383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9197-A19D-4A34-8140-4784B7A3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B661-DD7A-4941-B5B4-A0DC3B10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536E-C9D0-4F20-BE79-8F85F1C2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E398-588A-4B75-8FB8-44D4405D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1C2D-87D1-4E58-912C-0E7BC956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B44E6-29BE-4A2C-BB78-943CD2AD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EE5-599E-4D0B-8AE2-E993759D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B7251-E22F-4A33-BB72-6AC2F18A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1AD2A-0D01-498B-9D66-CD71692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CFAAE-F30C-4C92-8C93-F070A5EF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C15E-B504-4F0A-A864-C8AB8AD9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7723-5AF5-48A0-9F71-6662804C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7D95-7F40-47EF-8035-D42AF9C4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98D8-9241-4D3F-A05D-99310C31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8099F-D2DB-4D02-BD65-26343FF6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D9D06-A0E2-485C-9DEE-EBC3D0BF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FCAF-1EF3-4803-9A21-7D7BE877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CF0-1423-4D06-8A5B-B4C0B8D4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E6026-DBF6-4A4E-9AAE-41F618E5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690E8-32D4-45A2-9C4F-9885383E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91EE-0EF2-4D75-A5E2-84ADA83F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A43C6-EB0F-4537-B217-3FB277C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78E47-81AB-46A7-89F9-FA7CB8E5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5467F-D39C-479F-BB7A-F4DAC68C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B188-E0A8-4305-A1E5-9C2FB8F6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DE4BD-5C66-47EB-98B9-E82B57C1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434BA-4BBE-4DDD-A734-C076F803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64D5-DB7B-4F53-B51D-0225080C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FF0-8318-4C1B-9EAC-1951F58D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7BDE9-66B1-4BAB-A0F4-BBD6C30E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96C24-5A0C-4E7D-8B27-410BA358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23EA1-B9B5-46A6-9448-40E41030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3C9E7-C323-470C-8193-B9EFD9E5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23D4E-3C2A-4BE0-AF1E-856E56EE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8D641-9920-4D21-9346-D4227621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252BE-A44E-4B06-81B8-004B98C6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6633-4E13-4935-BF49-5BDC1C78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96B6E-99E2-454E-8ABE-D5F0B622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48A03-DBF0-429E-A885-A9B9BEA9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D5C-C582-4081-9B5F-B5EC33E8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6E336-32E6-4943-AA2E-C36CF0FB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C0A23-260A-43EA-B4D6-C378B1FC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EBB80-D5DD-4A93-B16A-8D9CDE38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88CFA-15F0-4C3A-A26A-5910076F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5BD97-1668-4062-8D9C-B0DD21BF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8914C-DC9D-4BD4-9DBA-A477105D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5F759-0E8D-4362-88A3-0743C444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EC620-B7B4-4BCD-9E76-6C97D430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5DA20-398D-4373-9487-67B2FD99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B05FD-ABB4-4F1C-9CAC-547175C9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AC6-E270-4543-BF80-20F556FE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046A5-0D5E-4847-9D94-E2E8E34E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E5E6F-F69B-4484-B128-E85E17E1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9FEAE-77CA-4CF4-936D-5AC3A1CE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070C1-BC32-47E0-87A8-48E3BA48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5E995-A00D-4222-9AA5-4DDB8276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330BA-A8FF-4499-A8EC-0E4261C3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C48CF-3291-4FB9-9E89-DF2D9F0F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6EDB0-7C95-42DA-8F6A-AC12CA50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6EEB1-20FA-468E-91CC-182C1628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0F8F3-F777-4EA7-919F-D72C4760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46F-AC88-423A-B44A-0F7B8612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DDD34-FDCD-4573-ADF3-CB7BFC56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58844-4736-4B45-8941-63E9AC24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3AAA0-81FA-4BAC-A850-C668CF1E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219B-72C3-46FC-BB19-BBFE2028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C1B75-26D0-44E3-A30D-1966D83F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313-3446-4052-BE06-E8A4917E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D095-B209-4E37-8237-4896874CACE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EB85-0CD9-4782-82E3-96734D1DB75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6F5B-114E-414A-B6CC-813BE54A51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4E08-B7F2-4218-A820-CDE2969F3D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731E-0955-42F9-9CCD-8E8CC7944F8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A931-B5F2-4809-A83D-5DA012D885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D602-EDA1-4B24-99B3-63E1B980207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nachalka.com/test_shablon" TargetMode="External"/><Relationship Id="rId2" Type="http://schemas.openxmlformats.org/officeDocument/2006/relationships/hyperlink" Target="http://www.nachalka.com/test_shablon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520" y="980640"/>
            <a:ext cx="78087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Arial"/>
                <a:ea typeface="Arial"/>
              </a:rPr>
              <a:t>Тест по теме: «Клавиатура», 8 класс</a:t>
            </a:r>
            <a:br>
              <a:rPr sz="3900"/>
            </a:br>
            <a:r>
              <a:rPr b="0" lang="ru-RU" sz="2700" spc="-1" strike="noStrike">
                <a:solidFill>
                  <a:srgbClr val="572314"/>
                </a:solidFill>
                <a:latin typeface="Arial"/>
                <a:ea typeface="Arial"/>
              </a:rPr>
              <a:t>Тест предназначен для проверки домашнего задания</a:t>
            </a:r>
            <a:br>
              <a:rPr sz="2700"/>
            </a:br>
            <a:r>
              <a:rPr b="0" i="1" lang="ru-RU" sz="2700" spc="-1" strike="noStrike">
                <a:solidFill>
                  <a:srgbClr val="572314"/>
                </a:solidFill>
                <a:latin typeface="Monotype Corsiva"/>
                <a:ea typeface="Arial"/>
              </a:rPr>
              <a:t>(в качестве альтернативы опросу)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Скругленный прямоугольник 7"/>
          <p:cNvSpPr/>
          <p:nvPr/>
        </p:nvSpPr>
        <p:spPr>
          <a:xfrm>
            <a:off x="2598840" y="4437000"/>
            <a:ext cx="3875040" cy="136368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ех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Использован </a:t>
            </a:r>
            <a:r>
              <a:rPr b="0" lang="ru-RU" sz="1000" spc="-1" strike="noStrike" u="sng">
                <a:solidFill>
                  <a:srgbClr val="8dc765"/>
                </a:solidFill>
                <a:uFillTx/>
                <a:latin typeface="Arial"/>
                <a:ea typeface="Arial"/>
                <a:hlinkClick r:id="rId1"/>
              </a:rPr>
              <a:t>шаблон создания тестов в </a:t>
            </a:r>
            <a:r>
              <a:rPr b="0" lang="en-US" sz="1000" spc="-1" strike="noStrike" u="sng">
                <a:solidFill>
                  <a:srgbClr val="8dc765"/>
                </a:solidFill>
                <a:uFillTx/>
                <a:latin typeface="Arial"/>
                <a:ea typeface="Arial"/>
                <a:hlinkClick r:id="rId2"/>
              </a:rPr>
              <a:t>Power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Результат тес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5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30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Вопрос 1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клавиш содержит стандартная клавиатура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Скругленный прямоугольник 3"/>
          <p:cNvSpPr/>
          <p:nvPr/>
        </p:nvSpPr>
        <p:spPr>
          <a:xfrm>
            <a:off x="395280" y="4286160"/>
            <a:ext cx="396072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1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4"/>
          <p:cNvSpPr/>
          <p:nvPr/>
        </p:nvSpPr>
        <p:spPr>
          <a:xfrm>
            <a:off x="3059280" y="263700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10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Скругленный прямоугольник 5"/>
          <p:cNvSpPr/>
          <p:nvPr/>
        </p:nvSpPr>
        <p:spPr>
          <a:xfrm>
            <a:off x="5076720" y="4286160"/>
            <a:ext cx="340056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9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Вопрос 2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лфовитно – цифровой блок состоит из….клави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Скругленный прямоугольник 3"/>
          <p:cNvSpPr/>
          <p:nvPr/>
        </p:nvSpPr>
        <p:spPr>
          <a:xfrm>
            <a:off x="4608360" y="428616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4"/>
          <p:cNvSpPr/>
          <p:nvPr/>
        </p:nvSpPr>
        <p:spPr>
          <a:xfrm>
            <a:off x="714240" y="4286160"/>
            <a:ext cx="342612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3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5"/>
          <p:cNvSpPr/>
          <p:nvPr/>
        </p:nvSpPr>
        <p:spPr>
          <a:xfrm>
            <a:off x="2771640" y="2629080"/>
            <a:ext cx="340056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  <a:ea typeface="Arial"/>
              </a:rPr>
              <a:t>4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Вопрос 3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ьная клавиша предназначенная для вызова справк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468360" y="4294080"/>
            <a:ext cx="396072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F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кругленный прямоугольник 4"/>
          <p:cNvSpPr/>
          <p:nvPr/>
        </p:nvSpPr>
        <p:spPr>
          <a:xfrm>
            <a:off x="5072040" y="4294080"/>
            <a:ext cx="342576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F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5"/>
          <p:cNvSpPr/>
          <p:nvPr/>
        </p:nvSpPr>
        <p:spPr>
          <a:xfrm>
            <a:off x="2728800" y="2724120"/>
            <a:ext cx="340056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F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Вопрос 4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1970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берете из перечисленного устройства ввода информа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Скругленный прямоугольник 3"/>
          <p:cNvSpPr/>
          <p:nvPr/>
        </p:nvSpPr>
        <p:spPr>
          <a:xfrm>
            <a:off x="3333600" y="3914640"/>
            <a:ext cx="25336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Скан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12"/>
          <p:cNvSpPr/>
          <p:nvPr/>
        </p:nvSpPr>
        <p:spPr>
          <a:xfrm>
            <a:off x="455760" y="3914640"/>
            <a:ext cx="260352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Клавиат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Скругленный прямоугольник 13"/>
          <p:cNvSpPr/>
          <p:nvPr/>
        </p:nvSpPr>
        <p:spPr>
          <a:xfrm>
            <a:off x="3203640" y="2500200"/>
            <a:ext cx="266364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анипуля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Скругленный прямоугольник 14"/>
          <p:cNvSpPr/>
          <p:nvPr/>
        </p:nvSpPr>
        <p:spPr>
          <a:xfrm>
            <a:off x="392040" y="25002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они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Скругленный прямоугольник 15"/>
          <p:cNvSpPr/>
          <p:nvPr/>
        </p:nvSpPr>
        <p:spPr>
          <a:xfrm>
            <a:off x="6222960" y="2465280"/>
            <a:ext cx="25210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ин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кругленный прямоугольник 16"/>
          <p:cNvSpPr/>
          <p:nvPr/>
        </p:nvSpPr>
        <p:spPr>
          <a:xfrm>
            <a:off x="6145200" y="3914640"/>
            <a:ext cx="25210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Коло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c32d2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Arial"/>
                <a:ea typeface="Arial"/>
              </a:rPr>
              <a:t>Вопрос 5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0840" y="11970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из перечисленного устройства вывода информа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Скругленный прямоугольник 3"/>
          <p:cNvSpPr/>
          <p:nvPr/>
        </p:nvSpPr>
        <p:spPr>
          <a:xfrm>
            <a:off x="6121440" y="3946680"/>
            <a:ext cx="267804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они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12"/>
          <p:cNvSpPr/>
          <p:nvPr/>
        </p:nvSpPr>
        <p:spPr>
          <a:xfrm>
            <a:off x="3284640" y="2500200"/>
            <a:ext cx="260352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Наушн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Скругленный прямоугольник 13"/>
          <p:cNvSpPr/>
          <p:nvPr/>
        </p:nvSpPr>
        <p:spPr>
          <a:xfrm>
            <a:off x="519120" y="2500200"/>
            <a:ext cx="25192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Прин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14"/>
          <p:cNvSpPr/>
          <p:nvPr/>
        </p:nvSpPr>
        <p:spPr>
          <a:xfrm>
            <a:off x="3327480" y="3956040"/>
            <a:ext cx="25192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Скан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6121440" y="2500200"/>
            <a:ext cx="27334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Графопо- строител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453960" y="3929040"/>
            <a:ext cx="2521080" cy="1143000"/>
          </a:xfrm>
          <a:prstGeom prst="roundRect">
            <a:avLst>
              <a:gd name="adj" fmla="val 16667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Мыш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19"/>
          <p:cNvSpPr/>
          <p:nvPr/>
        </p:nvSpPr>
        <p:spPr>
          <a:xfrm>
            <a:off x="1714680" y="5643720"/>
            <a:ext cx="2643120" cy="642960"/>
          </a:xfrm>
          <a:prstGeom prst="roundRect">
            <a:avLst>
              <a:gd name="adj" fmla="val 16667"/>
            </a:avLst>
          </a:prstGeom>
          <a:solidFill>
            <a:srgbClr val="c32d2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71c"/>
                </a:solidFill>
                <a:latin typeface="Arial"/>
                <a:ea typeface="Arial"/>
              </a:rPr>
              <a:t>испра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кругленный прямоугольник 20"/>
          <p:cNvSpPr/>
          <p:nvPr/>
        </p:nvSpPr>
        <p:spPr>
          <a:xfrm>
            <a:off x="4572000" y="5643720"/>
            <a:ext cx="3000240" cy="642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ответ го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b80a"/>
                                      </p:to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Екатерина</cp:lastModifiedBy>
  <dcterms:modified xsi:type="dcterms:W3CDTF">2013-04-12T13:34:32Z</dcterms:modified>
  <cp:revision>725</cp:revision>
  <dc:subject/>
  <dc:title>Слайд 1</dc:title>
</cp:coreProperties>
</file>