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0144-7B81-4229-902F-D20550A47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DA48-3E06-451F-B76F-EF122EE7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2334-F5FC-4369-9E0E-205B47FFF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A4DE-ED05-4BEE-AE49-1F983FDD5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EA4B-36C4-4090-9E98-29CDDA678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D26B-5766-4E02-B1D6-8FDF77A5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7C51-095F-4A46-BB44-C0DAB676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1ABE-1466-44C6-A611-6366D363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FA70-4A80-4299-8A11-FE976BE3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BD4D-6370-4D1D-AECF-A7F12C21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1215-755B-4A2B-B9AC-D0F8996B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E4D4-9C74-434D-9BD6-BC80C2DC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56B1-2370-41CF-8CDA-7B0169D3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54FA-DD99-4540-9960-9B385120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4391-4CC0-41B9-8021-5C3DAE6D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3B7E-D809-4756-A532-08CA459E4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FA40-26EF-4ECD-B1B4-B6AD5BF92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A7873-1E90-4DA5-A56A-AE2A1EE83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0BFF2-4C9D-45E4-83E2-134098C1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FB050-CF45-48B7-A6BA-C558616C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ED2B6-02DE-4897-9A20-61BA336C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217C8-8C44-435D-82F2-FB8F930F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053E-5A58-4B5E-B23D-43252639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FB3C8-BC00-4A2E-8AB6-C4979F0D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C9E42-5106-4A42-B4C4-8993B40B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3746C-53BA-48D6-AC9C-A6CA3532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0E012-B36B-457D-8E33-0184D765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F7DF5-D2D0-4AEC-A2C4-0C53D55B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0E47B-53F9-415D-8037-218DC2DD1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40B30-00A7-49B8-86FA-0F442C750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92811-7D8B-4E2E-B0FD-C5DEF58A3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0F17C-212C-4A0A-8E70-819E26DC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7C112-BE02-4B10-93AC-CEE9C472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C605-8F2C-4F8A-9D11-6E16AB97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0537B-CB94-4389-AA7F-4BF309C2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04CCC-DD5A-4566-82C1-F95478F3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C69D5-93D0-4EF5-A2D2-D80B018F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E906B-7C5E-4EA3-B6E3-414854A1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D4A6D-A986-4485-A76D-51958907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67B30-B999-43E0-AD8F-C3300B3B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0D294-C5FE-4C55-B099-88E1F8AC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D90C1-461F-4242-A67E-89BBE43B6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86DFD-24EC-4E35-96B7-04C628E4E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733D2-469D-437B-A582-53ED94BAD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AF35-2EDA-4B9D-8986-DF5BA5C6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D6E27-9458-402A-B044-FD184AA4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A947C-3EDB-410C-B33A-016D17AF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C5449-40BB-478D-A5C4-CE3565B2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1671C-48FD-4C01-90F5-7ED56CA0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E2EAE-A756-4096-9CBD-26D8F1A5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15902-E737-42BD-A674-2FC8CD2E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DE3A2-7A4D-4291-B08F-65AFDA8D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16041-3DA0-4EC5-9621-BAEF72E9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591CF-6E9B-4FFF-8CC0-6CF0065D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9CF18-0928-43A3-A4AD-B49D48394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C04E-A834-4693-9EBF-33A787E4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79770-6BE8-486A-9CDB-7E7D66298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079DF-60DC-46B2-AC17-6FFF38501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87CCC-E035-4BD9-B57D-1916F6ED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0B86E-FE0D-404D-A547-7556DE61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BCA82-21DA-41A8-88FE-89593B2C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7FCD8-BEC6-4DC4-AC27-E202E79E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F2F99-738F-4A33-B394-1BBAB5B5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B637A-F5A6-4402-8DC8-3325B1F8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E64E8-147E-4BE3-948B-A6A092A4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E7864-057A-4D33-8B2A-2A0985B4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DE7B-7F84-40D9-9263-887415AB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80B9A-D497-40BC-813C-DC217AD8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EC920-363E-40AD-BF1D-004AF3980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1D2AE-9B39-4B29-8001-4C31EE08C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45FAA-E1D4-4A00-B905-D69DB64FA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0E1E9-1AF2-49F7-9C78-46664C00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E3C46-6F4F-4728-A0AA-1665B9EC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00386-C7D3-42A4-BEC0-86C69ECF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59FAC-17BF-4624-B1B2-879F01CC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FD143-DB73-4873-98F5-553C0723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6BE0D-171B-4E6A-9086-7B717881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016D-DB0F-470F-A5BB-39DF1B6F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9ED5F-FF23-4D15-9388-8FA70DD5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3CFF2-3F60-4B7E-9A16-7AB82EDC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3F7AF-020A-4930-A46A-0D5FC23E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094DB-E45B-4863-9C22-FF3A3C365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B7D40-53E7-4DEF-815A-3C8992B39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B556-C743-4C50-9507-79EE7CF4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4A9B-BE50-4463-942E-6AA856C96BD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F6F5-935B-4053-9AD6-86F43F32D5C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2511-446E-4A54-8FB0-55BD9B52A76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8D6C-5E1D-4B95-BDD5-18378474554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9CA7-1485-4BD2-846E-3DB9CC138B2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C131-CFD1-482E-BA4F-629F458737D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7A6C-A551-413C-A5A2-3A52213F233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achalka.com/test_shablon" TargetMode="External"/><Relationship Id="rId2" Type="http://schemas.openxmlformats.org/officeDocument/2006/relationships/hyperlink" Target="http://www.nachalka.com/test_shablon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50520" y="980640"/>
            <a:ext cx="78087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Arial"/>
                <a:ea typeface="Arial"/>
              </a:rPr>
              <a:t>Тест по теме: «Клавиатура», 8 класс</a:t>
            </a:r>
            <a:br>
              <a:rPr sz="3900"/>
            </a:br>
            <a:r>
              <a:rPr b="0" lang="ru-RU" sz="2700" spc="-1" strike="noStrike">
                <a:solidFill>
                  <a:srgbClr val="572314"/>
                </a:solidFill>
                <a:latin typeface="Arial"/>
                <a:ea typeface="Arial"/>
              </a:rPr>
              <a:t>Тест предназначен для проверки домашнего задания</a:t>
            </a:r>
            <a:br>
              <a:rPr sz="2700"/>
            </a:br>
            <a:r>
              <a:rPr b="0" i="1" lang="ru-RU" sz="2700" spc="-1" strike="noStrike">
                <a:solidFill>
                  <a:srgbClr val="572314"/>
                </a:solidFill>
                <a:latin typeface="Monotype Corsiva"/>
                <a:ea typeface="Arial"/>
              </a:rPr>
              <a:t>(в качестве альтернативы опросу)</a:t>
            </a:r>
            <a:endParaRPr b="0" lang="en-US" sz="27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Скругленный прямоугольник 7"/>
          <p:cNvSpPr/>
          <p:nvPr/>
        </p:nvSpPr>
        <p:spPr>
          <a:xfrm>
            <a:off x="2598840" y="4437000"/>
            <a:ext cx="3875040" cy="136368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ех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одзаголовок 2"/>
          <p:cNvSpPr/>
          <p:nvPr/>
        </p:nvSpPr>
        <p:spPr>
          <a:xfrm>
            <a:off x="250920" y="6453360"/>
            <a:ext cx="85723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Использован </a:t>
            </a:r>
            <a:r>
              <a:rPr b="0" lang="ru-RU" sz="1000" spc="-1" strike="noStrike" u="sng">
                <a:solidFill>
                  <a:srgbClr val="8dc765"/>
                </a:solidFill>
                <a:uFillTx/>
                <a:latin typeface="Arial"/>
                <a:ea typeface="Arial"/>
                <a:hlinkClick r:id="rId1"/>
              </a:rPr>
              <a:t>шаблон создания тестов в </a:t>
            </a:r>
            <a:r>
              <a:rPr b="0" lang="en-US" sz="1000" spc="-1" strike="noStrike" u="sng">
                <a:solidFill>
                  <a:srgbClr val="8dc765"/>
                </a:solidFill>
                <a:uFillTx/>
                <a:latin typeface="Arial"/>
                <a:ea typeface="Arial"/>
                <a:hlinkClick r:id="rId2"/>
              </a:rPr>
              <a:t>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Arial"/>
                <a:ea typeface="Arial"/>
              </a:rPr>
              <a:t>Результат тест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5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5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30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Arial"/>
                <a:ea typeface="Arial"/>
              </a:rPr>
              <a:t>Вопрос 1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Сколько клавиш содержит стандартная клавиатур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Скругленный прямоугольник 3"/>
          <p:cNvSpPr/>
          <p:nvPr/>
        </p:nvSpPr>
        <p:spPr>
          <a:xfrm>
            <a:off x="395280" y="4286160"/>
            <a:ext cx="3960720" cy="11430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  <a:ea typeface="Arial"/>
              </a:rPr>
              <a:t>10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Скругленный прямоугольник 4"/>
          <p:cNvSpPr/>
          <p:nvPr/>
        </p:nvSpPr>
        <p:spPr>
          <a:xfrm>
            <a:off x="3059280" y="263700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  <a:ea typeface="Arial"/>
              </a:rPr>
              <a:t>10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Скругленный прямоугольник 5"/>
          <p:cNvSpPr/>
          <p:nvPr/>
        </p:nvSpPr>
        <p:spPr>
          <a:xfrm>
            <a:off x="5076720" y="4286160"/>
            <a:ext cx="3400560" cy="11430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  <a:ea typeface="Arial"/>
              </a:rPr>
              <a:t>9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Arial"/>
                <a:ea typeface="Arial"/>
              </a:rPr>
              <a:t>Вопрос 2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лфовитно – цифровой блок состоит из….клавиш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Скругленный прямоугольник 3"/>
          <p:cNvSpPr/>
          <p:nvPr/>
        </p:nvSpPr>
        <p:spPr>
          <a:xfrm>
            <a:off x="4608360" y="4286160"/>
            <a:ext cx="3959280" cy="11430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  <a:ea typeface="Arial"/>
              </a:rPr>
              <a:t>4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Скругленный прямоугольник 4"/>
          <p:cNvSpPr/>
          <p:nvPr/>
        </p:nvSpPr>
        <p:spPr>
          <a:xfrm>
            <a:off x="714240" y="4286160"/>
            <a:ext cx="3426120" cy="11430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  <a:ea typeface="Arial"/>
              </a:rPr>
              <a:t>3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Скругленный прямоугольник 5"/>
          <p:cNvSpPr/>
          <p:nvPr/>
        </p:nvSpPr>
        <p:spPr>
          <a:xfrm>
            <a:off x="2771640" y="2629080"/>
            <a:ext cx="3400560" cy="11430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  <a:ea typeface="Arial"/>
              </a:rPr>
              <a:t>4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Arial"/>
                <a:ea typeface="Arial"/>
              </a:rPr>
              <a:t>Вопрос 3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Функциональная клавиша предназначенная для вызова справки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Скругленный прямоугольник 3"/>
          <p:cNvSpPr/>
          <p:nvPr/>
        </p:nvSpPr>
        <p:spPr>
          <a:xfrm>
            <a:off x="468360" y="4294080"/>
            <a:ext cx="3960720" cy="11430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F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Скругленный прямоугольник 4"/>
          <p:cNvSpPr/>
          <p:nvPr/>
        </p:nvSpPr>
        <p:spPr>
          <a:xfrm>
            <a:off x="5072040" y="429408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F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Скругленный прямоугольник 5"/>
          <p:cNvSpPr/>
          <p:nvPr/>
        </p:nvSpPr>
        <p:spPr>
          <a:xfrm>
            <a:off x="2728800" y="2724120"/>
            <a:ext cx="3400560" cy="11430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F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Arial"/>
                <a:ea typeface="Arial"/>
              </a:rPr>
              <a:t>Вопрос 4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19700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ыберете из перечисленного устройства ввода информаци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Скругленный прямоугольник 3"/>
          <p:cNvSpPr/>
          <p:nvPr/>
        </p:nvSpPr>
        <p:spPr>
          <a:xfrm>
            <a:off x="3333600" y="3914640"/>
            <a:ext cx="2533680" cy="11430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Скане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Скругленный прямоугольник 12"/>
          <p:cNvSpPr/>
          <p:nvPr/>
        </p:nvSpPr>
        <p:spPr>
          <a:xfrm>
            <a:off x="455760" y="3914640"/>
            <a:ext cx="2603520" cy="11430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Клавиату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Скругленный прямоугольник 13"/>
          <p:cNvSpPr/>
          <p:nvPr/>
        </p:nvSpPr>
        <p:spPr>
          <a:xfrm>
            <a:off x="3203640" y="2500200"/>
            <a:ext cx="2663640" cy="11430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Манипулят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Скругленный прямоугольник 14"/>
          <p:cNvSpPr/>
          <p:nvPr/>
        </p:nvSpPr>
        <p:spPr>
          <a:xfrm>
            <a:off x="392040" y="2500200"/>
            <a:ext cx="2664000" cy="11430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Монит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Скругленный прямоугольник 15"/>
          <p:cNvSpPr/>
          <p:nvPr/>
        </p:nvSpPr>
        <p:spPr>
          <a:xfrm>
            <a:off x="6222960" y="2465280"/>
            <a:ext cx="2521080" cy="11430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Принте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Скругленный прямоугольник 16"/>
          <p:cNvSpPr/>
          <p:nvPr/>
        </p:nvSpPr>
        <p:spPr>
          <a:xfrm>
            <a:off x="6145200" y="3914640"/>
            <a:ext cx="2521080" cy="11430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Колон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c32d2e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b80a"/>
                                      </p:to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b80a"/>
                                      </p:to>
                                    </p:animClr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b80a"/>
                                      </p:to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b80a"/>
                                      </p:to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b80a"/>
                                      </p:to>
                                    </p:animClr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b80a"/>
                                      </p:to>
                                    </p:animClr>
                                    <p:set>
                                      <p:cBhvr>
                                        <p:cTn id="4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Arial"/>
                <a:ea typeface="Arial"/>
              </a:rPr>
              <a:t>Вопрос 5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20840" y="119700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ыберите из перечисленного устройства вывода информаци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Скругленный прямоугольник 3"/>
          <p:cNvSpPr/>
          <p:nvPr/>
        </p:nvSpPr>
        <p:spPr>
          <a:xfrm>
            <a:off x="6121440" y="3946680"/>
            <a:ext cx="2678040" cy="11430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Монит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Скругленный прямоугольник 12"/>
          <p:cNvSpPr/>
          <p:nvPr/>
        </p:nvSpPr>
        <p:spPr>
          <a:xfrm>
            <a:off x="3284640" y="2500200"/>
            <a:ext cx="2603520" cy="11430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Наушн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Скругленный прямоугольник 13"/>
          <p:cNvSpPr/>
          <p:nvPr/>
        </p:nvSpPr>
        <p:spPr>
          <a:xfrm>
            <a:off x="519120" y="2500200"/>
            <a:ext cx="2519280" cy="11430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Принте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Скругленный прямоугольник 14"/>
          <p:cNvSpPr/>
          <p:nvPr/>
        </p:nvSpPr>
        <p:spPr>
          <a:xfrm>
            <a:off x="3327480" y="3956040"/>
            <a:ext cx="2519280" cy="11430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Скане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Скругленный прямоугольник 15"/>
          <p:cNvSpPr/>
          <p:nvPr/>
        </p:nvSpPr>
        <p:spPr>
          <a:xfrm>
            <a:off x="6121440" y="2500200"/>
            <a:ext cx="2733480" cy="11430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Графопо- строител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Скругленный прямоугольник 16"/>
          <p:cNvSpPr/>
          <p:nvPr/>
        </p:nvSpPr>
        <p:spPr>
          <a:xfrm>
            <a:off x="453960" y="3929040"/>
            <a:ext cx="2521080" cy="11430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Мыш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c32d2e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b80a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b80a"/>
                                      </p:to>
                                    </p:animClr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b80a"/>
                                      </p:to>
                                    </p:animClr>
                                    <p:set>
                                      <p:cBhvr>
                                        <p:cTn id="7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b80a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84" nodeType="clickEffect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b80a"/>
                                      </p:to>
                                    </p:animClr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92" nodeType="clickEffect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b80a"/>
                                      </p:to>
                                    </p:animClr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Екатерина</cp:lastModifiedBy>
  <dcterms:modified xsi:type="dcterms:W3CDTF">2013-04-12T13:34:32Z</dcterms:modified>
  <cp:revision>725</cp:revision>
  <dc:subject/>
  <dc:title>Слайд 1</dc:title>
</cp:coreProperties>
</file>