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417-3E5F-495E-ADFD-63CD33E6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245-5EB8-4B28-BCBA-7AEE69A4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3BE-D14A-4DF9-878C-06889A06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DCA-F15B-4C0E-9A12-0CB7202E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7D07F-08CE-4861-8372-6F787FF2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BB3CA-CDD7-4B86-9F79-6BE7655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EC9F6-0E71-4EDE-B5DA-5A333154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9FF91-86F9-4BC6-98C8-9C5C7CEE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D7D2B-CBB0-417D-AB4D-1DBD8054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57956-EE0B-4AAE-B50D-5B91AFE2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682BD-DAF3-4BAD-B5B8-A025EC7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EC8-D84A-4A21-B5DD-F58344E6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E6267-C5F5-40ED-9629-8C4CF7CD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852B4-6AF1-413D-856C-A7251987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3DE04-DB67-474E-A8DB-2008C9B7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6B43C-59F3-45F0-8845-58F3F567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A090B-6C88-4BE1-B583-B50C747C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EC3-CED5-4464-BBC2-8535522F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C27-11BF-4C80-8850-594037B0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321-3D4D-40F1-9FE0-C72A156F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F37-46B1-432D-A5B0-C08BA001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1F0-C8AC-4F45-B73F-3B6258DF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98F-0B22-436B-949F-5EB90959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D4F-D2C5-4BB0-AAFD-091770ED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3A54-46A2-493C-B24B-7AD323017B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9BB7-B4C8-43A9-83E4-78F7ACB5A7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Трудовое  воспитание и особенности воспитания старшекласснико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омендации родителя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Как можно раньше приобщать детей к труд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Реализовывать воспитательную функцию труда, стремиться делать труд детей осмысленн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Использовать игру-труд, как средство активности детей, стимулируя их инициати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Учитывать возможности и желания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омендации родителя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Обучать ребенка выполнению трудового зад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Практиковать в семье совместный труд детей и взросл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При организации труда детей учитывать три уровня помощи. Первый уровень – ребенку нужно помогать в выполнении работы; второй – есть необходимость в контроле или напоминании; третий – ребенок выполняет работу без посторонне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А.В. Сухомлин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002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вы мечтаете оставить после себя след на земле, не обязательно быть выдающимся писателем или ученым… Вы можете утвердить себя в обществе, воспитывая хороших детей… Творение человека – высшее напряжение всех ваших духовных сил. Это и жизненная мудрость, и мастерство, и искус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Каким же должны быть условия, чтобы труд стал эффективным средством воспит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азвитии ребенка существенное место должна занять трудовая деятельность. Именно трудолюбие и самостоятельность являются базовыми личностными образованиями. В труде проявляются особенности поведения ребенка – активность, стремление к самостоятельности, утверждение своей пози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Основное назначение трудовой деятельност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е назначение трудовой деятельности состоит в том, чтобы формировать активную позицию детей по отношению к миру, что предполагает проявление заботы о себе,об окружающ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Основная задача семьи в области трудового воспит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ганизация деятельности ребенка, чтобы она оказала на него максимальное воспитательное воздейств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Основные принципы работы семьи в трудовом воспитан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риобщение к труду через самообслужи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остепенное расширение круга обязанностей, наращивание их слож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тактичный и постоянный контроль качества выполнения трудовых поруч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формирование у ребенка уверенности в важности в выполнении порученной ему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чередование труда и отды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иды положительной мотива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им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нтере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Дол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Какие обязанности вы выполняете по дом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С удовольствием ли вы их выполняете? (70% - да, 30% – не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Всегда ли вы выполняете просьбу помочь в домашних делах? (90% - да, 10% - не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Что родители обещают за хорошо выполненную работу и как наказывают за непослушание?   ( 50% - да, 50% - нет );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Требуют от вас ваши родители качественное выполнения работы? ( 75% - да, 25 – не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Занимаетесь вы самообслуживанием и каким? ( 57% - нет 43 –да 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Поощряют ли вас родители за хорошо выполненную работу?  ( 87% - да            13% -  нет -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 Делится ли у вас работа на женскую и мужскую? ( 80% - да, 20% - нет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Какие виды работы вы выполняете вместе с родителями? ( никакие, ходьба в магазин, никакие, разные, смотреть в телевиз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4:08:23Z</dcterms:created>
  <dc:creator>дом</dc:creator>
  <dc:description/>
  <dc:language>en-US</dc:language>
  <cp:lastModifiedBy>дом</cp:lastModifiedBy>
  <dcterms:modified xsi:type="dcterms:W3CDTF">2012-03-14T09:13:0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