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A005-C358-4567-BEDB-D1F1BF897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D929-B30E-4A3B-8FDD-A7C6087E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D6CB-8031-4074-A2AD-69E02E5DA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0B64-263E-48EE-89C4-684AEF102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AA735-A546-4EB4-B0EB-5D5AF620A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B1E608-8241-4D80-B1CB-E484A68E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B20F3-E8FD-48B5-9C46-9D11FAB6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3FC6C-C33F-4244-AC94-8983A06F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4D29C-6BBE-4486-B10E-BF888AB5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F47E0-225B-411D-B55E-74EF0A85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C59B63-80AF-484C-9166-FA73C811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5BE4-5C2A-445A-B7F9-801A8DB6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D11C4-D79C-487A-90E3-39581929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D958B-B2F3-42C0-8D1F-D02F9A05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A4DD7-F7C3-48F5-82E9-D9F5D169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07FE4-86F4-4A3F-AFF2-942E54446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7A75F-D934-4500-A31F-B9A33488E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E5F9-A103-4866-A0F9-840F6141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F9CE-5DC9-4CDB-812B-A8037076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80E4-A236-4C3F-914A-8A58D746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25D5-DCA3-45C9-B22C-4CBB2EED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BCF3-8F2E-483B-A096-3AC8ED62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6760-8727-4492-A8CD-107F79FD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6399-B1AB-49EF-8AE3-52767F1C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6E7C-513D-48BD-80B2-7D6BDA075C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5207-9B5E-43A3-9F48-E297E69A38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Трудовое  воспитание и особенности воспитания старшеклассников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екомендации родителям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Как можно раньше приобщать детей к труд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Реализовывать воспитательную функцию труда, стремиться делать труд детей осмысленны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Использовать игру-труд, как средство активности детей, стимулируя их инициатив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Учитывать возможности и желания дет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екомендации родителям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 Обучать ребенка выполнению трудового зада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. Практиковать в семье совместный труд детей и взрослы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. При организации труда детей учитывать три уровня помощи. Первый уровень – ребенку нужно помогать в выполнении работы; второй – есть необходимость в контроле или напоминании; третий – ребенок выполняет работу без посторонней помощ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А.В. Сухомлинск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60020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сли вы мечтаете оставить после себя след на земле, не обязательно быть выдающимся писателем или ученым… Вы можете утвердить себя в обществе, воспитывая хороших детей… Творение человека – высшее напряжение всех ваших духовных сил. Это и жизненная мудрость, и мастерство, и искусств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Каким же должны быть условия, чтобы труд стал эффективным средством воспитани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развитии ребенка существенное место должна занять трудовая деятельность. Именно трудолюбие и самостоятельность являются базовыми личностными образованиями. В труде проявляются особенности поведения ребенка – активность, стремление к самостоятельности, утверждение своей пози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Основное назначение трудовой деятельност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ное назначение трудовой деятельности состоит в том, чтобы формировать активную позицию детей по отношению к миру, что предполагает проявление заботы о себе,об окружающи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Основная задача семьи в области трудового воспитан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рганизация деятельности ребенка, чтобы она оказала на него максимальное воспитательное воздейств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Основные принципы работы семьи в трудовом воспитани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приобщение к труду через самообслуживан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постепенное расширение круга обязанностей, наращивание их слож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тактичный и постоянный контроль качества выполнения трудовых поручен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формирование у ребенка уверенности в важности в выполнении порученной ему работ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чередование труда и отдых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иды положительной мотиваци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Приме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Интере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Дол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Какие обязанности вы выполняете по дому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С удовольствием ли вы их выполняете? (70% - да, 30% – нет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Всегда ли вы выполняете просьбу помочь в домашних делах? (90% - да, 10% - нет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Что родители обещают за хорошо выполненную работу и как наказывают за непослушание?   ( 50% - да, 50% - нет );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Требуют от вас ваши родители качественное выполнения работы? ( 75% - да, 25 – нет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. Занимаетесь вы самообслуживанием и каким? ( 57% - нет 43 –да 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. Поощряют ли вас родители за хорошо выполненную работу?  ( 87% - да            13% -  нет -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. Делится ли у вас работа на женскую и мужскую? ( 80% - да, 20% - нет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. Какие виды работы вы выполняете вместе с родителями? ( никакие, ходьба в магазин, никакие, разные, смотреть в телевизо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0T14:08:23Z</dcterms:created>
  <dc:creator>дом</dc:creator>
  <dc:description/>
  <dc:language>en-US</dc:language>
  <cp:lastModifiedBy>дом</cp:lastModifiedBy>
  <dcterms:modified xsi:type="dcterms:W3CDTF">2012-03-14T09:13:08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