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F7B4-EF87-4927-9B5A-060853987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0F0D-53DF-46C5-B368-B0819A3F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8730-5A0D-437C-B5C0-AA75280D9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00A5-04FA-4402-8FEA-FD57E97B5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6266-A43B-4B2B-9827-D023B56E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5F01-6B62-42C1-8012-4385B6A0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A915-B006-42A5-B422-9411932A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0F9D-E962-4D36-9EDC-2885D14A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7352-27A8-4EDF-B75F-E350448C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9D84-EFAD-49FC-93B1-5A6A0EC1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5CD5-C227-408C-B6A3-D497A3CE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D014-D7D0-4691-9172-CD9660ED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ff7a">
                <a:alpha val="29019"/>
              </a:srgbClr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8015-EBB4-4AE1-B705-FC2A9A07DB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рок литературного чтения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 кла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8053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Учитель МАОУ «Гимназия «Исто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Великого Новгорода Саленко О.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user\Desktop\Xj-u3_MsD9s.jpg"/>
          <p:cNvPicPr/>
          <p:nvPr/>
        </p:nvPicPr>
        <p:blipFill>
          <a:blip r:embed="rId1"/>
          <a:stretch/>
        </p:blipFill>
        <p:spPr>
          <a:xfrm>
            <a:off x="0" y="1341360"/>
            <a:ext cx="3384720" cy="4608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Users\user\Desktop\uRn7Ai0cGX0.jpg"/>
          <p:cNvPicPr/>
          <p:nvPr/>
        </p:nvPicPr>
        <p:blipFill>
          <a:blip r:embed="rId2"/>
          <a:stretch/>
        </p:blipFill>
        <p:spPr>
          <a:xfrm rot="1319400">
            <a:off x="5227200" y="1731600"/>
            <a:ext cx="2803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Сергей Владимирович Михал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user\Desktop\b13692605624a966675af8d4.jpg"/>
          <p:cNvPicPr/>
          <p:nvPr/>
        </p:nvPicPr>
        <p:blipFill>
          <a:blip r:embed="rId1"/>
          <a:stretch/>
        </p:blipFill>
        <p:spPr>
          <a:xfrm>
            <a:off x="250920" y="1268280"/>
            <a:ext cx="2881080" cy="4537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Users\user\Desktop\дядя.jpg"/>
          <p:cNvPicPr/>
          <p:nvPr/>
        </p:nvPicPr>
        <p:blipFill>
          <a:blip r:embed="rId2"/>
          <a:stretch/>
        </p:blipFill>
        <p:spPr>
          <a:xfrm rot="1137600">
            <a:off x="3765240" y="1257120"/>
            <a:ext cx="1998720" cy="305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:\Users\user\Desktop\мы едем.jpg"/>
          <p:cNvPicPr/>
          <p:nvPr/>
        </p:nvPicPr>
        <p:blipFill>
          <a:blip r:embed="rId3"/>
          <a:stretch/>
        </p:blipFill>
        <p:spPr>
          <a:xfrm rot="20274000">
            <a:off x="6313320" y="1957320"/>
            <a:ext cx="2216160" cy="2419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C:\Users\user\Desktop\а что у вас.jpg"/>
          <p:cNvPicPr/>
          <p:nvPr/>
        </p:nvPicPr>
        <p:blipFill>
          <a:blip r:embed="rId4"/>
          <a:stretch/>
        </p:blipFill>
        <p:spPr>
          <a:xfrm>
            <a:off x="4500720" y="422100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олковый словарь русского языка С.И.Ожегов и Н.Ю.Швед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Calibri"/>
              </a:rPr>
              <a:t>Возразит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заявить о своем  несоглас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Calibri"/>
              </a:rPr>
              <a:t>Рассердитьс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быть в раздражении, гневе по отношению к кому-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Calibri"/>
              </a:rPr>
              <a:t>Понапрасну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прасно, зр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Users\user\Desktop\prev.jpg"/>
          <p:cNvPicPr/>
          <p:nvPr/>
        </p:nvPicPr>
        <p:blipFill>
          <a:blip r:embed="rId1"/>
          <a:stretch/>
        </p:blipFill>
        <p:spPr>
          <a:xfrm>
            <a:off x="6084720" y="3284640"/>
            <a:ext cx="269892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C:\Users\user\Desktop\27758e912d607a34b008e5b98184e36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кваканье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113584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3735"/>
                </a:solidFill>
                <a:latin typeface="Calibri"/>
              </a:rPr>
              <a:t>Виталий Бианки «Лис и Мышонок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Мышонок  Мышонок ,я тебя подстерегу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А у меня в норке спале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Кушать захошешь-вылезеш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C:\Users\user\Desktop\3.jpg"/>
          <p:cNvPicPr/>
          <p:nvPr/>
        </p:nvPicPr>
        <p:blipFill>
          <a:blip r:embed="rId1"/>
          <a:stretch/>
        </p:blipFill>
        <p:spPr>
          <a:xfrm>
            <a:off x="1763640" y="3357720"/>
            <a:ext cx="5191200" cy="29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3735"/>
                </a:solidFill>
                <a:latin typeface="Calibri"/>
              </a:rPr>
              <a:t>Русская народная  сказка</a:t>
            </a:r>
            <a:br>
              <a:rPr sz="4000"/>
            </a:br>
            <a:r>
              <a:rPr b="0" lang="ru-RU" sz="4000" spc="-1" strike="noStrike">
                <a:solidFill>
                  <a:srgbClr val="953735"/>
                </a:solidFill>
                <a:latin typeface="Calibri"/>
              </a:rPr>
              <a:t> «Лиса и Журавль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шел журавль на званый пир. А лиса наварила манной каши и размазала по тарелке. Подала и потчует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Покушай, голубчик-куманек, - сама стряпал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Журавль стук-стук носом по тарелке, стучал, стучал - ничего не попадает! А лисица лижет себе да лижет кашу, так все сама и съела. Кашу съела и говорит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Не обессудь, куманек! Больше потчевать нече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C:\Users\user\Desktop\861b6605bf6b666a6edd0cc14c2bb9b6.jpg"/>
          <p:cNvPicPr/>
          <p:nvPr/>
        </p:nvPicPr>
        <p:blipFill>
          <a:blip r:embed="rId1"/>
          <a:stretch/>
        </p:blipFill>
        <p:spPr>
          <a:xfrm>
            <a:off x="1116000" y="1341360"/>
            <a:ext cx="709596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32523"/>
                </a:solidFill>
                <a:latin typeface="Calibri"/>
              </a:rPr>
              <a:t>Владимир Сутеев «Кораблик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пошла работа: в скорлупку соломинку воткнули, листок веревочкой перевязали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построили кораблик 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user\Desktop\Korablik07.jpg"/>
          <p:cNvPicPr/>
          <p:nvPr/>
        </p:nvPicPr>
        <p:blipFill>
          <a:blip r:embed="rId1"/>
          <a:stretch/>
        </p:blipFill>
        <p:spPr>
          <a:xfrm>
            <a:off x="5292720" y="2684520"/>
            <a:ext cx="3311640" cy="4173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user\Desktop\img_04.jpg"/>
          <p:cNvPicPr/>
          <p:nvPr/>
        </p:nvPicPr>
        <p:blipFill>
          <a:blip r:embed="rId2"/>
          <a:stretch/>
        </p:blipFill>
        <p:spPr>
          <a:xfrm>
            <a:off x="539640" y="3933720"/>
            <a:ext cx="454032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32523"/>
                </a:solidFill>
                <a:latin typeface="Calibri"/>
              </a:rPr>
              <a:t>Игорь Северянин «Её питомцы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Она кормила зимних птичек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росая крошки из ок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 их веселых переклич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меялась радостно она.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user\Desktop\picture.jpg"/>
          <p:cNvPicPr/>
          <p:nvPr/>
        </p:nvPicPr>
        <p:blipFill>
          <a:blip r:embed="rId1"/>
          <a:stretch/>
        </p:blipFill>
        <p:spPr>
          <a:xfrm>
            <a:off x="5580000" y="2421000"/>
            <a:ext cx="3384720" cy="4103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Users\user\Desktop\823784_12.jpg"/>
          <p:cNvPicPr/>
          <p:nvPr/>
        </p:nvPicPr>
        <p:blipFill>
          <a:blip r:embed="rId2"/>
          <a:stretch/>
        </p:blipFill>
        <p:spPr>
          <a:xfrm>
            <a:off x="539640" y="4076640"/>
            <a:ext cx="41036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15968"/>
                </a:solidFill>
                <a:latin typeface="Calibri"/>
              </a:rPr>
              <a:t>Русская народная сказка « Лисичка-сестричка и волк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ы, братец, как стемнеет, иди на реку, опусти хвост в прорубь, сиди да приговаривай: "ловись, рыбка, и большая и маленькая! Ловись, ловись, рыбка, и большая и маленькая!" – рыба сама на хвост и нацепится. Да смотри, не забудь: "и большая и маленькая!", а то если одна большая наловится, пожалуй, и не вытащиш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Users\user\Desktop\лисичка.png"/>
          <p:cNvPicPr/>
          <p:nvPr/>
        </p:nvPicPr>
        <p:blipFill>
          <a:blip r:embed="rId1"/>
          <a:stretch/>
        </p:blipFill>
        <p:spPr>
          <a:xfrm>
            <a:off x="2124000" y="836640"/>
            <a:ext cx="5523120" cy="56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0253f"/>
                </a:solidFill>
                <a:latin typeface="Calibri"/>
              </a:rPr>
              <a:t>«Аисты и лягушк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Не зря говорят, что аисты глотают лягушек, чтобы  понапрасну с ними не спорить.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C:\Users\user\Desktop\469842514.jpg"/>
          <p:cNvPicPr/>
          <p:nvPr/>
        </p:nvPicPr>
        <p:blipFill>
          <a:blip r:embed="rId1"/>
          <a:stretch/>
        </p:blipFill>
        <p:spPr>
          <a:xfrm>
            <a:off x="3708360" y="2924280"/>
            <a:ext cx="5040360" cy="3673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Users\user\Desktop\komik-kurbaga.jpg"/>
          <p:cNvPicPr/>
          <p:nvPr/>
        </p:nvPicPr>
        <p:blipFill>
          <a:blip r:embed="rId2"/>
          <a:stretch/>
        </p:blipFill>
        <p:spPr>
          <a:xfrm>
            <a:off x="395280" y="3716280"/>
            <a:ext cx="396072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5:12:31Z</dcterms:created>
  <dc:creator>user</dc:creator>
  <dc:description/>
  <dc:language>en-US</dc:language>
  <cp:lastModifiedBy>user</cp:lastModifiedBy>
  <dcterms:modified xsi:type="dcterms:W3CDTF">2013-04-12T14:03:25Z</dcterms:modified>
  <cp:revision>23</cp:revision>
  <dc:subject/>
  <dc:title>Урок литературного чтения 1 класс</dc:title>
</cp:coreProperties>
</file>