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49E-011E-4F3E-9776-75A064BE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14E-6F6B-4A34-B621-043538FD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B45-FF5D-44B1-8385-4E706EFF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C06-B88B-4C95-A5B5-5FAB358A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0FB-30C1-4A7A-97A2-DB78E056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8F35-F02D-4DA7-B6DA-222EDE5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41D-03D6-4EC0-A8EE-D5479269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2B9-8886-4D23-9CF8-AD0C329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D18-66F4-4955-9EBB-5EEF1689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A7B-EA3A-4B4D-93EE-54EF3F3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77F-69C1-4675-B32B-F95638AD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EBE-39B3-4B71-B144-0FE2AE7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ff7a">
                <a:alpha val="29019"/>
              </a:srgbClr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B23-B08B-46C7-8CBD-0E99F0726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рок литературного чте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80536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Учитель МАОУ «Гимназия «Ист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Великого Новгорода Саленко О.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user\Desktop\Xj-u3_MsD9s.jpg"/>
          <p:cNvPicPr/>
          <p:nvPr/>
        </p:nvPicPr>
        <p:blipFill>
          <a:blip r:embed="rId1"/>
          <a:stretch/>
        </p:blipFill>
        <p:spPr>
          <a:xfrm>
            <a:off x="0" y="1341360"/>
            <a:ext cx="3384720" cy="460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user\Desktop\uRn7Ai0cGX0.jpg"/>
          <p:cNvPicPr/>
          <p:nvPr/>
        </p:nvPicPr>
        <p:blipFill>
          <a:blip r:embed="rId2"/>
          <a:stretch/>
        </p:blipFill>
        <p:spPr>
          <a:xfrm rot="1319400">
            <a:off x="5227200" y="1731600"/>
            <a:ext cx="2803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user\Desktop\b13692605624a966675af8d4.jpg"/>
          <p:cNvPicPr/>
          <p:nvPr/>
        </p:nvPicPr>
        <p:blipFill>
          <a:blip r:embed="rId1"/>
          <a:stretch/>
        </p:blipFill>
        <p:spPr>
          <a:xfrm>
            <a:off x="250920" y="1268280"/>
            <a:ext cx="2881080" cy="4537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Users\user\Desktop\дядя.jpg"/>
          <p:cNvPicPr/>
          <p:nvPr/>
        </p:nvPicPr>
        <p:blipFill>
          <a:blip r:embed="rId2"/>
          <a:stretch/>
        </p:blipFill>
        <p:spPr>
          <a:xfrm rot="1137600">
            <a:off x="3765240" y="1257120"/>
            <a:ext cx="1998720" cy="305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user\Desktop\мы едем.jpg"/>
          <p:cNvPicPr/>
          <p:nvPr/>
        </p:nvPicPr>
        <p:blipFill>
          <a:blip r:embed="rId3"/>
          <a:stretch/>
        </p:blipFill>
        <p:spPr>
          <a:xfrm rot="20274000">
            <a:off x="6313320" y="1957320"/>
            <a:ext cx="221616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user\Desktop\а что у вас.jpg"/>
          <p:cNvPicPr/>
          <p:nvPr/>
        </p:nvPicPr>
        <p:blipFill>
          <a:blip r:embed="rId4"/>
          <a:stretch/>
        </p:blipFill>
        <p:spPr>
          <a:xfrm>
            <a:off x="4500720" y="422100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олковый словарь русского языка С.И.Ожегов и Н.Ю.Швед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Возраз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заявить о своем  несогла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Рассердитьс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ть в раздражении, гневе по отношению к кому-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Понапрасну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сно, зр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user\Desktop\prev.jpg"/>
          <p:cNvPicPr/>
          <p:nvPr/>
        </p:nvPicPr>
        <p:blipFill>
          <a:blip r:embed="rId1"/>
          <a:stretch/>
        </p:blipFill>
        <p:spPr>
          <a:xfrm>
            <a:off x="6084720" y="3284640"/>
            <a:ext cx="2698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:\Users\user\Desktop\27758e912d607a34b008e5b98184e36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квакань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1358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Виталий Бианки «Лис и Мышоно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Мышонок  Мышонок ,я тебя подстерег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 у меня в норке спал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Кушать захошешь-вылезе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user\Desktop\3.jpg"/>
          <p:cNvPicPr/>
          <p:nvPr/>
        </p:nvPicPr>
        <p:blipFill>
          <a:blip r:embed="rId1"/>
          <a:stretch/>
        </p:blipFill>
        <p:spPr>
          <a:xfrm>
            <a:off x="1763640" y="3357720"/>
            <a:ext cx="519120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Русская народная  сказка</a:t>
            </a:r>
            <a:br>
              <a:rPr sz="4000"/>
            </a:br>
            <a:r>
              <a:rPr b="0" lang="ru-RU" sz="4000" spc="-1" strike="noStrike">
                <a:solidFill>
                  <a:srgbClr val="953735"/>
                </a:solidFill>
                <a:latin typeface="Calibri"/>
              </a:rPr>
              <a:t> «Лиса и Журавл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шел журавль на званый пир. А лиса наварила манной каши и размазала по тарелке. Подала и потчуе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Покушай, голубчик-куманек, - сама стряп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Журавль стук-стук носом по тарелке, стучал, стучал - ничего не попадает! А лисица лижет себе да лижет кашу, так все сама и съела. Кашу съела и говори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Не обессудь, куманек! Больше потчевать неч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user\Desktop\861b6605bf6b666a6edd0cc14c2bb9b6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9596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Владимир Сутеев «Корабли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шла работа: в скорлупку соломинку воткнули, листок веревочкой перевязали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строили кораблик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user\Desktop\Korablik07.jpg"/>
          <p:cNvPicPr/>
          <p:nvPr/>
        </p:nvPicPr>
        <p:blipFill>
          <a:blip r:embed="rId1"/>
          <a:stretch/>
        </p:blipFill>
        <p:spPr>
          <a:xfrm>
            <a:off x="5292720" y="2684520"/>
            <a:ext cx="3311640" cy="417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user\Desktop\img_04.jpg"/>
          <p:cNvPicPr/>
          <p:nvPr/>
        </p:nvPicPr>
        <p:blipFill>
          <a:blip r:embed="rId2"/>
          <a:stretch/>
        </p:blipFill>
        <p:spPr>
          <a:xfrm>
            <a:off x="539640" y="3933720"/>
            <a:ext cx="45403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2523"/>
                </a:solidFill>
                <a:latin typeface="Calibri"/>
              </a:rPr>
              <a:t>Игорь Северянин «Её питомц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Она кормила зимних птиче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осая крошки из ок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их веселых перекли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ялась радостно она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user\Desktop\pictur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384720" cy="410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user\Desktop\823784_12.jpg"/>
          <p:cNvPicPr/>
          <p:nvPr/>
        </p:nvPicPr>
        <p:blipFill>
          <a:blip r:embed="rId2"/>
          <a:stretch/>
        </p:blipFill>
        <p:spPr>
          <a:xfrm>
            <a:off x="539640" y="4076640"/>
            <a:ext cx="4103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15968"/>
                </a:solidFill>
                <a:latin typeface="Calibri"/>
              </a:rPr>
              <a:t>Русская народная сказка « Лисичка-сестричка и вол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ы, братец, как стемнеет, иди на реку, опусти хвост в прорубь, сиди да приговаривай: "ловись, рыбка, и большая и маленькая! Ловись, ловись, рыбка, и большая и маленькая!" – рыба сама на хвост и нацепится. Да смотри, не забудь: "и большая и маленькая!", а то если одна большая наловится, пожалуй, и не вытащиш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user\Desktop\лисичка.png"/>
          <p:cNvPicPr/>
          <p:nvPr/>
        </p:nvPicPr>
        <p:blipFill>
          <a:blip r:embed="rId1"/>
          <a:stretch/>
        </p:blipFill>
        <p:spPr>
          <a:xfrm>
            <a:off x="2124000" y="836640"/>
            <a:ext cx="552312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253f"/>
                </a:solidFill>
                <a:latin typeface="Calibri"/>
              </a:rPr>
              <a:t>«Аисты и лягуш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Не зря говорят, что аисты глотают лягушек, чтобы  понапрасну с ними не спорить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user\Desktop\469842514.jpg"/>
          <p:cNvPicPr/>
          <p:nvPr/>
        </p:nvPicPr>
        <p:blipFill>
          <a:blip r:embed="rId1"/>
          <a:stretch/>
        </p:blipFill>
        <p:spPr>
          <a:xfrm>
            <a:off x="3708360" y="2924280"/>
            <a:ext cx="5040360" cy="367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Desktop\komik-kurbaga.jpg"/>
          <p:cNvPicPr/>
          <p:nvPr/>
        </p:nvPicPr>
        <p:blipFill>
          <a:blip r:embed="rId2"/>
          <a:stretch/>
        </p:blipFill>
        <p:spPr>
          <a:xfrm>
            <a:off x="395280" y="3716280"/>
            <a:ext cx="396072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5:12:31Z</dcterms:created>
  <dc:creator>user</dc:creator>
  <dc:description/>
  <dc:language>en-US</dc:language>
  <cp:lastModifiedBy>user</cp:lastModifiedBy>
  <dcterms:modified xsi:type="dcterms:W3CDTF">2013-04-12T14:03:25Z</dcterms:modified>
  <cp:revision>23</cp:revision>
  <dc:subject/>
  <dc:title>Урок литературного чтения 1 класс</dc:title>
</cp:coreProperties>
</file>