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622-7BD7-4EDE-AD91-AA6F338B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424C-CBF3-4A26-800C-228BC1C1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D2E-C809-4825-BA63-E28F1E70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40B5-3914-4B4A-9BBD-288367B1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1147-9BDE-4291-955E-491807A9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0EE3-4055-4AED-A8E2-7263CDC2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5072-E85A-43A1-8EC3-35E6C230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A22-EFE6-4A65-9F48-B5C9573B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D22-9FCE-4035-B218-3124995B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D517-AF59-4C2E-8E0C-20325717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DFE-3A83-4E33-85CF-8796CA8F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9176-9703-4C54-80B8-85BA5976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251D-4CE4-4463-8D7E-5322CDE82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zontytryslona.ru/lesnaya-shkola-kartinki.html" TargetMode="External"/><Relationship Id="rId2" Type="http://schemas.openxmlformats.org/officeDocument/2006/relationships/hyperlink" Target="http://zontytryslona.ru/lesnaya-shkola-kartinki.html" TargetMode="External"/><Relationship Id="rId3" Type="http://schemas.openxmlformats.org/officeDocument/2006/relationships/hyperlink" Target="http://zontytryslona.ru/lesnaya-shkola-kartinki.html" TargetMode="External"/><Relationship Id="rId4" Type="http://schemas.openxmlformats.org/officeDocument/2006/relationships/hyperlink" Target="http://zontytryslona.ru/lesnaya-shkola-kartinki.html" TargetMode="External"/><Relationship Id="rId5" Type="http://schemas.openxmlformats.org/officeDocument/2006/relationships/hyperlink" Target="http://zontytryslona.ru/lesnaya-shkola-kartinki.html" TargetMode="External"/><Relationship Id="rId6" Type="http://schemas.openxmlformats.org/officeDocument/2006/relationships/hyperlink" Target="http://zontytryslona.ru/lesnaya-shkola-kartinki.html" TargetMode="External"/><Relationship Id="rId7" Type="http://schemas.openxmlformats.org/officeDocument/2006/relationships/hyperlink" Target="http://zontytryslona.ru/lesnay&#8230;" TargetMode="External"/><Relationship Id="rId8" Type="http://schemas.openxmlformats.org/officeDocument/2006/relationships/hyperlink" Target="http://qepik.binhoster.com/Dru&#8230;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08360" y="620640"/>
            <a:ext cx="453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усского языка 1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95640" y="2421000"/>
            <a:ext cx="69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БОУ «Отрадненская средняя школа № 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итель Долженкова О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95280" y="333360"/>
            <a:ext cx="8424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>
                    <a:alpha val="53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цени свою работу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>
                  <a:alpha val="53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844640"/>
            <a:ext cx="1440000" cy="122400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1773360"/>
            <a:ext cx="1440000" cy="1224000"/>
          </a:xfrm>
          <a:prstGeom prst="smileyFace">
            <a:avLst>
              <a:gd name="adj" fmla="val 972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93080" y="1628640"/>
            <a:ext cx="1439640" cy="1224000"/>
          </a:xfrm>
          <a:prstGeom prst="smileyFace">
            <a:avLst>
              <a:gd name="adj" fmla="val -4652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835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zontytryslona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lesnay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- лесная шк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300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zontytryslona.ru/lesnay…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 медвежо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916280"/>
            <a:ext cx="56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qepik.binhoster.com/Dru…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 крошка енот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732720" y="2852640"/>
            <a:ext cx="1704960" cy="3408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3168720" cy="2992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49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ченики 1 б кла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84464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ено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08720" y="1773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медвежо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1253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верьте работу учеников лесной школы и исправьте ошиб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Проверочная работа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Задание № 1 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882800" cy="1778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67640" y="115920"/>
            <a:ext cx="109368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395280" y="2492280"/>
          <a:ext cx="8291520" cy="363384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36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зета, класс, дорога, язык, русский, берёза, карова, варобей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468360" y="2637000"/>
            <a:ext cx="41036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Газета, клас, дорога, язык, руский, берёза, корова, вороб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Задание № 2 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Раздели слова для перен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584360" cy="1495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667640" y="115920"/>
            <a:ext cx="109368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395280" y="2492280"/>
          <a:ext cx="8291520" cy="363384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36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- сса, чай-ка, пе-нёк, ден-ьки, конь-ки, пять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468360" y="2637000"/>
            <a:ext cx="41036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ас-са, чай-ка, пе-нёк, день-ки, ко- ньки, пе-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Задание № 3 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Определи количество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звуков и букв в сл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882800" cy="1778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67640" y="115920"/>
            <a:ext cx="109368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395280" y="2492280"/>
          <a:ext cx="8291520" cy="363384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36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ка- 5 б., 5 зв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чь – 4 б., 4 зв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ма- 3 б., 4 зв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468360" y="2637000"/>
            <a:ext cx="4103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айка- 5 б., 5 з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чь – 4 б., 3 з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Яма- 3 б., 4 з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Задание № 4 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Запиши звуковой состав слов: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пятёрка и мё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9280" y="392040"/>
            <a:ext cx="1440000" cy="1360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667640" y="115920"/>
            <a:ext cx="1093680" cy="2185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859280" y="2276640"/>
            <a:ext cx="396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276640"/>
            <a:ext cx="396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2492280"/>
            <a:ext cx="37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ат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рка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2492280"/>
            <a:ext cx="3816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ятёрка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0400" y="3789360"/>
            <a:ext cx="36943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'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32360" y="3860640"/>
            <a:ext cx="36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мёд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Задание № 5 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Запиши слова </a:t>
            </a:r>
            <a:br>
              <a:rPr sz="3200"/>
            </a:b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в алфавитном поряд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882800" cy="1778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67640" y="115920"/>
            <a:ext cx="109368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395280" y="2492280"/>
          <a:ext cx="8497440" cy="3633840"/>
        </p:xfrm>
        <a:graphic>
          <a:graphicData uri="http://schemas.openxmlformats.org/drawingml/2006/table">
            <a:tbl>
              <a:tblPr/>
              <a:tblGrid>
                <a:gridCol w="4249440"/>
                <a:gridCol w="4248000"/>
              </a:tblGrid>
              <a:tr h="36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сук, волк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от, заяц, лиса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68360" y="2637000"/>
            <a:ext cx="4103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Заяц, волк, лис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барсук, ено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95280" y="333360"/>
            <a:ext cx="8424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>
                    <a:alpha val="53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цени работу енотика и медвежонк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>
                  <a:alpha val="53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844640"/>
            <a:ext cx="1440000" cy="122400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08360" y="1773360"/>
            <a:ext cx="1440000" cy="1224000"/>
          </a:xfrm>
          <a:prstGeom prst="smileyFace">
            <a:avLst>
              <a:gd name="adj" fmla="val 972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93080" y="1628640"/>
            <a:ext cx="1439640" cy="1224000"/>
          </a:xfrm>
          <a:prstGeom prst="smileyFace">
            <a:avLst>
              <a:gd name="adj" fmla="val -4652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4:02:11Z</dcterms:created>
  <dc:creator>User</dc:creator>
  <dc:description/>
  <dc:language>en-US</dc:language>
  <cp:lastModifiedBy>User</cp:lastModifiedBy>
  <dcterms:modified xsi:type="dcterms:W3CDTF">2013-04-12T18:39:36Z</dcterms:modified>
  <cp:revision>3</cp:revision>
  <dc:subject/>
  <dc:title>Слайд 1</dc:title>
</cp:coreProperties>
</file>