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875-6E46-4B75-8F10-7DE528D7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C28-1A44-4004-8A79-607DCB2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5F0-04F8-4157-9E01-16EC2BE5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4C5-43E7-43D0-9E48-1C2444D0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66DA-4E76-4A94-A1FC-F167E9E3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C003-0DB8-4A39-A0D0-C09262A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974A-19FE-489D-8529-31FE5F8E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B7A-9C0F-418F-86D5-E0C4C2E0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985-695A-4234-9759-6EFCACE3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50A-9109-4263-9D72-FFA40C8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EA1-FC90-45B3-BC7A-E94D447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F13-9C5B-4329-ACBA-F05DD27E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C73-B87F-4658-9C51-935D5C1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EA7-1546-437F-A089-A565EB7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F04-BDBD-44BB-84A3-CC39C00A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0E5F-D954-4DA6-8E3D-45E9A9E7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B3D4-58FB-45A6-A663-C817297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265-B584-4E28-8270-5C6497A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274-CBFF-495F-9D60-ADBD4E7C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2C7-4D45-497F-8967-21B5C35F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97B-ACDE-4786-87F1-666B7F6E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DE5-73A5-4A62-9C03-9F014AA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912-549C-4728-A823-CA86DDE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F0F-2FB9-401E-941B-9E60AF4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7BB-CE9F-47DC-837D-0C0F5EEB179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EEA-589B-4B26-B73D-88661C3B1FB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53f35"/>
                </a:solidFill>
                <a:latin typeface="Segoe UI Semibold"/>
              </a:rPr>
              <a:t>1. Как звали главного героя?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2469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10. Как друзья дали понять главному герою, что они знают как вернуть его смех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они прислали ему записк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прислали телеграмм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пришли к нему сам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прислали почтового голуб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11. Кому подарил главный герой пароходство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07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А. Джонн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. Крешимир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. Рикерт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Г. Всем трои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12. Как главный герой вернул свой смех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4572000" cy="2590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724280" cy="3108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343400" y="1752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ОТВЕТЫ</a:t>
            </a:r>
            <a:endParaRPr b="0" lang="en-US" sz="4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. Тим Тал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. 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. 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. С мачехой и сводным брат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5. 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6. Это было условием контрак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7.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8. Кукольный теат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9. 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.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1. 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2. Заключил пар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3f35"/>
                </a:solidFill>
                <a:latin typeface="Arial"/>
              </a:rPr>
              <a:t>2. Где познакомился главный герой с Тречем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А. в парк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Б. в магазин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В. в школ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Г. на скачках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648320" y="3048120"/>
            <a:ext cx="2752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3f35"/>
                </a:solidFill>
                <a:latin typeface="Arial"/>
              </a:rPr>
              <a:t>3. Что купил Треч у Крешимира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А. смех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Б. глаз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В. но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Г. улыбку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962520" y="1143000"/>
            <a:ext cx="340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2285640"/>
            <a:ext cx="7386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4. С кем жил главный герой после смерти отца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3245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5. Как называлась кукольная комедия, которую главный герой смотрел вместе с Рикертом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3276360"/>
            <a:ext cx="7386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А. «Царевна Несмеян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Б. «Золушк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. «Гусь,гусь – приклеюсь как возьмусь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Г. Пинокки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6. Почему главный герой не мог никому рассказать, что с ним произошло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29718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7. В кого переоделся главный герой, когда убегал из отеля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2514600"/>
            <a:ext cx="7386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в моря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в нищег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в горничную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в продавца пирожкам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029200" y="21337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8. Что попросил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главный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герой у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Треча на своё 16-лети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357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4772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9. Что хотел выпускать на своей фабрике Треч под названием «Тим Талер»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2285640"/>
            <a:ext cx="7386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конфет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маргари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шокола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печень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809880" y="22860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5:51:04Z</dcterms:created>
  <dc:creator>800091</dc:creator>
  <dc:description/>
  <dc:language>en-US</dc:language>
  <cp:lastModifiedBy>Ленчик</cp:lastModifiedBy>
  <dcterms:modified xsi:type="dcterms:W3CDTF">2013-04-08T17:54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