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39D-410F-435E-ADBF-C135BF8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50E-CDD1-4E53-AE1C-92A26D26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7E0-2FCD-4CCC-95F8-A4DBFF77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AD7-1459-43E4-8584-1ADC7F0C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BD0D-AC0B-413D-981A-DC638A0B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BBD9-FF56-442B-B9AD-2C375FFF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551-9F60-4C8F-A59E-0F9B644E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1735-0301-497B-9091-68A5D4D6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CF41-CA95-4E9C-BB3B-BC512761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B7F9-66A7-43ED-97E8-D3F491D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55D1-DA90-4266-AB26-576E134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7A9-79F0-403B-91D2-7EF7A512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EC50-EC3D-4DE9-BF59-8079DE2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7F41-C0C1-4408-9CDE-97DD478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FA16-E336-4AC2-82EA-F702301C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B614-FB20-48DB-A622-AEA2EF32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7087-12DB-4F0B-AF55-464E4E77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3A3-1EFD-4D59-AAD8-EC708DF5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6D5-9685-4EBC-A282-3BE9F6AD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2408-7FFD-468B-BF44-6422348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C6D-38F4-44E1-855D-17B8BA72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697-E670-451B-974A-57BB69C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956-44C2-40D7-9AF5-8414FAC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13B-FEAA-4881-B946-D9702567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3239-CA5A-4C25-B294-19013E620D6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6b18b"/>
                </a:gs>
                <a:gs pos="50000">
                  <a:srgbClr val="ebd2a5"/>
                </a:gs>
                <a:gs pos="100000">
                  <a:srgbClr val="c6b1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4c5c4d"/>
                </a:gs>
                <a:gs pos="50000">
                  <a:srgbClr val="a5c9a8"/>
                </a:gs>
                <a:gs pos="100000">
                  <a:srgbClr val="4c5c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FC6D-66CC-4E56-82CB-83B8AB7374A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53f35"/>
                </a:solidFill>
                <a:latin typeface="Segoe UI Semibold"/>
              </a:rPr>
              <a:t>1. Как звали главного героя?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2469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10. Как друзья дали понять главному герою, что они знают как вернуть его смех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21337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они прислали ему записк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прислали телеграмм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пришли к нему сам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прислали почтового голубя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3f35"/>
                </a:solidFill>
                <a:latin typeface="Arial"/>
              </a:rPr>
              <a:t>11. Кому подарил главный герой пароходство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079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А. Джонн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Б. Крешимир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В. Рикерту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Г. Всем троим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343400" y="152388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12. Как главный герой вернул свой смех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4572000" cy="2590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4724280" cy="3108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343400" y="17524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ОТВЕТЫ</a:t>
            </a:r>
            <a:endParaRPr b="0" lang="en-US" sz="48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. Тим Тале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2. 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3. 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4. С мачехой и сводным брато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5. В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6. Это было условием контракт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7.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8. Кукольный теат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9. 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0. 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1. Г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12. Заключил пар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3f35"/>
                </a:solidFill>
                <a:latin typeface="Arial"/>
              </a:rPr>
              <a:t>2. Где познакомился главный герой с Тречем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А. в парк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Б. в магазин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В. в школе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1311"/>
                </a:solidFill>
                <a:latin typeface="Arial"/>
              </a:rPr>
              <a:t>Г. на скачках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4648320" y="3048120"/>
            <a:ext cx="2752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3f35"/>
                </a:solidFill>
                <a:latin typeface="Arial"/>
              </a:rPr>
              <a:t>3. Что купил Треч у Крешимира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А. смех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Б. глаз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В. нос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"/>
              </a:rPr>
              <a:t>Г. улыбку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3962520" y="1143000"/>
            <a:ext cx="3402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2285640"/>
            <a:ext cx="7386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3f35"/>
                </a:solidFill>
                <a:latin typeface="Arial"/>
              </a:rPr>
              <a:t>4. С кем жил главный герой после смерти отца?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73245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5. Как называлась кукольная комедия, которую главный герой смотрел вместе с Рикертом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3276360"/>
            <a:ext cx="7386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А. «Царевна Несмеян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Б. «Золушка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В. «Гусь,гусь – приклеюсь как возьмусь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Г. Пиноккио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6. Почему главный герой не мог никому рассказать, что с ним произошло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19720" y="3809880"/>
            <a:ext cx="29718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7. В кого переоделся главный герой, когда убегал из отеля?</a:t>
            </a:r>
            <a:endParaRPr b="0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2514600"/>
            <a:ext cx="7386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в моряка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в нищего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в горничную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в продавца пирожками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029200" y="21337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35049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8. Что попросил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главный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герой у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Треча на своё 16-летие?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257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357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4772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53f35"/>
                </a:solidFill>
                <a:latin typeface="Arial"/>
              </a:rPr>
              <a:t>9. Что хотел выпускать на своей фабрике Треч под названием «Тим Талер»?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2285640"/>
            <a:ext cx="7386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А. конфет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Б. маргари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В. шоколад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Г. печень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3809880" y="22860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5:51:04Z</dcterms:created>
  <dc:creator>800091</dc:creator>
  <dc:description/>
  <dc:language>en-US</dc:language>
  <cp:lastModifiedBy>Ленчик</cp:lastModifiedBy>
  <dcterms:modified xsi:type="dcterms:W3CDTF">2013-04-08T17:54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