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0A27-2F41-4697-9E05-9BBDC3876C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1F08-A210-43C2-823A-84F840FBF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206-BDA9-46D4-9D84-C003CE8A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082-621C-48A3-8DC5-5BFCB47E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AF8-26E5-493B-A3E8-ABAED918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481-5114-41C0-8D3B-50FE19DB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973A-DBBE-46A9-A0D3-85EC06A28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D31-0E81-4034-903C-587FA413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711-FFA0-4682-B7BA-4BC28CB9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8A3C-95D9-467B-BFD2-BB6F57DF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87B0-1840-41E8-B6A9-73DEB40F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BF6-982F-47C4-8CE7-BD3085A0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3B13-AD06-49C0-9CEE-FCDE73E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40F-BC81-4256-8A71-21C9E70C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D7C6-5330-4541-A527-7470E304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5E36-5FA9-4BCB-8D26-A20CE9B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5D44-E6E7-489A-8744-7E4F0FD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24BE-90E4-4859-96B2-3BD52535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4F28-EA61-4BC6-9911-CAB69E81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0ACD-72E7-4D9F-8A1D-E8A6FB31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4566-2745-478B-9B12-00E038B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77AA-029B-4F74-B931-E9E99FC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5BF64-9FB2-4843-8864-F4A9B5E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6A0E8-4E0D-4788-BD52-031A857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616-1F64-472C-8B83-817B8F12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CFCB-E358-4EF8-8706-E9DB3279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D611-3BAA-4D5C-A9A7-5FAE0A9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7562-1048-4019-AF44-B24FB8DC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B0B4-D38A-4ABF-B4D3-D26436E0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43B5-C3BD-4414-BE76-4B161FC4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816A-081D-4CF7-9062-C99E29F2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E81A-B9E0-4FEB-99A0-C5B51862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5B7D-4517-4561-808C-C5EF7AF6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6AB8-E9DD-4DD8-B972-18504661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8970-254D-4EFF-AF26-0BB55496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2E0-CAE9-472F-9210-D519E1DF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86C8-6AF8-42E5-B6F5-2944A48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A0D2-3B7F-4FF0-BE64-A665A15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35E52-A3C6-43E1-BDAD-86EC832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C377-DC3A-4EBA-A065-BB6C3E2E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C694-51A3-4DEE-8A72-33A203E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2AA8-1BD8-4AEE-A28D-796A95A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6F010-203A-4C4E-8B57-0D8902C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917D-2F65-416E-A74C-8299C997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4760F-0B54-4882-BEB7-CF3DCEF5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7761B-ED53-46EC-8715-AA3CDB8A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FE9-1EB8-46E7-BE6B-2FD57672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17AB7-12C9-4D99-84DA-994310F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5793-AD3F-4866-BFFC-65EA47E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20E2C-F3B8-4813-9241-B1079D12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8A74-8272-42BB-9C52-7FE12B63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2B95-C76D-4D8D-B081-E93E16E0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11DBF-220F-4FF6-AA14-BDDAD3A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E72A-8407-4BA0-B11F-D7A910B3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81F4A-B2B0-4D71-BDE1-1365B71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58AAC-8682-4673-B8AF-8E4DB6C1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25156-5AF3-4CE9-9E06-52820C8E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30A2-CB38-42C6-88B6-3B53754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2561-6F39-4A02-AD97-81A2F235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DCF-BDCA-4C16-9BA9-5A2B4FA9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836-62AE-46B2-887F-4045EF70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B83-2CF8-4E2D-A72C-27A56357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2333-99B8-446A-AB1A-028093AD89B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A593-B2E8-4AFE-9A8E-8CAB59F3C9A9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17D-04F7-4FF8-9DDA-BD91F305871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EAFF-6377-43C9-B397-54400F05FD38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5E74-624E-4CD9-8E75-E43325393B7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предметный проект « Окно в мир» –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Памятные даты 2012- 2013 г.г.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ма  проекта: « Воспитание  в  семье Николая </a:t>
            </a:r>
            <a:r>
              <a:rPr b="0" lang="en-US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I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втор  проекта: Ветошкина  Милена, 7 класс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-тьютер: Ясинская В. 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я: Юрова С. В. ( история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сторнова Ю. А. ( английский язык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ешуков С.Н. ( русский язык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каров Т. А. ( география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013 г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Государыня занималась детьми сама – ведь постоянный контакт с матерью особенно важен для девочек. Она проявляла свой авторитет при необходимости, и это не нарушало той атмосферы абсолютного доверия, которая царила между нею и дочерьми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3" descr="C:\Users\Sasha\Desktop\ad83c0658b22.jpeg"/>
          <p:cNvPicPr/>
          <p:nvPr/>
        </p:nvPicPr>
        <p:blipFill>
          <a:blip r:embed="rId2"/>
          <a:stretch/>
        </p:blipFill>
        <p:spPr>
          <a:xfrm>
            <a:off x="4071960" y="1428840"/>
            <a:ext cx="4143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00000"/>
                </a:solidFill>
                <a:latin typeface="Trebuchet MS"/>
              </a:rPr>
              <a:t>В силу своего положения великие княжны должны были иметь обязанности перед обществом, они должны были научиться достойно их выполнять. Но в представлении государыни Александры Федоровны спора не было в том, что дом и семья – это то, что держится в первую очередь на женщине и каждая девушка обязана понять это еще в детстве.</a:t>
            </a:r>
            <a:br>
              <a:rPr sz="15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c00000"/>
                </a:solidFill>
                <a:latin typeface="Trebuchet MS"/>
              </a:rPr>
              <a:t> </a:t>
            </a:r>
            <a:br>
              <a:rPr sz="1500"/>
            </a:br>
            <a:r>
              <a:rPr b="1" i="1" lang="ru-RU" sz="15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2" descr="C:\Users\Sasha\Desktop\0_63027_e770000b_XL.jpg"/>
          <p:cNvPicPr/>
          <p:nvPr/>
        </p:nvPicPr>
        <p:blipFill>
          <a:blip r:embed="rId2"/>
          <a:stretch/>
        </p:blipFill>
        <p:spPr>
          <a:xfrm>
            <a:off x="3929040" y="1428840"/>
            <a:ext cx="42861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7345440" cy="1901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Users\Sasha\Desktop\1342050064_romanovy-1.jpg"/>
          <p:cNvPicPr/>
          <p:nvPr/>
        </p:nvPicPr>
        <p:blipFill>
          <a:blip r:embed="rId2"/>
          <a:stretch/>
        </p:blipFill>
        <p:spPr>
          <a:xfrm>
            <a:off x="357120" y="2357280"/>
            <a:ext cx="77868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5884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5174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Picture 2" descr="C:\Users\Sasha\Desktop\romanov.jpg"/>
          <p:cNvPicPr/>
          <p:nvPr/>
        </p:nvPicPr>
        <p:blipFill>
          <a:blip r:embed="rId2"/>
          <a:stretch/>
        </p:blipFill>
        <p:spPr>
          <a:xfrm>
            <a:off x="571680" y="2143080"/>
            <a:ext cx="8143560" cy="4510080"/>
          </a:xfrm>
          <a:prstGeom prst="rect">
            <a:avLst/>
          </a:prstGeom>
          <a:ln w="57240">
            <a:solidFill>
              <a:srgbClr val="fcbb8b"/>
            </a:solidFill>
            <a:miter/>
          </a:ln>
          <a:effectLst>
            <a:outerShdw dist="50891" dir="12306891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90596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0200"/>
            <a:ext cx="375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Супруга Николая II, несомненно, лучше многих понимала, как велико предназначение женщины, как свята ее истинная красота – в вере, чистоте и смирении. В этом и сила женщины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Picture 3" descr="C:\Users\Sasha\Desktop\ad8e7385fe07.jpeg"/>
          <p:cNvPicPr/>
          <p:nvPr/>
        </p:nvPicPr>
        <p:blipFill>
          <a:blip r:embed="rId2"/>
          <a:stretch/>
        </p:blipFill>
        <p:spPr>
          <a:xfrm>
            <a:off x="4475160" y="1600200"/>
            <a:ext cx="366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618400" cy="1158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0" y="1523520"/>
            <a:ext cx="52149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Дочери императора Николая II были воспитаны в духе Нового Завета. Помогая своим девочкам взрослеть и познавать жизнь, родители просто руководствовались мудрыми принципами собственной жизни.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rebuchet MS"/>
              </a:rPr>
              <a:t>Прежде чем воспитывать детей, необходимо воспитать себя. Вот один из принципов воспитания в Царской Семье. Мы должны быть сами именно такими, какими хотим видеть наших детей. Для Государыни во взаимоотношениях с супругом очень важными были терпение, взаимное внимание, единство интересов, удерживание от ссор, то есть постоянная работа над собой. Дети видели все это и понимали. Они росли в атмосфере любви и уважения родителей друг к другу. Анна Вырубова вспоминала: «За 12 лет я никогда не слыхала ни одного громкого слова между ними, ни разу не видала их даже сколько-нибудь раздраженными друг против друга». Успехи воспитания оказались несомненными: великие княжны выросли простыми, ласковыми, образованными девушками, ни в чем не выказывавшими своего положения в обращении с другими. Трудно представить себе более очаровательных, чистых и умных девочек. Трудно определимая прелесть этих четырех сестер состояла в их большой простоте, естественности, свежести и врожденной доброте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285880" y="1600200"/>
            <a:ext cx="241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C:\Users\Sasha\Desktop\13ccb58bb928.jpg"/>
          <p:cNvPicPr/>
          <p:nvPr/>
        </p:nvPicPr>
        <p:blipFill>
          <a:blip r:embed="rId2"/>
          <a:stretch/>
        </p:blipFill>
        <p:spPr>
          <a:xfrm>
            <a:off x="5214960" y="1571760"/>
            <a:ext cx="3929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0480" y="-6480"/>
            <a:ext cx="9223560" cy="208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C:\Users\Sasha\Desktop\nikolay2_olga_480x706.jpg"/>
          <p:cNvPicPr/>
          <p:nvPr/>
        </p:nvPicPr>
        <p:blipFill>
          <a:blip r:embed="rId2"/>
          <a:stretch/>
        </p:blipFill>
        <p:spPr>
          <a:xfrm>
            <a:off x="0" y="2143080"/>
            <a:ext cx="2143080" cy="4044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C:\Users\Sasha\Desktop\0_6d846_322d876c_XL.jpg"/>
          <p:cNvPicPr/>
          <p:nvPr/>
        </p:nvPicPr>
        <p:blipFill>
          <a:blip r:embed="rId3"/>
          <a:stretch/>
        </p:blipFill>
        <p:spPr>
          <a:xfrm>
            <a:off x="6572160" y="2143080"/>
            <a:ext cx="2357640" cy="3983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:\Users\Sasha\Desktop\nikolay2_tatyana_480x720.jpg"/>
          <p:cNvPicPr/>
          <p:nvPr/>
        </p:nvPicPr>
        <p:blipFill>
          <a:blip r:embed="rId4"/>
          <a:stretch/>
        </p:blipFill>
        <p:spPr>
          <a:xfrm>
            <a:off x="2143080" y="2143080"/>
            <a:ext cx="2071800" cy="4000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C:\Users\Sasha\Desktop\nikolay2_mariya_480x737.jpg"/>
          <p:cNvPicPr/>
          <p:nvPr/>
        </p:nvPicPr>
        <p:blipFill>
          <a:blip r:embed="rId5"/>
          <a:stretch/>
        </p:blipFill>
        <p:spPr>
          <a:xfrm>
            <a:off x="4143240" y="2143080"/>
            <a:ext cx="2451240" cy="40719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8"/>
          <p:cNvSpPr/>
          <p:nvPr/>
        </p:nvSpPr>
        <p:spPr>
          <a:xfrm flipV="1">
            <a:off x="2286000" y="3752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42920" y="1571760"/>
            <a:ext cx="4286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Внешность Алексея сочетала в себе лучшее от отца и матери. По воспоминаниям современников, Алексей был красивым мальчиком, с чистым, открытым лицом. Он был слишком худым — сказывалась болезнь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Характер у мальчика был покладистый, он обожал родителей и сестер, а те, в свою очередь, души не чаяли в юном цесаревиче, особенно Великая Княжна Мария.  Алексей был способным в учёбе, как и сёстры, делал успехи в изучении языков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rebuchet MS"/>
              </a:rPr>
              <a:t>Он совмещал в себе черты отца и матери: унаследовал простоту отца, был чужд надменности, заносчивости. Мать хотела, но не могла быть с ним строгой. Его учительница Битнер говорит о нём: «Он имел большую волю и никогда не подчинился бы никакой женщине». Он был весьма дисциплинирован, замкнут и очень терпелив. Несомненно, болезнь наложила на него свой отпечаток и выработала в нём эти черты. Он не любил придворного этикета, любил быть с солдатами и учился их языку. Он очень любил армию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3" descr="C:\Users\Sasha\Desktop\280px-Алексей_Романов.jpg"/>
          <p:cNvPicPr/>
          <p:nvPr/>
        </p:nvPicPr>
        <p:blipFill>
          <a:blip r:embed="rId2"/>
          <a:stretch/>
        </p:blipFill>
        <p:spPr>
          <a:xfrm>
            <a:off x="4714920" y="1600200"/>
            <a:ext cx="40719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Воспитание дочерей в царской семье было строгим, поскольку так была воспитана сама Александра Федоровн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C:\Users\Sasha\Desktop\748.jpg"/>
          <p:cNvPicPr/>
          <p:nvPr/>
        </p:nvPicPr>
        <p:blipFill>
          <a:blip r:embed="rId2"/>
          <a:stretch/>
        </p:blipFill>
        <p:spPr>
          <a:xfrm>
            <a:off x="4178160" y="2052720"/>
            <a:ext cx="352116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63128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28760" y="1523880"/>
            <a:ext cx="37144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аждый рубль,сэкономленный на каком-нибудь роскошном платье, шел на благотворитель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Когда началась Первая мировая война, новые платья вообще престали шиться, великим княжнам приходилось самим аккуратно чинить свою одежд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3" descr="C:\Users\Sasha\Desktop\989714bcd912.jpeg"/>
          <p:cNvPicPr/>
          <p:nvPr/>
        </p:nvPicPr>
        <p:blipFill>
          <a:blip r:embed="rId2"/>
          <a:stretch/>
        </p:blipFill>
        <p:spPr>
          <a:xfrm>
            <a:off x="4071960" y="157176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10:12Z</dcterms:created>
  <dc:creator>Владелец</dc:creator>
  <dc:description/>
  <dc:language>en-US</dc:language>
  <cp:lastModifiedBy>Владелец</cp:lastModifiedBy>
  <dcterms:modified xsi:type="dcterms:W3CDTF">2013-04-10T17:51:30Z</dcterms:modified>
  <cp:revision>11</cp:revision>
  <dc:subject/>
  <dc:title>Воспитание в семье Николая II</dc:title>
</cp:coreProperties>
</file>