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4.jpeg" ContentType="image/jpeg"/>
  <Override PartName="/ppt/media/image25.png" ContentType="image/png"/>
  <Override PartName="/ppt/media/image3.png" ContentType="image/png"/>
  <Override PartName="/ppt/media/image17.jpeg" ContentType="image/jpeg"/>
  <Override PartName="/ppt/media/image27.png" ContentType="image/png"/>
  <Override PartName="/ppt/media/image26.jpeg" ContentType="image/jpeg"/>
  <Override PartName="/ppt/media/image1.png" ContentType="image/png"/>
  <Override PartName="/ppt/media/image24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8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4.jpeg" ContentType="image/jpeg"/>
  <Override PartName="/ppt/media/image2.jpeg" ContentType="image/jpeg"/>
  <Override PartName="/ppt/media/image23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38069-FA57-4C3F-9309-4C953884742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21D28-7463-4CEB-BF1B-9C502F96E73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B7B8-C4FE-4396-A7A8-3D219B659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CDDB-8B87-4BF8-B44D-2248777E7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CCAC-61FA-44A4-8E4A-7A385A1AE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D16F-1DCC-4C81-945C-F1F944640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E2B73-DB71-4C45-AA98-1282EDC35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CEC93-1C5E-483B-ACE8-B9300C1F2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89245-39C0-4340-A50A-346694E8F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CDB7D-5931-4A14-A6E8-AD490CC63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DD13F-A86F-4B2F-9299-ED97A1E19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F105C-D907-4F95-B9CF-0D8AF5AA8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10C2D-4F0C-44B5-8474-416CCB6B6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A2FC-0B0C-40E3-B2D8-70BD690EF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C894D-DBF6-4CE0-95ED-70CED2AED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8795C-09F4-4C5E-AA76-CB3E9D090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66311-35A0-4DE7-A4F9-7BA972EB1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3FE6F-6FE2-4253-B215-A1531556D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F0DB7-6C9A-4A07-8B2B-A6BA6AC75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14901-269A-43F0-A6FF-F75E672C2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912E3-082A-4F24-A623-D781932A1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9C142-9891-43AA-9989-CEE43B566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DB2E7-5F1D-44A2-9B09-A00BF0614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E43D4-FE6A-4ABC-92FD-5F5A62288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E2E5-6841-486E-AF43-F108D01EA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EBFEB-C449-43ED-AC24-17B98D076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C3397-BA04-43A4-9CEE-51B68C415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ED893-15A0-4AEC-88D5-7EBB94573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89891-7085-49F5-9097-CB74EB893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8D467-1B77-4CA4-B33A-A0BEC11EA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F0F4E-5731-4DEB-BF94-85793E430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5E64A-80D2-4704-9266-8E76021E9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B0B56-D4E1-4F1E-8A42-3C353B6DB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4E32D4-FAE9-433C-8E87-938D4E446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58662-8EF6-4720-9E06-7B6066E70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8142-4800-45ED-B413-FAC0F0AE8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13C0E-466E-4E87-A30B-D9C02FFF9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7BC04-BE14-49B2-9E52-06E1D7C25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E6C99B-1315-41D9-8AC4-4DB0A7CED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4A4CB-17E1-43D1-97C1-156ABB7BD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E38E5-0CB1-40F8-AFE5-E5D69B441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7CBFB-A018-4FF8-8D72-90BB8ABAC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E5B71-A0F0-41E4-B2E9-3AD7BF78E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A59CF5-F479-4F8B-9999-195278130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F7859D-6783-4FA2-A7F3-FFEBC1D85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113011-E0AA-4A74-8BAA-E3C6127F9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5AC3-2517-4332-ADA0-922706FEB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6EC607-41C0-4531-9314-C8D6FF360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2596D2-44C3-4C43-A98B-101130D30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C2C55F-5888-458F-B7DE-3E920DD40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967544-9AFC-49CE-B2D9-3DA8969CA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E5A1FB-FE13-46FF-842D-F5EB73496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E72BBD-8820-4654-B139-9A1AF2617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CE1133-840B-43AC-9A56-BE18CADBE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039173-BD6D-475D-8A14-6C2D1FDD9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D88DE0-686F-4F6E-826A-C07B1D0A9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A5CC78-8181-49C4-9C32-427C1630E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66A6-C4A2-4D06-87F8-6934B47D5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02D2E4-C26B-4469-9820-360F1DCFB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5B2C-20DF-4A43-95EB-9F74BACAD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C860-4E68-46A7-B959-6DB89B022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4BA6-B7E1-48ED-B5CB-D0F1894CC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9BAB4-268A-40DC-B6F8-A27A4ADC87D5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4CBC2-3F70-4308-A485-9B740B2DE0A0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6225E-C38F-420A-BC3E-6E16A1FBC9D5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35073-9A14-41A6-AAC6-F32FA9056856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6EDEA-8D41-4B57-8448-273A96FD1FBC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жпредметный проект « Окно в мир» –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 Памятные даты 2012- 2013 г.г.»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Тема  проекта: « Воспитание  в  семье Николая </a:t>
            </a:r>
            <a:r>
              <a:rPr b="0" lang="en-US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I</a:t>
            </a:r>
            <a:r>
              <a:rPr b="0" lang="ru-RU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»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Автор  проекта: Ветошкина  Милена, 7 класс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читель-тьютер: Ясинская В. И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чителя: Юрова С. В. ( история)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осторнова Ю. А. ( английский язык)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Шешуков С.Н. ( русский язык)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акаров Т. А. ( география)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013 г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Заголовок 1" descr=""/>
          <p:cNvPicPr/>
          <p:nvPr/>
        </p:nvPicPr>
        <p:blipFill>
          <a:blip r:embed="rId1"/>
          <a:stretch/>
        </p:blipFill>
        <p:spPr>
          <a:xfrm>
            <a:off x="244440" y="317520"/>
            <a:ext cx="7631280" cy="115092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 txBox="1"/>
          <p:nvPr/>
        </p:nvSpPr>
        <p:spPr>
          <a:xfrm>
            <a:off x="45684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rebuchet MS"/>
              </a:rPr>
              <a:t>Государыня занималась детьми сама – ведь постоянный контакт с матерью особенно важен для девочек. Она проявляла свой авторитет при необходимости, и это не нарушало той атмосферы абсолютного доверия, которая царила между нею и дочерьми.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17780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8" name="Picture 3" descr="C:\Users\Sasha\Desktop\ad83c0658b22.jpeg"/>
          <p:cNvPicPr/>
          <p:nvPr/>
        </p:nvPicPr>
        <p:blipFill>
          <a:blip r:embed="rId2"/>
          <a:stretch/>
        </p:blipFill>
        <p:spPr>
          <a:xfrm>
            <a:off x="4071960" y="1428840"/>
            <a:ext cx="41432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Заголовок 1" descr=""/>
          <p:cNvPicPr/>
          <p:nvPr/>
        </p:nvPicPr>
        <p:blipFill>
          <a:blip r:embed="rId1"/>
          <a:stretch/>
        </p:blipFill>
        <p:spPr>
          <a:xfrm>
            <a:off x="244440" y="317520"/>
            <a:ext cx="7631280" cy="115092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 txBox="1"/>
          <p:nvPr/>
        </p:nvSpPr>
        <p:spPr>
          <a:xfrm>
            <a:off x="45684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c00000"/>
                </a:solidFill>
                <a:latin typeface="Trebuchet MS"/>
              </a:rPr>
              <a:t>В силу своего положения великие княжны должны были иметь обязанности перед обществом, они должны были научиться достойно их выполнять. Но в представлении государыни Александры Федоровны спора не было в том, что дом и семья – это то, что держится в первую очередь на женщине и каждая девушка обязана понять это еще в детстве.</a:t>
            </a:r>
            <a:br>
              <a:rPr sz="1500"/>
            </a:b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17780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c00000"/>
                </a:solidFill>
                <a:latin typeface="Trebuchet MS"/>
              </a:rPr>
              <a:t> </a:t>
            </a:r>
            <a:br>
              <a:rPr sz="1500"/>
            </a:br>
            <a:r>
              <a:rPr b="1" i="1" lang="ru-RU" sz="1500" spc="-1" strike="noStrike">
                <a:solidFill>
                  <a:srgbClr val="c00000"/>
                </a:solidFill>
                <a:latin typeface="Trebuchet MS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2" name="Picture 2" descr="C:\Users\Sasha\Desktop\0_63027_e770000b_XL.jpg"/>
          <p:cNvPicPr/>
          <p:nvPr/>
        </p:nvPicPr>
        <p:blipFill>
          <a:blip r:embed="rId2"/>
          <a:stretch/>
        </p:blipFill>
        <p:spPr>
          <a:xfrm>
            <a:off x="3929040" y="1428840"/>
            <a:ext cx="428616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Заголовок 1" descr=""/>
          <p:cNvPicPr/>
          <p:nvPr/>
        </p:nvPicPr>
        <p:blipFill>
          <a:blip r:embed="rId1"/>
          <a:stretch/>
        </p:blipFill>
        <p:spPr>
          <a:xfrm>
            <a:off x="360360" y="317520"/>
            <a:ext cx="7345440" cy="19018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C:\Users\Sasha\Desktop\1342050064_romanovy-1.jpg"/>
          <p:cNvPicPr/>
          <p:nvPr/>
        </p:nvPicPr>
        <p:blipFill>
          <a:blip r:embed="rId2"/>
          <a:stretch/>
        </p:blipFill>
        <p:spPr>
          <a:xfrm>
            <a:off x="357120" y="2357280"/>
            <a:ext cx="7786800" cy="40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Заголовок 1" descr=""/>
          <p:cNvPicPr/>
          <p:nvPr/>
        </p:nvPicPr>
        <p:blipFill>
          <a:blip r:embed="rId1"/>
          <a:stretch/>
        </p:blipFill>
        <p:spPr>
          <a:xfrm>
            <a:off x="244440" y="317520"/>
            <a:ext cx="7588440" cy="40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Заголовок 1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242560" cy="151740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32" name="Picture 2" descr="C:\Users\Sasha\Desktop\romanov.jpg"/>
          <p:cNvPicPr/>
          <p:nvPr/>
        </p:nvPicPr>
        <p:blipFill>
          <a:blip r:embed="rId2"/>
          <a:stretch/>
        </p:blipFill>
        <p:spPr>
          <a:xfrm>
            <a:off x="571680" y="2143080"/>
            <a:ext cx="8143560" cy="4510080"/>
          </a:xfrm>
          <a:prstGeom prst="rect">
            <a:avLst/>
          </a:prstGeom>
          <a:ln w="57240">
            <a:solidFill>
              <a:srgbClr val="fcbb8b"/>
            </a:solidFill>
            <a:miter/>
          </a:ln>
          <a:effectLst>
            <a:outerShdw dist="50891" dir="12306891" blurRad="0" rotWithShape="0">
              <a:srgbClr val="000000">
                <a:alpha val="3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Заголовок 1" descr=""/>
          <p:cNvPicPr/>
          <p:nvPr/>
        </p:nvPicPr>
        <p:blipFill>
          <a:blip r:embed="rId1"/>
          <a:stretch/>
        </p:blipFill>
        <p:spPr>
          <a:xfrm>
            <a:off x="244440" y="317520"/>
            <a:ext cx="7905960" cy="11509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457200" y="1600200"/>
            <a:ext cx="3757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rebuchet MS"/>
              </a:rPr>
              <a:t>Супруга Николая II, несомненно, лучше многих понимала, как велико предназначение женщины, как свята ее истинная красота – в вере, чистоте и смирении. В этом и сила женщины. 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Picture 3" descr="C:\Users\Sasha\Desktop\ad8e7385fe07.jpeg"/>
          <p:cNvPicPr/>
          <p:nvPr/>
        </p:nvPicPr>
        <p:blipFill>
          <a:blip r:embed="rId2"/>
          <a:stretch/>
        </p:blipFill>
        <p:spPr>
          <a:xfrm>
            <a:off x="4475160" y="1600200"/>
            <a:ext cx="3668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Заголовок 1" descr=""/>
          <p:cNvPicPr/>
          <p:nvPr/>
        </p:nvPicPr>
        <p:blipFill>
          <a:blip r:embed="rId1"/>
          <a:stretch/>
        </p:blipFill>
        <p:spPr>
          <a:xfrm>
            <a:off x="324000" y="268200"/>
            <a:ext cx="8618400" cy="11588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0" y="1523520"/>
            <a:ext cx="52149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rebuchet MS"/>
              </a:rPr>
              <a:t>Дочери императора Николая II были воспитаны в духе Нового Завета. Помогая своим девочкам взрослеть и познавать жизнь, родители просто руководствовались мудрыми принципами собственной жизни.</a:t>
            </a: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rebuchet MS"/>
              </a:rPr>
              <a:t>Прежде чем воспитывать детей, необходимо воспитать себя. Вот один из принципов воспитания в Царской Семье. Мы должны быть сами именно такими, какими хотим видеть наших детей. Для Государыни во взаимоотношениях с супругом очень важными были терпение, взаимное внимание, единство интересов, удерживание от ссор, то есть постоянная работа над собой. Дети видели все это и понимали. Они росли в атмосфере любви и уважения родителей друг к другу. Анна Вырубова вспоминала: «За 12 лет я никогда не слыхала ни одного громкого слова между ними, ни разу не видала их даже сколько-нибудь раздраженными друг против друга». Успехи воспитания оказались несомненными: великие княжны выросли простыми, ласковыми, образованными девушками, ни в чем не выказывавшими своего положения в обращении с другими. Трудно представить себе более очаровательных, чистых и умных девочек. Трудно определимая прелесть этих четырех сестер состояла в их большой простоте, естественности, свежести и врожденной доброте.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285880" y="1600200"/>
            <a:ext cx="241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Picture 4" descr="C:\Users\Sasha\Desktop\13ccb58bb928.jpg"/>
          <p:cNvPicPr/>
          <p:nvPr/>
        </p:nvPicPr>
        <p:blipFill>
          <a:blip r:embed="rId2"/>
          <a:stretch/>
        </p:blipFill>
        <p:spPr>
          <a:xfrm>
            <a:off x="5214960" y="1571760"/>
            <a:ext cx="39290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1" descr=""/>
          <p:cNvPicPr/>
          <p:nvPr/>
        </p:nvPicPr>
        <p:blipFill>
          <a:blip r:embed="rId1"/>
          <a:stretch/>
        </p:blipFill>
        <p:spPr>
          <a:xfrm>
            <a:off x="-60480" y="-6480"/>
            <a:ext cx="9223560" cy="20844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7" descr="C:\Users\Sasha\Desktop\nikolay2_olga_480x706.jpg"/>
          <p:cNvPicPr/>
          <p:nvPr/>
        </p:nvPicPr>
        <p:blipFill>
          <a:blip r:embed="rId2"/>
          <a:stretch/>
        </p:blipFill>
        <p:spPr>
          <a:xfrm>
            <a:off x="0" y="2143080"/>
            <a:ext cx="2143080" cy="40449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1" descr="C:\Users\Sasha\Desktop\0_6d846_322d876c_XL.jpg"/>
          <p:cNvPicPr/>
          <p:nvPr/>
        </p:nvPicPr>
        <p:blipFill>
          <a:blip r:embed="rId3"/>
          <a:stretch/>
        </p:blipFill>
        <p:spPr>
          <a:xfrm>
            <a:off x="6572160" y="2143080"/>
            <a:ext cx="2357640" cy="39830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8" descr="C:\Users\Sasha\Desktop\nikolay2_tatyana_480x720.jpg"/>
          <p:cNvPicPr/>
          <p:nvPr/>
        </p:nvPicPr>
        <p:blipFill>
          <a:blip r:embed="rId4"/>
          <a:stretch/>
        </p:blipFill>
        <p:spPr>
          <a:xfrm>
            <a:off x="2143080" y="2143080"/>
            <a:ext cx="2071800" cy="40006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C:\Users\Sasha\Desktop\nikolay2_mariya_480x737.jpg"/>
          <p:cNvPicPr/>
          <p:nvPr/>
        </p:nvPicPr>
        <p:blipFill>
          <a:blip r:embed="rId5"/>
          <a:stretch/>
        </p:blipFill>
        <p:spPr>
          <a:xfrm>
            <a:off x="4143240" y="2143080"/>
            <a:ext cx="2451240" cy="4071960"/>
          </a:xfrm>
          <a:prstGeom prst="rect">
            <a:avLst/>
          </a:prstGeom>
          <a:ln w="0">
            <a:noFill/>
          </a:ln>
        </p:spPr>
      </p:pic>
      <p:sp>
        <p:nvSpPr>
          <p:cNvPr id="245" name="Прямоугольник 8"/>
          <p:cNvSpPr/>
          <p:nvPr/>
        </p:nvSpPr>
        <p:spPr>
          <a:xfrm flipV="1">
            <a:off x="2286000" y="375228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6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142920" y="1571760"/>
            <a:ext cx="428616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rebuchet MS"/>
              </a:rPr>
              <a:t>Внешность Алексея сочетала в себе лучшее от отца и матери. По воспоминаниям современников, Алексей был красивым мальчиком, с чистым, открытым лицом. Он был слишком худым — сказывалась болезнь.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rebuchet MS"/>
              </a:rPr>
              <a:t>Характер у мальчика был покладистый, он обожал родителей и сестер, а те, в свою очередь, души не чаяли в юном цесаревиче, особенно Великая Княжна Мария.  Алексей был способным в учёбе, как и сёстры, делал успехи в изучении языков.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rebuchet MS"/>
              </a:rPr>
              <a:t>Он совмещал в себе черты отца и матери: унаследовал простоту отца, был чужд надменности, заносчивости. Мать хотела, но не могла быть с ним строгой. Его учительница Битнер говорит о нём: «Он имел большую волю и никогда не подчинился бы никакой женщине». Он был весьма дисциплинирован, замкнут и очень терпелив. Несомненно, болезнь наложила на него свой отпечаток и выработала в нём эти черты. Он не любил придворного этикета, любил быть с солдатами и учился их языку. Он очень любил армию.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8" name="Picture 3" descr="C:\Users\Sasha\Desktop\280px-Алексей_Романов.jpg"/>
          <p:cNvPicPr/>
          <p:nvPr/>
        </p:nvPicPr>
        <p:blipFill>
          <a:blip r:embed="rId2"/>
          <a:stretch/>
        </p:blipFill>
        <p:spPr>
          <a:xfrm>
            <a:off x="4714920" y="1600200"/>
            <a:ext cx="407196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Заголовок 1" descr=""/>
          <p:cNvPicPr/>
          <p:nvPr/>
        </p:nvPicPr>
        <p:blipFill>
          <a:blip r:embed="rId1"/>
          <a:stretch/>
        </p:blipFill>
        <p:spPr>
          <a:xfrm>
            <a:off x="244440" y="317520"/>
            <a:ext cx="7631280" cy="11509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 txBox="1"/>
          <p:nvPr/>
        </p:nvSpPr>
        <p:spPr>
          <a:xfrm>
            <a:off x="45684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rebuchet MS"/>
              </a:rPr>
              <a:t>Воспитание дочерей в царской семье было строгим, поскольку так была воспитана сама Александра Федоровна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1" name="Picture 3" descr="C:\Users\Sasha\Desktop\748.jpg"/>
          <p:cNvPicPr/>
          <p:nvPr/>
        </p:nvPicPr>
        <p:blipFill>
          <a:blip r:embed="rId2"/>
          <a:stretch/>
        </p:blipFill>
        <p:spPr>
          <a:xfrm>
            <a:off x="4178160" y="2052720"/>
            <a:ext cx="3521160" cy="36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1" descr=""/>
          <p:cNvPicPr/>
          <p:nvPr/>
        </p:nvPicPr>
        <p:blipFill>
          <a:blip r:embed="rId1"/>
          <a:stretch/>
        </p:blipFill>
        <p:spPr>
          <a:xfrm>
            <a:off x="244440" y="317520"/>
            <a:ext cx="7631280" cy="11509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 txBox="1"/>
          <p:nvPr/>
        </p:nvSpPr>
        <p:spPr>
          <a:xfrm>
            <a:off x="428760" y="1523880"/>
            <a:ext cx="371448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rebuchet MS"/>
              </a:rPr>
              <a:t>Каждый рубль,сэкономленный на каком-нибудь роскошном платье, шел на благотворительность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rebuchet MS"/>
              </a:rPr>
              <a:t>Когда началась Первая мировая война, новые платья вообще престали шиться, великим княжнам приходилось самим аккуратно чинить свою одежду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4" name="Picture 3" descr="C:\Users\Sasha\Desktop\989714bcd912.jpeg"/>
          <p:cNvPicPr/>
          <p:nvPr/>
        </p:nvPicPr>
        <p:blipFill>
          <a:blip r:embed="rId2"/>
          <a:stretch/>
        </p:blipFill>
        <p:spPr>
          <a:xfrm>
            <a:off x="4071960" y="1571760"/>
            <a:ext cx="48578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0T16:10:12Z</dcterms:created>
  <dc:creator>Владелец</dc:creator>
  <dc:description/>
  <dc:language>en-US</dc:language>
  <cp:lastModifiedBy>Владелец</cp:lastModifiedBy>
  <dcterms:modified xsi:type="dcterms:W3CDTF">2013-04-10T17:51:30Z</dcterms:modified>
  <cp:revision>11</cp:revision>
  <dc:subject/>
  <dc:title>Воспитание в семье Николая II</dc:title>
</cp:coreProperties>
</file>