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D7EA-53D9-41F4-ABB9-D90736AD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72C2-4BE0-4087-8843-C39E7673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1E9-E403-45A7-A253-E4774F9A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A97-A920-477C-9827-ABFFCC98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190A-28ED-41C1-A9D9-9CC46D09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4659-87AC-4CBA-AECB-B048D295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4379-542C-4BBF-9BA0-4532E43B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6DEE-1DAF-4EC7-8CC7-1AC234EA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1A1D-AF10-43EA-80E2-11F43FA1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91FE-42B7-4DBA-B101-286892CD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630C-4C6C-4DB3-A10E-3F72F62B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89C-FA7A-4316-9B70-01F06566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398F-1C38-4C18-A91C-3F3289CA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BDC5-5650-4314-A3DD-9222B4C6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555F-72DD-431E-A9C9-46FF7ACD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882B-23F8-45E2-BE0C-4C56F73E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9223-7B76-4D7F-970C-3D9109BF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465-952C-49ED-AD3E-F6EC1C10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708-4800-4DAE-AB67-637C604A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F97-6C50-4BB7-BF58-E15163D8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EC3-7DD1-4E1A-9314-EDF03AEE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D25-E1E6-4051-8D13-CFCD5109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1F4-0301-49AF-86D2-6D856912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021-BB95-43EC-89E1-B879573C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461F-20C3-44A4-9463-27B9F7545B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3C75-8114-4F70-9223-056A16E78EE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freedoc_ru_48650_1280x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826920" y="542160"/>
            <a:ext cx="75600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лючевская средняя общеобразовательная школа №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Ключи, Ключевского района, Алтайского кр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оздух – смесь различных газов.  Охрана воздух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рок природоведения в 5 класс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: Видершпан Ирина Петро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5828" t="10089" r="7722" b="155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250920" y="546120"/>
            <a:ext cx="88930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ироде все взаимосвязано, и вот уже оксиды свинца обнаружены в снегах Арктики, а пестициды (ядохимикаты для борьбы с вредителями на полях) – в тканях антарктических животны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дного жителя планеты приходится 167 000 т. атмосферного кислорода в го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чение 1 мин. человек в среднем употребляет 0,5 л. кислоро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о, что современный пассажирский самолет при полете в течение 9 часов расходует 50 – 75 т. кислорода. Для ракетных двигателей кислорода требуется намного больш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Четвертая группа (физиологи)</a:t>
            </a:r>
            <a:br>
              <a:rPr sz="2400"/>
            </a:b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Влияние загрязнения атмосферы на человека, растительный и животный мир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8388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загрязняющие атмосферный воздух вещества в большей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ьшей степени оказывают отрицательное влияние на здоров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ка. Эти вещества попадают в организм человека через сист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ыхания. Органы дыхания страдают от загрязнения , т.к. около 50% части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си, проникающих в легкие, осаждаются в 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никающие в организм частицы вызывают токсический эффект, т.к.он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токсичны (ядовиты) по своей природ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служат помехой для механизмов, с помощью которых норма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чищается дыхательный трак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) служат носителем поглощенного организмом ядовитого ве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11610" t="14279" r="11721" b="17109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250920" y="500040"/>
            <a:ext cx="88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атистический анализ позволил установить зависимость между уровнем загрязнения воздуха и такими заболеваниями, как поражение верхних дыхательных путей, сердечная недостаточность, бронхиты, астма, пневмония, эмфизема легких, а также болезни глаз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f6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6f600"/>
                </a:solidFill>
                <a:latin typeface="Arial"/>
              </a:rPr>
              <a:t>Резкое повышение концентрации примесей, сохраняющееся в течение нескольких дней, увеличивает смертность людей пожилого возраста от респираторных и сердечно-сосудистых заболеван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Пятая группа (экспериментаторы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им загрязненность воздуха сажей –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дуктом неполного сгорания топл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тобрали пробы снега в трех разных местах: возле дома, в парке, возле котель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IMG_1513"/>
          <p:cNvPicPr/>
          <p:nvPr/>
        </p:nvPicPr>
        <p:blipFill>
          <a:blip r:embed="rId1"/>
          <a:srcRect l="0" t="14349" r="0" b="0"/>
          <a:stretch/>
        </p:blipFill>
        <p:spPr>
          <a:xfrm>
            <a:off x="1403280" y="3213000"/>
            <a:ext cx="65534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зультаты измерен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459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 фильтра – 0,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 фильтра с частицами вещества, взятого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со снег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озле дома – 0,7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коло котельной – 0,9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парке - 0,78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опыта показали, что даже в нашем населенном пункте происходит загрязнение воздуха, хоть и не значительное. По результатам исследования воздух больше загрязнен возле котельной, чем в частном сект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Отфильтрованная снеговая вод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Picture 14" descr="IMG_1533"/>
          <p:cNvPicPr/>
          <p:nvPr/>
        </p:nvPicPr>
        <p:blipFill>
          <a:blip r:embed="rId1"/>
          <a:stretch/>
        </p:blipFill>
        <p:spPr>
          <a:xfrm>
            <a:off x="0" y="3933720"/>
            <a:ext cx="2952720" cy="2368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IMG_1541"/>
          <p:cNvPicPr/>
          <p:nvPr/>
        </p:nvPicPr>
        <p:blipFill>
          <a:blip r:embed="rId2"/>
          <a:stretch/>
        </p:blipFill>
        <p:spPr>
          <a:xfrm>
            <a:off x="2987640" y="3933720"/>
            <a:ext cx="3132000" cy="2351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IMG_1538"/>
          <p:cNvPicPr/>
          <p:nvPr/>
        </p:nvPicPr>
        <p:blipFill>
          <a:blip r:embed="rId3"/>
          <a:stretch/>
        </p:blipFill>
        <p:spPr>
          <a:xfrm>
            <a:off x="6156360" y="3929040"/>
            <a:ext cx="2987640" cy="2349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611280" y="3068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арк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699640" y="306864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ле котельн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6372000" y="3068640"/>
            <a:ext cx="24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ле дом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35344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Воздух – смесь газ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азот - 7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ислорода -2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углекислый газ, водород, неон, гелий, озон 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чие газы - 1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  Нам всем следует изменить свое отношение к природе, понять св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. Многие, если не все, проблемы связаны с нашей  эколог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грамотностью. И первоочередная задача состоит в том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 информировать  человечество  о экологическ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родоохранительных знаний, в формировании их эколог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льтуры. Но это можно сделать лишь при личной заинтересова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ка, при достаточном уровне его культуре и  ответственности 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ю и чужие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крепление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считаете, откуда в воздухе берется пыль? Приведите при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что является источником кислорода на Зем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емле огромное количество потребителей кислорода. Почему же он практически не убывает в атмосфе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умайте, что кроме пожара, может нарушить равновесие газового состава атмосфе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532720" cy="17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Чему равна доля кислорода в воздухе: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)   10%;      б) 21%;     в) 25%;     г)  5%;    д) 50%;  е) 75%.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Чему равна доля азота  в воздухе: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)   10%;      б) 21%;     в) 25%;     г)  5%;    д) 50%;  е) 75%.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000" y="2499840"/>
            <a:ext cx="800244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чить предложение: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здушная оболочка нашей планеты называется 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лните сх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1500120" y="4214880"/>
            <a:ext cx="5829480" cy="2214360"/>
            <a:chOff x="1500120" y="4214880"/>
            <a:chExt cx="5829480" cy="2214360"/>
          </a:xfrm>
        </p:grpSpPr>
        <p:sp>
          <p:nvSpPr>
            <p:cNvPr id="150" name="AutoShape 5"/>
            <p:cNvSpPr/>
            <p:nvPr/>
          </p:nvSpPr>
          <p:spPr>
            <a:xfrm>
              <a:off x="1500120" y="4214880"/>
              <a:ext cx="5829480" cy="22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3328920" y="4320000"/>
              <a:ext cx="1713960" cy="4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ru-RU" sz="2000" spc="-1" strike="noStrike">
                  <a:solidFill>
                    <a:srgbClr val="cc6600"/>
                  </a:solidFill>
                  <a:latin typeface="Verdana"/>
                </a:rPr>
                <a:t>Воздух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1613880" y="5585760"/>
              <a:ext cx="914760" cy="4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Rectangle 8"/>
            <p:cNvSpPr/>
            <p:nvPr/>
          </p:nvSpPr>
          <p:spPr>
            <a:xfrm>
              <a:off x="2871360" y="5585760"/>
              <a:ext cx="914760" cy="4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9"/>
            <p:cNvSpPr/>
            <p:nvPr/>
          </p:nvSpPr>
          <p:spPr>
            <a:xfrm>
              <a:off x="4014720" y="5585760"/>
              <a:ext cx="914040" cy="42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10"/>
            <p:cNvSpPr/>
            <p:nvPr/>
          </p:nvSpPr>
          <p:spPr>
            <a:xfrm>
              <a:off x="5158080" y="5585760"/>
              <a:ext cx="913680" cy="4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11"/>
            <p:cNvSpPr/>
            <p:nvPr/>
          </p:nvSpPr>
          <p:spPr>
            <a:xfrm>
              <a:off x="6300360" y="5585760"/>
              <a:ext cx="913680" cy="42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57" name="AutoShape 12"/>
            <p:cNvCxnSpPr/>
            <p:nvPr/>
          </p:nvCxnSpPr>
          <p:spPr>
            <a:xfrm flipH="1">
              <a:off x="3442680" y="4847040"/>
              <a:ext cx="568800" cy="73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AutoShape 13"/>
            <p:cNvCxnSpPr/>
            <p:nvPr/>
          </p:nvCxnSpPr>
          <p:spPr>
            <a:xfrm>
              <a:off x="4242600" y="4847040"/>
              <a:ext cx="459720" cy="73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AutoShape 14"/>
            <p:cNvCxnSpPr/>
            <p:nvPr/>
          </p:nvCxnSpPr>
          <p:spPr>
            <a:xfrm>
              <a:off x="4471920" y="4847040"/>
              <a:ext cx="1371960" cy="73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AutoShape 15"/>
            <p:cNvCxnSpPr>
              <a:endCxn id="156" idx="0"/>
            </p:cNvCxnSpPr>
            <p:nvPr/>
          </p:nvCxnSpPr>
          <p:spPr>
            <a:xfrm>
              <a:off x="4814280" y="4847040"/>
              <a:ext cx="1942920" cy="73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Line 16"/>
            <p:cNvSpPr/>
            <p:nvPr/>
          </p:nvSpPr>
          <p:spPr>
            <a:xfrm flipH="1">
              <a:off x="2071080" y="4842000"/>
              <a:ext cx="1485720" cy="63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Рефлекси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годня на уроке я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м интересным на уроке был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м сложным для меня был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годняшний урок показал мн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гли мы цели нашего проект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ее задание: п. 19. вопросы стр.75                        Подготовить презентац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начение кислорода для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85327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0033"/>
                </a:solidFill>
                <a:latin typeface="Times New Roman"/>
              </a:rPr>
              <a:t>Цель.</a:t>
            </a:r>
            <a:r>
              <a:rPr b="0" lang="ru-RU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1. Сформировать знания о качественном и количественном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составе воздуха, единой картины мира.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2. Развивать умения самостоятельно приобретать  необходимые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знания, грамотно работать с  информацией, формулировать 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выводы  и на их основе выявлять и решать проблемы, развивать 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коммуникативные  навыки и опыт сотрудничества  в группе и 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коллективе.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3. Воспитывать гражданскую ответственность за состояние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окружающей среды, своего здоровья и здоровья других  людей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5229360"/>
            <a:ext cx="8075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Оборудование.</a:t>
            </a:r>
            <a:r>
              <a:rPr b="0" lang="ru-RU" sz="12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1) компьютер учителя;</a:t>
            </a: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Tahoma"/>
              </a:rPr>
              <a:t>                                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2) мультимедийное проекционное оборуд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                                   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3) презентация  с сообщениями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Tahom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11280" y="4046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Те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Воздух – смесь различных газов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                                </a:t>
            </a:r>
            <a:r>
              <a:rPr b="1" i="1" lang="ru-RU" sz="2800" spc="-1" strike="noStrike">
                <a:solidFill>
                  <a:srgbClr val="cc6600"/>
                </a:solidFill>
                <a:latin typeface="Arial"/>
              </a:rPr>
              <a:t>Охрана возду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rcRect l="11610" t="14279" r="11721" b="17109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42600" y="1599840"/>
            <a:ext cx="8286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ипотез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сознает ли человек всю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грязнения воздуха твердыми частиц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новная проблем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храним ли мы нашу планет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ь на ней или нас постигнет судьба планеты-резерв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езультате обсуждения проблемы учащиеся ставя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еть состав атмосферного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знать об отрицательном влиянии загрязнения на организм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ь запыленность воздуха по сне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Первая группа (теоретическая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482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дух окружает нас повсю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озду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это смесь различных  газ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  переводе  с греческого «газ» означ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ао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. Основные газы воздуха – азот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исл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е всего в воздухе азота – 78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выделяется из земной коры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е деятельности микроорганиз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меси различных газов кислор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ляет 21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ставшийся 1% входят углекисл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з, водород, неон, гелий, озон и про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 водяного пара неодинако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7762" t="3755" r="11475" b="14188"/>
          <a:stretch/>
        </p:blipFill>
        <p:spPr>
          <a:xfrm>
            <a:off x="5219640" y="2205000"/>
            <a:ext cx="3745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10925" t="7253" r="9098" b="2873"/>
          <a:stretch/>
        </p:blipFill>
        <p:spPr>
          <a:xfrm>
            <a:off x="571680" y="0"/>
            <a:ext cx="830736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Вторая группа (историки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813744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ислород – газ, без которого невозможна жизнь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следуя кислород, английский ученый  П р и с т л и   в 1774 г. увиде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пламя свечи  горит в нем необычно ярко. Под колпак, где был эт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з, ученый поместил двух мышей. Мыши чувствовали себя прекрас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гда ученый попробовал им подышать сам. Он почувствовал себя та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вно внезапно попал из лаборатории в горную местность с чистейш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дух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24630" t="24966" r="26859" b="26801"/>
          <a:stretch/>
        </p:blipFill>
        <p:spPr>
          <a:xfrm>
            <a:off x="714240" y="3214800"/>
            <a:ext cx="4643640" cy="3181320"/>
          </a:xfrm>
          <a:prstGeom prst="rect">
            <a:avLst/>
          </a:prstGeom>
          <a:ln w="0">
            <a:noFill/>
          </a:ln>
        </p:spPr>
      </p:pic>
      <p:pic>
        <p:nvPicPr>
          <p:cNvPr id="113" name="080025.mpg" descr=""/>
          <p:cNvPicPr/>
          <p:nvPr/>
        </p:nvPicPr>
        <p:blipFill>
          <a:blip r:embed="rId2"/>
          <a:stretch/>
        </p:blipFill>
        <p:spPr>
          <a:xfrm>
            <a:off x="571500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Третья группа (экологи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5616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роде процессы расходования кисл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его воспроизведение находятся  в равновес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, может нарушаться, что приве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изменению климата на планете. В атмосфе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нет больш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екислого га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н тяжел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а, поэтому скапливается в основ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поверхности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екислый газ задерживает тепловое излу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и, согревает ее, но и не пропускает к Зем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солнечных луч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это ведет к ее небольшому охлажден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 если углекислый газ соединяется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цами угля, дыма и пыли. В таком случа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ется смесь, так называем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о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ов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лена окутывает он крупные промыш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53977" t="10522" r="11830" b="16752"/>
          <a:stretch/>
        </p:blipFill>
        <p:spPr>
          <a:xfrm>
            <a:off x="6300720" y="1700280"/>
            <a:ext cx="2519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Третья группа (экологи)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540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здухе много примесей, кото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язняют атмосферу; это прежде вс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ьчайшая пыль и микроорганиз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ьчайшую пыль в воздухе можно замети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-за шторы в затемненную комн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человек загрязняет атмосферу у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ячелетиями, однако послед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ения огня, которым он пользова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этот период, были незначитель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оследние сто лет развитие промышле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ти« одарило нас такими производствен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ами, последствия которых внача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еще не мог себе представить. Возник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ода-миллионеры, рост которых остано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льзя. Все это результат великих изобрет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авоеваний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04_04_02_07.wmv" descr=""/>
          <p:cNvPicPr/>
          <p:nvPr/>
        </p:nvPicPr>
        <p:blipFill>
          <a:blip r:embed="rId1"/>
          <a:stretch/>
        </p:blipFill>
        <p:spPr>
          <a:xfrm>
            <a:off x="5796000" y="1989000"/>
            <a:ext cx="3005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5164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5828" t="10089" r="7722" b="155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468360" y="333360"/>
            <a:ext cx="867564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ете ли вы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легковой автомобиль за 1000 км пробега расходует столько кислорода, сколько человеку необходимо за го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утки автомобиль способен выбросить 20 кг. вредных газов, в составе которых и канцерогенные вещест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оследние сто лет деятельность людей поставила под угрозу исчезновения 25 тыс. видов высших растений, более тысячи видов позвоночных животны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7:03:35Z</dcterms:created>
  <dc:creator>1</dc:creator>
  <dc:description/>
  <dc:language>en-US</dc:language>
  <cp:lastModifiedBy>WIN7XP</cp:lastModifiedBy>
  <dcterms:modified xsi:type="dcterms:W3CDTF">2012-03-06T23:09:15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