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3FB-BC7E-4471-BCAC-939EFA94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78E-B3AB-44A4-AB79-93B3B023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5AB0-4A2C-4277-8927-E32DE35C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DD9-0D5F-4811-9354-40977A78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B660-7ABA-4EBE-9C96-A19704F3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052-915C-4E7E-B872-9C2FED90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89CF-C618-4EE5-82BC-340FCDC1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47B6-B50F-425E-9F99-B87E9B50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B915-3D08-41A5-9973-C71C192B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A58-B6D1-4C78-A944-9ECAA87B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4D8-F531-40A2-888D-17CD2B29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1737-4FB8-45EE-A964-56C4F343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F150-F085-4054-869E-16A5882524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МОУ  «Татарско-Суксинская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редняя общеобразовательная школа»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Актанышского муниципального района 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еспублики Татарстан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лих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айсана Равилов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1.01. 1962 года рождения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валификационной категории. Образование высшее. Закончила Елабужский государственный педагогический институт  по специальности «Педагогика  и  методика  начального  обучения». Педагогический стаж – 32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PB030970"/>
          <p:cNvPicPr/>
          <p:nvPr/>
        </p:nvPicPr>
        <p:blipFill>
          <a:blip r:embed="rId1"/>
          <a:stretch/>
        </p:blipFill>
        <p:spPr>
          <a:xfrm>
            <a:off x="5292720" y="2133720"/>
            <a:ext cx="2884320" cy="367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PB030970"/>
          <p:cNvPicPr/>
          <p:nvPr/>
        </p:nvPicPr>
        <p:blipFill>
          <a:blip r:embed="rId2"/>
          <a:stretch/>
        </p:blipFill>
        <p:spPr>
          <a:xfrm>
            <a:off x="5076720" y="2168640"/>
            <a:ext cx="2884680" cy="367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PB030970"/>
          <p:cNvPicPr/>
          <p:nvPr/>
        </p:nvPicPr>
        <p:blipFill>
          <a:blip r:embed="rId3"/>
          <a:stretch/>
        </p:blipFill>
        <p:spPr>
          <a:xfrm>
            <a:off x="5049720" y="2149560"/>
            <a:ext cx="2884680" cy="367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PB030970"/>
          <p:cNvPicPr/>
          <p:nvPr/>
        </p:nvPicPr>
        <p:blipFill>
          <a:blip r:embed="rId4"/>
          <a:stretch/>
        </p:blipFill>
        <p:spPr>
          <a:xfrm>
            <a:off x="5021280" y="2149560"/>
            <a:ext cx="288432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етодическая те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Совершенствование учебно-воспитате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а на осн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х  требовании, духовное  и физическое  развитие учащихся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img035"/>
          <p:cNvPicPr/>
          <p:nvPr/>
        </p:nvPicPr>
        <p:blipFill>
          <a:blip r:embed="rId1"/>
          <a:stretch/>
        </p:blipFill>
        <p:spPr>
          <a:xfrm>
            <a:off x="250920" y="2224080"/>
            <a:ext cx="403380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и педаг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7640" y="1699920"/>
            <a:ext cx="4032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учить  учащихся  контролировать свои  действия  и  поступки, быть  осторожными, следовать заданным  правилам, уметь оценивать окружающую обстановку с точки  зрения её безопасности, развивать способность к самоконтролю, воспитывать способными шагать  в ногу  со  временем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img006"/>
          <p:cNvPicPr/>
          <p:nvPr/>
        </p:nvPicPr>
        <p:blipFill>
          <a:blip r:embed="rId1"/>
          <a:srcRect l="3641" t="0" r="0" b="67347"/>
          <a:stretch/>
        </p:blipFill>
        <p:spPr>
          <a:xfrm>
            <a:off x="1187280" y="3867120"/>
            <a:ext cx="2808360" cy="2604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img006"/>
          <p:cNvPicPr/>
          <p:nvPr/>
        </p:nvPicPr>
        <p:blipFill>
          <a:blip r:embed="rId2"/>
          <a:srcRect l="0" t="68665" r="-5899" b="0"/>
          <a:stretch/>
        </p:blipFill>
        <p:spPr>
          <a:xfrm>
            <a:off x="1187280" y="1628640"/>
            <a:ext cx="2953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циализация  младших  школьников в процессе фольклорно-танцевальных занятий</a:t>
            </a:r>
            <a:r>
              <a:rPr b="1" lang="tt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img001"/>
          <p:cNvPicPr/>
          <p:nvPr/>
        </p:nvPicPr>
        <p:blipFill>
          <a:blip r:embed="rId1"/>
          <a:srcRect l="0" t="4531" r="13773" b="15051"/>
          <a:stretch/>
        </p:blipFill>
        <p:spPr>
          <a:xfrm>
            <a:off x="4716360" y="3068640"/>
            <a:ext cx="3996000" cy="251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img004"/>
          <p:cNvPicPr/>
          <p:nvPr/>
        </p:nvPicPr>
        <p:blipFill>
          <a:blip r:embed="rId2"/>
          <a:srcRect l="11641" t="3046" r="1444" b="17493"/>
          <a:stretch/>
        </p:blipFill>
        <p:spPr>
          <a:xfrm>
            <a:off x="395280" y="3068640"/>
            <a:ext cx="403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т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юбознательность приводит Дайсану Равилов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 поиску нового в построении уроков и внеклассных меро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6" descr="img006"/>
          <p:cNvPicPr/>
          <p:nvPr/>
        </p:nvPicPr>
        <p:blipFill>
          <a:blip r:embed="rId1"/>
          <a:srcRect l="635" t="33401" r="0" b="39642"/>
          <a:stretch/>
        </p:blipFill>
        <p:spPr>
          <a:xfrm>
            <a:off x="468360" y="476280"/>
            <a:ext cx="4032360" cy="2604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img036"/>
          <p:cNvPicPr/>
          <p:nvPr/>
        </p:nvPicPr>
        <p:blipFill>
          <a:blip r:embed="rId2"/>
          <a:stretch/>
        </p:blipFill>
        <p:spPr>
          <a:xfrm>
            <a:off x="468360" y="3241800"/>
            <a:ext cx="403236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9912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Жизнь прекрасна, когда есть целенаправленная  творческая 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2920" y="2421000"/>
            <a:ext cx="40388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.Р.Салихова – классный руководитель 2 класса. Чтобы сделать жизнь в классе  более интересной, целенаправленно решаются  воспитательные задачи, относящиеся к данному возрас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img037"/>
          <p:cNvPicPr/>
          <p:nvPr/>
        </p:nvPicPr>
        <p:blipFill>
          <a:blip r:embed="rId1"/>
          <a:stretch/>
        </p:blipFill>
        <p:spPr>
          <a:xfrm>
            <a:off x="539640" y="2421000"/>
            <a:ext cx="4464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 Black"/>
              </a:rPr>
              <a:t>Мы хотим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 Black"/>
              </a:rPr>
              <a:t>чтобы наши дети были лучше нас, умнее нас, счастливее нас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4:55:08Z</dcterms:created>
  <dc:creator>Комп</dc:creator>
  <dc:description/>
  <dc:language>en-US</dc:language>
  <cp:lastModifiedBy>User</cp:lastModifiedBy>
  <dcterms:modified xsi:type="dcterms:W3CDTF">2013-04-12T17:04:58Z</dcterms:modified>
  <cp:revision>43</cp:revision>
  <dc:subject/>
  <dc:title>Моя семья – чудесное место для жизни</dc:title>
</cp:coreProperties>
</file>