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905-7E95-4292-BA99-A9C4BAB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91D-D7F3-42F0-949B-D94CE1FA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FF7-53AC-47C3-93E3-321E6F8F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9F7-7367-4F7D-A1E4-2BAF96AD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635E-25D1-46F1-AD95-42E1F2CA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B365-A442-494A-93A7-080D655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BBE2-96AE-449F-9EDE-576FE1C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448-9762-4AE2-A40E-475D322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75B-D4F6-4AD2-8CD6-4CB512EA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FF54-240F-4B19-8B1B-A46E8F51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B32-F2F0-4D47-A49E-B20E031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7F1-23E2-4BE3-99BF-DE2E8F8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FCAB-9842-4349-8E43-1B22138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4EA3-438B-4BAE-8C3D-8FD1A3D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CEC-DE0B-4FE7-9FE4-E6F7111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6272-927A-4A7A-8C28-2EE3ADAD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28BB-38FC-4CBE-9F83-569C8CD2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7156-A0C4-4AD5-A3C3-32F74B9A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DAD1-83EE-49FA-8F19-B0AE7724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C847-1D86-480B-AC9E-D5B3E004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F2E9-75DF-4037-93B6-17CB380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1070-B44C-4F25-8D72-0A4568E0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024-F96F-4827-AEB0-05304094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C3F1-23F1-45A7-A8C7-2E5E220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4CF6-8AF5-460E-8F7A-3AB3A6D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079C-543A-4B2D-8247-7D411AF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6F72-39E8-4461-B787-582444D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0E86-6F78-477E-997B-A5269426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CFEE-8A63-4202-B1E8-E5CFC075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526C-20AD-46D6-AACB-552071EA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D7E-EA1C-42DB-80D4-9F9562A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D55-A162-4B7B-80AE-1482DC67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D00-C521-49CC-B7FB-E9213C2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18C-DD74-41E1-83AA-8B9C024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E4C-4E51-42C2-9A97-BDC64D0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BE8-E694-411B-8BA9-2FF49FC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989-454D-49C2-862F-F08CF82B6D7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63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EF00-8710-4396-8038-7BC6875BC753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3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4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7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20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32BD-50F3-4B78-A868-39649560FE98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92000" y="1773000"/>
            <a:ext cx="5722920" cy="18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Русский язык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Arial"/>
              </a:rPr>
              <a:t>Подготовил Рыжов Ев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 rot="21540000">
            <a:off x="1115640" y="188640"/>
            <a:ext cx="3063960" cy="27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полните разбор по составу и определите склонение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 rot="21540000">
            <a:off x="1147320" y="3623760"/>
            <a:ext cx="304956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роход , золото, путешественник , газета , корзина , травин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Program Files (x86)\Microsoft Office\MEDIA\CAGCAT10\j0216588.wmf"/>
          <p:cNvPicPr/>
          <p:nvPr/>
        </p:nvPicPr>
        <p:blipFill>
          <a:blip r:embed="rId2"/>
          <a:stretch/>
        </p:blipFill>
        <p:spPr>
          <a:xfrm>
            <a:off x="5364000" y="2276640"/>
            <a:ext cx="147636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21540000">
            <a:off x="1106280" y="2020680"/>
            <a:ext cx="3063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Спишите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Выполните синтаксический разбор предложения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Определите склонение и падеж существительны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 rot="21540000">
            <a:off x="1154160" y="3620880"/>
            <a:ext cx="304488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 сидит на чисто вымытом полу , выставил заднюю ногу пистолетом и вылизывает её , щуря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6" descr=""/>
          <p:cNvPicPr/>
          <p:nvPr/>
        </p:nvPicPr>
        <p:blipFill>
          <a:blip r:embed="rId2"/>
          <a:srcRect l="25941" t="0" r="25941" b="0"/>
          <a:stretch/>
        </p:blipFill>
        <p:spPr>
          <a:xfrm rot="60000">
            <a:off x="4898880" y="1225440"/>
            <a:ext cx="3348360" cy="4540320"/>
          </a:xfrm>
          <a:prstGeom prst="rect">
            <a:avLst/>
          </a:prstGeom>
          <a:ln cap="rnd" w="1015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1:57Z</dcterms:created>
  <dc:creator>гена</dc:creator>
  <dc:description/>
  <dc:language>en-US</dc:language>
  <cp:lastModifiedBy>Школа</cp:lastModifiedBy>
  <dcterms:modified xsi:type="dcterms:W3CDTF">2013-04-13T17:29:50Z</dcterms:modified>
  <cp:revision>12</cp:revision>
  <dc:subject/>
  <dc:title>Русский-язык</dc:title>
</cp:coreProperties>
</file>