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7D2-48EF-4C18-B69F-293F1F4D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66C-84FE-43AB-9F94-59E046D3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98A-B706-4C67-AC0D-3057E781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41A-3383-48B0-BDA1-8B7241FF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B43C-C35E-4D2D-B8EC-70766DB5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4057-DA30-4B1D-85C2-73694606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BDC4-833E-4930-8F89-954F0487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FEFA-2C09-4169-AE8B-8020020C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4606-AA8E-4EE1-B90B-8F9A4312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7C76-0E93-4EBC-B81D-6130F1AA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27A5-5F85-4E82-A740-EFD58662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FC6C-9620-4FE1-87CB-ABCE71F9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0AEB-928C-43C6-8A6C-FB91FCFE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5F16-4325-4876-838D-0103607D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912F-DC83-488B-A7EC-D3687994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7649-986D-40F6-BF80-30E384BD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275E-C12F-4DB9-B562-DFDE0E9B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F1E1C-664C-4A1F-8289-37642BC3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575C-CD64-4228-94DF-8578168E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F730-D626-4DAD-BD42-6DC64E6D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E013F-ACB1-4574-89FE-490F96C0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7E172-5794-4FC1-A149-2FEB541F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1E5-E2B9-4735-B907-08C376AE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2FA6B-2BF9-4384-A97F-B37E46C3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0D64-BEEE-4871-84B6-BA2C689F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2C61-98B4-41A4-8595-BBFEB861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3B50-69AB-4307-88D2-45369F1F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AD06-A827-4744-97D0-2B8EB31D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9B85-A33A-49E8-9BEC-9F99BA57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3D98-937C-43FA-8F27-28657AEB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C16-0792-4A29-9C36-819C38E2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CE5-3358-462F-9E66-8A49F7D4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48A-F116-40A0-98AA-D53C75AF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626-68FF-4301-AADE-D68F2805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586-6C9A-487D-9E72-6F40FDA2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008-0527-4A8C-BEC0-949B96EA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7C29-94CA-4093-816D-19FBEE78133F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63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79E6-DB3A-4A6B-8B1B-F2FFFA2C6FCA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3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4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7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20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7981-4965-4529-A45F-6BD73F1E212D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92000" y="1773000"/>
            <a:ext cx="5722920" cy="18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Русский язык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Arial"/>
              </a:rPr>
              <a:t>Подготовил Рыжов Евг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 rot="21540000">
            <a:off x="1115640" y="188640"/>
            <a:ext cx="3063960" cy="27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полните разбор по составу и определите склонение!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 rot="21540000">
            <a:off x="1147320" y="3623760"/>
            <a:ext cx="3049560" cy="21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ароход , золото, путешественник , газета , корзина , травин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C:\Program Files (x86)\Microsoft Office\MEDIA\CAGCAT10\j0216588.wmf"/>
          <p:cNvPicPr/>
          <p:nvPr/>
        </p:nvPicPr>
        <p:blipFill>
          <a:blip r:embed="rId2"/>
          <a:stretch/>
        </p:blipFill>
        <p:spPr>
          <a:xfrm>
            <a:off x="5364000" y="2276640"/>
            <a:ext cx="147636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21540000">
            <a:off x="1106280" y="2020680"/>
            <a:ext cx="30636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Спишите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Выполните синтаксический разбор предложения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Определите склонение и падеж существительны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 rot="21540000">
            <a:off x="1154160" y="3620880"/>
            <a:ext cx="304488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т сидит на чисто вымытом полу , выставил заднюю ногу пистолетом и вылизывает её , щуря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Рисунок 6" descr=""/>
          <p:cNvPicPr/>
          <p:nvPr/>
        </p:nvPicPr>
        <p:blipFill>
          <a:blip r:embed="rId2"/>
          <a:srcRect l="25941" t="0" r="25941" b="0"/>
          <a:stretch/>
        </p:blipFill>
        <p:spPr>
          <a:xfrm rot="60000">
            <a:off x="4898880" y="1225440"/>
            <a:ext cx="3348360" cy="4540320"/>
          </a:xfrm>
          <a:prstGeom prst="rect">
            <a:avLst/>
          </a:prstGeom>
          <a:ln cap="rnd" w="10152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</p:spTree>
  </p:cSld>
  <p:transition spd="slow">
    <p:randomBar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15:51:57Z</dcterms:created>
  <dc:creator>гена</dc:creator>
  <dc:description/>
  <dc:language>en-US</dc:language>
  <cp:lastModifiedBy>Школа</cp:lastModifiedBy>
  <dcterms:modified xsi:type="dcterms:W3CDTF">2013-04-13T17:29:50Z</dcterms:modified>
  <cp:revision>12</cp:revision>
  <dc:subject/>
  <dc:title>Русский-язык</dc:title>
</cp:coreProperties>
</file>