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401480" y="914400"/>
            <a:ext cx="4043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046160" y="4352760"/>
            <a:ext cx="4759200" cy="34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401840" y="888840"/>
            <a:ext cx="4052880" cy="31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401840" y="888840"/>
            <a:ext cx="4052880" cy="31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401840" y="914400"/>
            <a:ext cx="4052880" cy="31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401840" y="888840"/>
            <a:ext cx="4052880" cy="31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401840" y="914400"/>
            <a:ext cx="4051080" cy="31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401840" y="914400"/>
            <a:ext cx="4051080" cy="31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401840" y="914400"/>
            <a:ext cx="4048200" cy="31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610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2040" y="415548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696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2040" y="415548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6960" y="415548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98320" y="19051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34240" y="19051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2040" y="415548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98320" y="415548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34240" y="415548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67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190512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62040" y="515880"/>
            <a:ext cx="77961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67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6960" y="190512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040" y="415548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696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6960" y="415548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6960" y="19051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40" y="415548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2040" y="515880"/>
            <a:ext cx="77961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67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52480" indent="-28260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284120" indent="-21240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716120" indent="-20484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147760" indent="-20628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147760" indent="-20628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147760" indent="-206280">
              <a:lnSpc>
                <a:spcPct val="6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905120"/>
            <a:ext cx="84297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67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Урок литературного     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67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               </a:t>
            </a: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чтения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67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            </a:t>
            </a:r>
            <a:r>
              <a:rPr b="0" lang="ru-RU" sz="6600" spc="-1" strike="noStrike">
                <a:solidFill>
                  <a:srgbClr val="e6e6ff"/>
                </a:solidFill>
                <a:latin typeface="Times New Roman"/>
              </a:rPr>
              <a:t>в 3 классе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2040" y="888840"/>
            <a:ext cx="7805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805520" cy="42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0720" cy="595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040" y="560160"/>
            <a:ext cx="78055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0552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en-GB" sz="7200" spc="-1" strike="noStrike">
                <a:solidFill>
                  <a:srgbClr val="e6e6ff"/>
                </a:solidFill>
                <a:latin typeface="Times New Roman"/>
              </a:rPr>
              <a:t>Платонов А.П.</a:t>
            </a:r>
            <a:endParaRPr b="0" lang="en-US" sz="72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e6e6ff"/>
                </a:solidFill>
                <a:latin typeface="Times New Roman"/>
              </a:rPr>
              <a:t>«Цветок на земле»</a:t>
            </a:r>
            <a:endParaRPr b="0" lang="en-US" sz="72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191880"/>
            <a:ext cx="8101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19320" y="1079640"/>
            <a:ext cx="4940280" cy="54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040" y="888840"/>
            <a:ext cx="7805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805520" cy="42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7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101080" cy="59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2040" y="560520"/>
            <a:ext cx="7804080" cy="11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ВНЕШНОСТЬ ДЕДА ТИТА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040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e6e6ff"/>
                </a:solidFill>
                <a:latin typeface="Times New Roman"/>
              </a:rPr>
              <a:t>БОРОДА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e6e6ff"/>
                </a:solidFill>
                <a:latin typeface="Times New Roman"/>
              </a:rPr>
              <a:t>РУКИ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e6e6ff"/>
                </a:solidFill>
                <a:latin typeface="Times New Roman"/>
              </a:rPr>
              <a:t>ГЛАЗА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2040" y="560520"/>
            <a:ext cx="7804080" cy="11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КАЧЕСТВА АФОН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619280"/>
            <a:ext cx="780408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ff"/>
                </a:solidFill>
                <a:latin typeface="Times New Roman"/>
              </a:rPr>
              <a:t>ВНИМАТЕЛЬНЫЙ, ЗАБОТЛИВЫ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ff"/>
                </a:solidFill>
                <a:latin typeface="Times New Roman"/>
              </a:rPr>
              <a:t>ВДУМЧИВЫ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ff"/>
                </a:solidFill>
                <a:latin typeface="Times New Roman"/>
              </a:rPr>
              <a:t>УПОРНЫЙ, НАСТОЙЧИВЫ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ff"/>
                </a:solidFill>
                <a:latin typeface="Times New Roman"/>
              </a:rPr>
              <a:t>ЛЮБОЗНАТЕЛЬНЫ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ff"/>
                </a:solidFill>
                <a:latin typeface="Times New Roman"/>
              </a:rPr>
              <a:t>ДОБРЫЙ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845964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ff"/>
                </a:solidFill>
                <a:latin typeface="Times New Roman"/>
              </a:rPr>
              <a:t>Самое удивительное чудо на земле – это жизнь.</a:t>
            </a:r>
            <a:br>
              <a:rPr sz="4000"/>
            </a:br>
            <a:r>
              <a:rPr b="0" lang="en-GB" sz="4000" spc="-1" strike="noStrike">
                <a:solidFill>
                  <a:srgbClr val="e6e6ff"/>
                </a:solidFill>
                <a:latin typeface="Times New Roman"/>
              </a:rPr>
              <a:t>Цветок – символ жизни.</a:t>
            </a:r>
            <a:endParaRPr b="0" lang="en-US" sz="40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8440" y="1800360"/>
            <a:ext cx="78008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74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Цветы, как люди, на добро щедры,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74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И, щедро нежность людям отдавая,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74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Они цветут, сердца отогревая, 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  <a:p>
            <a:pPr marL="420840" indent="-316080">
              <a:lnSpc>
                <a:spcPct val="74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6e6ff"/>
                </a:solidFill>
                <a:latin typeface="Times New Roman"/>
              </a:rPr>
              <a:t>Как маленькие тёплые костры.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Сергеевна</cp:lastModifiedBy>
  <dcterms:modified xsi:type="dcterms:W3CDTF">2012-03-14T10:19:15Z</dcterms:modified>
  <cp:revision>8</cp:revision>
  <dc:subject/>
  <dc:title>Лёня Горб</dc:title>
</cp:coreProperties>
</file>