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C1ED-245C-4BE9-B242-08422F7CB3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2470-73A7-4C2A-BF8F-82792993B6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DE12-6E43-43DE-B622-2DA6B916DE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522E-E301-4E20-992C-41A807876D7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FC08-CB65-4B66-A991-6A2DB4D5D6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462C-5BF8-4247-9FA7-25095FFE5E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C5B9-86C6-4765-8807-B5EF40DF29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59D6-BF75-443B-86F8-9729F06C17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C14A-DF7D-4671-8052-57FDF826A1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366-3B44-4AB7-A125-BAC69606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D605-791A-4BC5-97D5-08516E92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1AE81-B485-402E-8CDC-9BE2A0EC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358CA-42E6-43F4-BAF6-CDB77B70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0DB0A-CFFD-4A13-B057-21D5E233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2D7F4-CF8B-4D4E-9489-996446B0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28960-9003-4D2D-A1D3-E0869048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05905-69F9-4A44-BFC2-74DF1013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9708C-1440-4502-931B-164DB73C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391FD-F094-49CF-A051-989C58BD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CFBF2-01F8-4915-9BDE-3BA69D66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714ED-B08A-4D20-82CC-97F0263C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FA2-F45E-40F9-B180-AFE1D85D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61E73-77B1-494A-93E9-1F29216E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E6E32-2490-40BD-A110-EC43DEAF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E8004-9956-4651-A33D-994D3119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4922E-42AC-41B7-8412-25EC6223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D54DD-0CA1-4A36-A48C-B6E57D33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80FF7-FB85-4D87-9FA2-E6BE52D5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100CF-B7CD-4893-A620-0506D9E0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5159D-D0AE-4F43-B495-E69DEA76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D392F-326C-4F9E-B67C-0A54823E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29523-23DC-43AC-B917-D7F6AFD3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9F6-3CAD-4EEC-82DB-BE9DE59B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30235-30EC-4B84-8183-39EB45B3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7C962-02EB-400C-819B-E64656A0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175FE-B0DB-409F-851E-EEC95A61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4422C-CC8C-45CF-A7E4-EC45D586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3C5C8-9261-45A9-9EDB-5BB01F9A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B599C-D20E-4BFD-AE23-C2C1EC43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B938A-7B0D-4004-A859-7DA62B75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14C0D-4914-4C1A-8EAE-0D31DCD0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E4C9A-0C2E-4370-B023-23BE2B13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25B77-6D7B-48DD-A3FA-139287EC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6C59-C017-42DB-8479-7CFA11EC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51BE8-6832-4568-B272-1F3AC882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43BFE-8E8A-4254-88D2-E168C430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38B5C-43A6-4546-9B33-C66399A4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BE450-6C4B-4054-817F-58B0136C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16765-96E8-4B92-9DC9-988D05F2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5C914-3F55-4D19-9A0A-E3382B6E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43036-54A5-4AAD-B523-7C0F04BB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EC68B-B1F7-49A4-9228-0DD51186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78FF5-90B5-4E6A-BC2A-D0CD95E4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0EF96-F716-4D43-9F54-DB3DA1B9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EABE-1AAB-4B95-9ED0-8A22A43A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90B42-8F60-47E7-B8B8-C55CFA1F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408CA-8E6B-4CA6-9DD5-6B6DB492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F7F70-8D6F-4621-8CCD-1E24C661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B7E96-EF5C-477B-B4C2-3E91DCC2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051AC-DEE0-4143-A5DF-12C53D2D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1299-4847-4BFC-B3B6-13569852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1B42-3D4E-493E-9E19-0F92CF12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52AE-D52A-4453-86AB-8D63D939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18BB-F6DF-453B-8F24-55B0186B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E18E-38E0-46AB-9CE0-5B6B120A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898-5B70-40BB-A87B-82734351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1CFD-B4E1-4851-9F86-BAA973A7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CCB4-0D5A-4EEB-B586-D5AC945D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AC9E-B899-4158-855C-4158E5E8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E115-4303-4812-B0A5-0755B35D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34AB-4247-4BB5-9B9A-B7CD58B9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2A998-1CCB-4EE3-A68A-A5B7465F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1BB3-FC81-4A94-B95F-617942D7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7A08A-0C7F-4FD7-B8A2-C08FCDBC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4A3D8-A467-4660-B440-BE41F426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64BEF-907D-4B1C-BF94-C80920E5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86E-4E80-4B73-B041-36D8CE2E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C4C99-E89D-4A8C-B5EA-CCF1F289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AAD77-8444-4237-A9CC-B6356DFD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EE554-F95B-458F-B550-B072A11E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F0ADF-9462-4C30-9535-F1A353E6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824C3-B90E-4376-994B-D803C534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3E2A8-CB09-4884-9BCF-09981374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CC711-C380-4CB1-ABDA-AC3559AD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E2B25-B440-499A-8025-1F6705BB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4BEA1-B939-4C91-8A09-2F3E1B76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ABDAA-F24F-4F8B-BED2-6611AFDE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FF9-F718-45A4-AFF4-1F5AA92E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48AE2-354B-4AA3-9FE1-7A0F5CED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00D90-5B27-43AE-BC21-4921F457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19641-B1DA-4CD2-A7E9-716813DB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9F05B-8A52-4E1F-B6AB-3EA5D2BE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A3F6-D992-4611-AF1C-7DAE2892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ED896-99F9-4DA8-A733-A9D1DFAC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7B83D-5074-4FD1-BC2F-0600A005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4F099-89CB-42DD-A8B4-5F560A15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B7B25-D8FB-4F41-B91D-38FE9635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2C4F9-DAF8-46F1-AF42-DB605371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6F3-0B95-4374-B8DB-281FFE4C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12575-1C62-4FDC-96AD-1938A2F7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5268B-8EA5-4E14-BB9A-8DD0156A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822A8-CB75-40CC-BF6E-38E6E5BF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B8D6C-9664-4E78-9400-D2BA6CC4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BB73A-3202-4303-B120-445B3A93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F43BF-2046-4A8B-B898-95AD601E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06B62-ABCD-4237-B7C5-7AC969F3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4FA07-C591-43B6-905A-8B484103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EC0FD-210B-4DFD-9015-72E1CED0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650A5-6C5D-4DF7-9A73-FF42F768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FCD-D2E2-43BB-B9C3-B04B5A77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E8828-3837-4312-BA04-136D49E5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6DCD7-B700-4670-B44D-1CEA94EF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5DC4B-FEC6-44B9-9766-BD048F07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8A738-4FA8-4C48-A2BE-BD16C11B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A5859-193D-4A5E-923C-E987175F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08961-BF19-420B-84CA-64936C84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94373-1CB5-4FA0-B862-F518EE5C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BDDBF-2A24-44A3-B402-9012EEA5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58FCF-0A50-4ECB-89DD-B6F09C86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D0F5F-9926-43B3-88A9-1EFA2EB7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AF5-F620-4D5B-B0B6-D0811D71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237BE-6110-480D-86F5-8A49163E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633EF-A899-4F0F-9D5A-FBC5E82E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8A724-89D2-4970-93B4-83B779FE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FCE5B-987B-4BEA-9BA1-3B2F20ED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B5E2E-E9F1-4E74-81B9-DD13A2CB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01F13-8534-4877-AA88-B79A6971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BA028-0B85-4E65-A8F0-35FDB53C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29008-B96E-4C05-9C24-F4EB03D7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DF96F-1EBA-440A-86A6-49BF1F8C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5E630-3393-410C-B9A2-48A6629F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3AC-312E-437C-9208-AF272B57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FAE8A-28DB-43B5-ABB5-DB8EFF4D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4FACB-F956-4203-9E6D-A641E88E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2D11F-A6D9-41C8-AE62-5311CC63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A35E2-4B25-40F3-9D35-A6A4E48A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CE865-34B2-450F-826F-99CEED8B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C19FA-0288-4B1B-8BC8-BE4A912B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CF645-5359-4427-A955-210E0FC7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72B09-2EEB-49BD-88FD-8B866E03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3EB2F-EF1C-4864-931B-C18BC18D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797DF-236E-47F0-A55A-64AAA4C8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07D-8258-4B5A-957F-1EA41307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8D8AD-2683-462B-9A94-8044A707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BAC9E-588B-49C1-8144-D0A141C2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FC341-94C8-4DB3-846A-7C33FC1C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0FC95-91BB-4C3C-9D6F-CB06BD3E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97A76-E58C-4407-85A3-D5D7A983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EB787-FE18-4389-9130-03E916C0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8109C-A53F-40AE-A863-121DBA69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84F7D-005B-4141-90B9-C4234AE1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6A7C7-16C6-424C-81EC-4039BC2F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4751A-FB14-4760-8126-638260E6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6455-C165-4675-9818-3B52D8E6FB2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03D7-8D63-4845-8BC5-4F1ABF8A50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A88E-5E40-4EA3-88BB-32F6A029F7D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1E8F-303D-4D78-95D3-E0A15D983C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BEA3-33E8-4773-8C55-687786169F6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DB51-F5DA-4400-A636-3845E06B71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6E8F-C0E6-49AB-9400-6C616A7474C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EB15-630E-4885-A052-65F0992EF0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3F85-E87D-4FBF-84A5-A074A487E67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C4F4-E688-477A-9270-5F1BFC7053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3F4A-DB68-428C-AD68-6139A6D3413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EEE4-5D84-4D8B-A221-0E5931D740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648D-9ED1-4ACF-95C1-7EB78198BD2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B6EB-A3C2-4BC2-8A90-EC7EA9D9BD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20D0-8FF2-4175-8C76-FC0D819DC04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4B74-DC4A-4C0F-9C2E-C44C35FC4D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E346-B1A3-468F-9E16-150A8DF14C7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CB76-8613-4AC6-9DA4-94F421E3523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E207-86A9-48BC-BAC2-E4315EADB44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C8AC-04D1-4E27-8AC7-76426993FB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B867-9D1D-48F6-A1C7-081CDA1ECEC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0D21-1446-4092-A82B-5F2E803197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3D13-5C50-4D2D-A5FA-9CC3D1B405E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922D-F9D6-48E8-9F68-566187EE64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3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0F79-F9F4-4115-8BCB-CFFF8538FB1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Rectangle 103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34D0-46B0-4BBE-8F93-42F033ACD15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сциплина – это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981080" y="533520"/>
            <a:ext cx="563904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Методическая разработк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ть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6" descr="rugat_rebenka"/>
          <p:cNvPicPr/>
          <p:nvPr/>
        </p:nvPicPr>
        <p:blipFill>
          <a:blip r:embed="rId1"/>
          <a:stretch/>
        </p:blipFill>
        <p:spPr>
          <a:xfrm>
            <a:off x="4191120" y="3124080"/>
            <a:ext cx="4752720" cy="354348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E7C5-F79F-4B91-9873-1F5E70323D3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C813-6E8B-46D4-BBDD-57C867B452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Ребенок должен знать, какие правила существуют в его семье и обществе и стараться их выполнять.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Picture 4" descr="664541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p:transition advTm="11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9279-C64D-493E-97B9-497E4FF3061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F0C6-4916-446C-838A-BEAF29256E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5" name="Picture 4" descr="getImage (9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Все разногласия обсуждаются в отсутствие ребенка т.о., чтобы было найдено компромиссное решение проблемы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advTm="11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E66C-740B-4C43-A836-D40567DD3EC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72C9-6A57-423D-92B8-71C26B2266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Высказывая ребенку свои требования, родители не должны использовать повелительную  форму и командный тон. Тон должен быть дружественным. Ребенку нужно не приказывать, а разъяснять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00" name="Picture 5" descr="enregistrement-mémoire1"/>
          <p:cNvPicPr/>
          <p:nvPr/>
        </p:nvPicPr>
        <p:blipFill>
          <a:blip r:embed="rId1"/>
          <a:stretch/>
        </p:blipFill>
        <p:spPr>
          <a:xfrm>
            <a:off x="1143000" y="2438280"/>
            <a:ext cx="6781680" cy="406260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0E5D-998B-4175-BA67-25D1278D031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CEF1-D883-47FC-965B-B75F9B9670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3" name="Picture 4" descr="2271"/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9436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66"/>
                </a:solidFill>
                <a:latin typeface="Arial"/>
              </a:rPr>
              <a:t>А. Н. Чернышевский писал: </a:t>
            </a:r>
            <a:br>
              <a:rPr sz="3200"/>
            </a:br>
            <a:br>
              <a:rPr sz="3200"/>
            </a:b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«Ребенок, который переносит меньше оскорблений, вырастает человеком, более  сознающим свое достоинство!»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advTm="11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8D0F-46D0-4668-BA6D-CDC14D02396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2146-5161-420D-A263-A1F9275E1A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Он борется за ваше внимание, которое необходимо ему для нормального развития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9" name="Picture 4" descr="1427881_hID20f"/>
          <p:cNvPicPr/>
          <p:nvPr/>
        </p:nvPicPr>
        <p:blipFill>
          <a:blip r:embed="rId1"/>
          <a:stretch/>
        </p:blipFill>
        <p:spPr>
          <a:xfrm>
            <a:off x="533520" y="1981080"/>
            <a:ext cx="8153280" cy="471492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Подготовила:</a:t>
            </a: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воспитатель ГБОУ ДОУ№ 2567</a:t>
            </a:r>
            <a:br>
              <a:rPr sz="2000"/>
            </a:b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Хайбатова М.З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4" name="Picture 4" descr="getImage"/>
          <p:cNvPicPr/>
          <p:nvPr/>
        </p:nvPicPr>
        <p:blipFill>
          <a:blip r:embed="rId1"/>
          <a:stretch/>
        </p:blipFill>
        <p:spPr>
          <a:xfrm>
            <a:off x="685800" y="182880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1CEF-94CF-47E2-A52C-A723525B76F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BF11-CABA-4415-B6C2-D211DBF296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Доброта – должна быть строгой!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жизни каждого человека с детства должны быть определенные запре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туальная в наши дни те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блема «Отцов и детей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Picture 7" descr="imagedb_php"/>
          <p:cNvPicPr/>
          <p:nvPr/>
        </p:nvPicPr>
        <p:blipFill>
          <a:blip r:embed="rId1"/>
          <a:stretch/>
        </p:blipFill>
        <p:spPr>
          <a:xfrm>
            <a:off x="5181480" y="1981080"/>
            <a:ext cx="3962520" cy="4648320"/>
          </a:xfrm>
          <a:prstGeom prst="rect">
            <a:avLst/>
          </a:prstGeom>
          <a:ln w="0">
            <a:noFill/>
          </a:ln>
        </p:spPr>
      </p:pic>
    </p:spTree>
  </p:cSld>
  <p:transition advTm="15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0271-721D-4FDE-8E2F-78E1B72E568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7EB9-E299-4B7C-AD01-D4EB2F1656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7" name="Picture 15" descr="temper-tantrum"/>
          <p:cNvPicPr/>
          <p:nvPr/>
        </p:nvPicPr>
        <p:blipFill>
          <a:blip r:embed="rId1"/>
          <a:stretch/>
        </p:blipFill>
        <p:spPr>
          <a:xfrm>
            <a:off x="762120" y="685800"/>
            <a:ext cx="5943600" cy="563868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9" name="Puzzle5"/>
          <p:cNvSpPr/>
          <p:nvPr/>
        </p:nvSpPr>
        <p:spPr>
          <a:xfrm>
            <a:off x="6019920" y="4327560"/>
            <a:ext cx="1523880" cy="12063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ризи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uzzle2"/>
          <p:cNvSpPr/>
          <p:nvPr/>
        </p:nvSpPr>
        <p:spPr>
          <a:xfrm>
            <a:off x="5124600" y="5470560"/>
            <a:ext cx="1523880" cy="94788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то виноват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uzzle3"/>
          <p:cNvSpPr/>
          <p:nvPr/>
        </p:nvSpPr>
        <p:spPr>
          <a:xfrm>
            <a:off x="6294600" y="5081760"/>
            <a:ext cx="963360" cy="13269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к быть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uzzle4"/>
          <p:cNvSpPr/>
          <p:nvPr/>
        </p:nvSpPr>
        <p:spPr>
          <a:xfrm>
            <a:off x="5438880" y="4297320"/>
            <a:ext cx="904680" cy="157500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стери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uzzle5"/>
          <p:cNvSpPr/>
          <p:nvPr/>
        </p:nvSpPr>
        <p:spPr>
          <a:xfrm>
            <a:off x="4267080" y="4332240"/>
            <a:ext cx="1524240" cy="120672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пт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uzzle3"/>
          <p:cNvSpPr/>
          <p:nvPr/>
        </p:nvSpPr>
        <p:spPr>
          <a:xfrm>
            <a:off x="4541760" y="5086440"/>
            <a:ext cx="963720" cy="13269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то прав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uzzle2"/>
          <p:cNvSpPr/>
          <p:nvPr/>
        </p:nvSpPr>
        <p:spPr>
          <a:xfrm>
            <a:off x="5126040" y="3741840"/>
            <a:ext cx="1523880" cy="9475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uzzle3"/>
          <p:cNvSpPr/>
          <p:nvPr/>
        </p:nvSpPr>
        <p:spPr>
          <a:xfrm>
            <a:off x="6296040" y="3352680"/>
            <a:ext cx="963720" cy="132732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а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uzzle3"/>
          <p:cNvSpPr/>
          <p:nvPr/>
        </p:nvSpPr>
        <p:spPr>
          <a:xfrm>
            <a:off x="4543560" y="3357720"/>
            <a:ext cx="963360" cy="1326960"/>
          </a:xfrm>
          <a:prstGeom prst="pi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приз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EFBA-45FD-4A27-BA55-2257357AF0E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BE0E-42BE-4590-9795-8544BF79F0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0" name="Picture 6" descr="iStock Timeout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8672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2560" y="-360"/>
            <a:ext cx="80805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Arial"/>
              </a:rPr>
              <a:t>Помните о том, что ваши запреты никогда не должны противоречить естественным потребностям вашего ребенка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2560" y="3733560"/>
            <a:ext cx="7772400" cy="75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29880" bIns="298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7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2C40-D13C-4286-B686-7DE5F77BAD2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6A5E-FF4C-447D-9CF7-C4A0F3F87F9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4346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гласованность действий в воспита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допустимо, чтобы взрослые (не только родители, но и бабушки с дедушками) предварительно не согласовывали  предъявленные к детям требования между соб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7" name="Picture 6" descr="links"/>
          <p:cNvPicPr/>
          <p:nvPr/>
        </p:nvPicPr>
        <p:blipFill>
          <a:blip r:embed="rId1"/>
          <a:stretch/>
        </p:blipFill>
        <p:spPr>
          <a:xfrm>
            <a:off x="4876920" y="1752480"/>
            <a:ext cx="4267080" cy="3953160"/>
          </a:xfrm>
          <a:prstGeom prst="rect">
            <a:avLst/>
          </a:prstGeom>
          <a:ln w="0">
            <a:noFill/>
          </a:ln>
        </p:spPr>
      </p:pic>
    </p:spTree>
  </p:cSld>
  <p:transition advTm="22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B545-C3BD-4BCC-AEC3-65C8604368F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D2EB-C4C5-4171-B8A0-B0E1A275AF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Метод кнута или пряника?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казанием для ребенка должно быть лишение его чего-то хорошего, а не причинение ему боли, обиды и т. 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2" name="Picture 6" descr="AB05876"/>
          <p:cNvPicPr/>
          <p:nvPr/>
        </p:nvPicPr>
        <p:blipFill>
          <a:blip r:embed="rId1"/>
          <a:stretch/>
        </p:blipFill>
        <p:spPr>
          <a:xfrm>
            <a:off x="4191120" y="1981080"/>
            <a:ext cx="4952880" cy="461016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204D-CCCE-4E88-B4BA-419CF7BD7E9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48BB-B017-4CEF-95B5-C0743DBC8E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сциплина?...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38829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возможно добиться от своих детей сознательного выполнения  каких-то требований без учета чувств, переживаний, эмоций, потребностей и интересов каждого ребе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7" name="Picture 6" descr="Cap6CN0RBuc"/>
          <p:cNvPicPr/>
          <p:nvPr/>
        </p:nvPicPr>
        <p:blipFill>
          <a:blip r:embed="rId1"/>
          <a:stretch/>
        </p:blipFill>
        <p:spPr>
          <a:xfrm>
            <a:off x="0" y="1600200"/>
            <a:ext cx="4800600" cy="5105520"/>
          </a:xfrm>
          <a:prstGeom prst="rect">
            <a:avLst/>
          </a:prstGeom>
          <a:ln w="0">
            <a:noFill/>
          </a:ln>
        </p:spPr>
      </p:pic>
    </p:spTree>
  </p:cSld>
  <p:transition advTm="12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97F4-E151-4DCE-8611-9C62A8F770E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2032-3E4A-4179-8306-1CEA40B2AAE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0" name="Picture 8" descr="getImage (10)"/>
          <p:cNvPicPr/>
          <p:nvPr/>
        </p:nvPicPr>
        <p:blipFill>
          <a:blip r:embed="rId1"/>
          <a:stretch/>
        </p:blipFill>
        <p:spPr>
          <a:xfrm>
            <a:off x="0" y="0"/>
            <a:ext cx="9105840" cy="685800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Бесконфликтная ситуация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рядок и дисциплину нужно не насаждать своим детям, а прививать осторожно и терпеливо. Только в таком случае можно добиться бесконфликтной дисципли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4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52BC-D351-4A3B-A66E-58623BB2430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6E48-57DE-43B6-A789-6F4B643ECE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шибочная позиция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9657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ь родители, которые считают, что дисциплина совсем необязательна, что ребенок должен развиваться естественно, т. к. подсказывает ему природа. Дескать, всякие правила всегда принимаются детьми в «штыки»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Picture 4" descr="manos2"/>
          <p:cNvPicPr/>
          <p:nvPr/>
        </p:nvPicPr>
        <p:blipFill>
          <a:blip r:embed="rId1"/>
          <a:stretch/>
        </p:blipFill>
        <p:spPr>
          <a:xfrm>
            <a:off x="4343400" y="1676520"/>
            <a:ext cx="4648320" cy="4267080"/>
          </a:xfrm>
          <a:prstGeom prst="rect">
            <a:avLst/>
          </a:prstGeom>
          <a:ln w="0">
            <a:noFill/>
          </a:ln>
        </p:spPr>
      </p:pic>
    </p:spTree>
  </p:cSld>
  <p:transition advTm="11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3-04-13T12:54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