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047-E773-4381-90E2-6F100F09C3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874-F954-4E20-848E-A3C740AD33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83DD-791B-44C5-8BCE-4A3B4CB9D9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BD6-43E6-4613-851A-C15C16EE17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9CB-60A8-4A99-99AC-90C07B613B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D7B-4FA3-4E10-912D-A603E4F8D1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D3C-DA81-4407-80EE-146C403321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84F-95F2-45E8-9654-00A9602539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361-5812-4096-A3BC-73F3CF4393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236-5471-4EEB-9E03-98185CB9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451-2C01-4BE3-AE6D-308E4ED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B2583-EEB5-4E64-99F3-CF9EF54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01794-F002-4945-95C3-7961F642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8C88F-62BC-4DD6-BF8A-61617667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332E4-C089-41F8-89A0-0D9EC246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F8835-3865-402D-815A-474F896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C3775-306A-46FF-80B0-BA0D8804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F345E-8980-4193-A7A3-253465F9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E9F05-C729-4AA5-B00E-BCBF782F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FD213-8376-470D-A638-90A9C6F5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147B9-0048-4733-B513-452547D8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98B-7D94-499E-830A-210B2034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6774C-7027-43A8-9702-F7114E5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7054A-077C-40F6-8B0B-DB81CE3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A8989-3712-4076-9692-E7C33592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F13CA-FB7C-4387-8C72-5D9218FD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F9FF1-35FC-47E8-9956-B6E0F257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D2A30-F0F7-4EAB-A74C-21041F0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5274E-95EA-4FB6-B2FE-766BBD7B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F1C44-48A3-4562-92CA-3D209C8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13672-1152-4E8F-BD69-2BBA0B14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B06B2-3460-4056-9A64-A49334DC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4FE-9A37-4879-88B7-EFBB24A9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C737B-207C-44A5-9E7C-8731A744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79182-747A-4896-A31D-12A9C4D6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0FC69-4B2A-4383-BFEF-2ACC60A2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CBE5D-754B-4EAD-952D-F10E3780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03957-B105-47CA-8242-FC89ED18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0074A-618D-4105-A8BE-BAE36AD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4B2DA-80AF-45D5-AF15-C7701B94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8C4F6-7D4E-427D-8B3B-0F92DE2F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ED2A-A4A2-48FD-AB68-C9CEFC9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A8AB9-B1F7-42F7-9E3A-1AC60EC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CD19-3B23-4E1C-96B1-FB96C3A1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41D3-BB5B-46D5-B067-6701388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2410F-0450-4A50-A21C-819F7095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DC491-3DDC-4970-ABD7-562B705C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9E467-381F-4579-B861-861C3C73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CDCE9-58E1-41A5-A797-A2E44EC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31DAD-7A70-46CE-9B70-0E6CB276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4A73E-93C4-4C84-BBD2-24EB504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E5518-F6EA-4C9A-8499-95628817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B5B0C-A0AD-4168-B094-BD0F9235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33146-0E2D-43EB-AF8C-E906147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1FFF-6F87-4863-B7B4-E84969B0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A319A-12B7-432B-895E-B2619BFD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36531-CE6B-456D-A7BA-4279968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C658A-874C-48A8-87E6-E211034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ECC95-DB9C-485C-93B3-F9DAFC0D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ACCAA-C5AE-4A42-95A1-BA722542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C716-6E4F-431D-81DE-ADCDEBB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1E8-9FA1-45A6-B7A6-E0925FF3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3FD9-A104-4A91-BC5A-060284C2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1C53-08B1-4896-8A31-EA56FCD9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A418-FA60-4236-BB3D-4A5769A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103-9BDC-432C-ADE2-ABBDF8A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2E89-7FE9-4B01-861D-9697BA9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EC1C-2E0D-4F4B-A44E-76F7F73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D305-AAAC-42CC-B462-D24CE4B9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DECC-CB64-4FA6-A56A-37E31B78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DC0D-263A-4112-B2BE-768289E0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5FBB-8B11-479A-9833-3D2302BE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358C-D3E9-4FE0-9C15-215ABC2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9DA2-3581-48DD-AA25-7DB9ABF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A0B0-8A75-482E-B923-0AABB81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D5BF-6EAE-4B47-89ED-2E8516D6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D9D-CACC-4EBF-8862-1677B5F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EAE4-BE27-4AD3-B002-779FFA3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42D1-DDD5-4686-86DC-8BE47F9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D7F4-CA1E-4C24-965B-5475552D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C040-6BD7-49A7-AB39-FD993174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6E83-8EC5-4A03-9FDD-7666D1A7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1104-4A83-4E15-AF4D-23976584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1554-84AE-4BAF-98B9-BFBB0820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2831-33FD-454A-9186-B8865984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7B1C-777C-4881-8495-AAAC835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7657-AF79-42F8-B244-F6ECBABD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46A-734C-4943-B500-A462AAA0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73B2-3E8F-4FA1-A844-BCBF61F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5B13-B033-4EF0-A1BD-601C162F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561E-1219-4940-9609-3CDCC0F6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9512-F16A-4F93-81CD-9F56478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0ACF-6CCE-47A7-A447-0CD5F64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3C02-1A39-4731-9496-5E6C3F8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F59C-85D4-49ED-91BF-0A2BE9B3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9B88-A940-4F66-A0D7-95EC7717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F5A2-5C05-49CD-A991-CE2ABEF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4A0A-EDF6-4765-80A7-70B3E007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0AB-DB27-43E0-B0CF-7DD2F804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DFC21-89D2-4737-BECD-2F00460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D67E-FD0E-4637-9E61-644F56B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05C4-9FD0-413E-8C1C-2B2203FA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A6C0-0495-4206-AFBB-B4E36D0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A7D7-8A80-4D69-8FAD-3B95482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7C5F-2E7C-402D-AA2E-CE6024B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7F039-70C8-4234-9BAA-97332D6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57C6-59C7-444C-8E93-ACE716A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CB39B-1041-45B8-AAD0-06C1DA0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EADE-C4AE-4BC3-AD6D-E3C69797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4F1-84DB-43DD-AEFF-9CA4A14E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C551-0CB3-4B99-A732-B9E1987F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35AA7-AFF9-4B85-9027-0C3620AC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B8DA-B357-46DB-B6B5-99CF597A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6B238-7C28-4798-B4D8-AF2A83BB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EBC18-BA4A-4491-9779-BA9B1CBD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2EF6-B0CF-4119-B1AC-AB5A36D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0209D-83E0-41DF-82FB-4B15D576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5D7C-C404-45C7-A1C3-08F6C009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89EC1-C015-498B-BD73-7651A20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DD5B6-895F-4904-9CAB-6430577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BF1-4803-4A2B-8F12-F9BEF11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4C1E-122F-4FB5-8A93-AC51A53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6131-F56F-467E-BB5E-D41DFA85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2361C-F9CF-426D-9B92-3E3011CA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344CE-6729-4D16-B6A2-BA19FC9D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C7D7-30AB-4F67-A31B-121F901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79321-FA33-4D59-BA0F-07EB100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FAC1B-489B-42B1-B1A7-D246C38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7B18-7330-44EA-A732-062ACD9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58120-F81D-44E9-93FD-02D1E25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AB4AA-D486-4902-84BE-A61AC2C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EB0-F617-4C31-A7F1-C55C081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EC1C0-1765-4B23-B848-1E6293C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51CDB-22C0-4190-A0F3-6159338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6B9EA-861A-4F46-A687-FD191506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DA3D-C9B2-4489-85CE-29B3DD54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5D7A-0AE0-4249-A9D9-DF4089BB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B10D6-C31E-468C-82DC-B674D51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97513-AE39-4281-AD67-C5C1ADE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29D3D-D610-4A82-8F0C-E7F19D4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772B-00C6-4D60-A1F2-686011C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DBFD-0008-4FFD-B191-70061B15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9EB-2FF7-4327-B8C7-2FA6711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F7088-3CA3-4430-BFA3-584C7436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B7109-F0A6-411C-B1D3-4B81F36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EF2E-388C-4227-ABD1-9DD2FC4A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AD65-D124-4C01-932C-DA45DF0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509E-842D-4FE5-A696-268A533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76499-3E83-4922-846C-9C8DC202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8486-F532-4B2F-9713-5E03A775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6009D-3B64-4B7C-B6F2-0368EA1B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8CC2D-723A-47EB-812E-A54EB256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AD95D-F412-4410-9286-C139A79A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353-2DEE-4125-9892-1D93BBA852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13D-7BE2-43E1-B5FE-C1C60FEF42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D46-CA31-4555-9D4F-58CE0368C12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ADF-6E11-46DA-9B93-D778798D10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CE23-E6F9-4CAC-88FD-44303F93C97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CEC8-D695-428C-A15E-1E462F914A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0BFD-625F-4BC1-86A0-02E8A738347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D50-93CD-408A-8889-82F854459B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C21-45F1-4BD7-83B7-DFEA654D28D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FB8-A9DB-441C-ACE0-E95684DFFA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FB51-84A8-4D04-AD47-E16EC3C3B12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EAE1-F309-4228-9499-662595F174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7BA8-0AF0-4BC1-B7B2-848B2175A3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CC0A-A72E-470E-A6E4-2EB4B441EE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5745-ED77-400C-A4C9-10AC419DEFB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3EE-3942-4798-AE4B-1E71229B03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3615-F852-4B9F-B51E-CB1E026F339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85E-4990-45F1-B65B-6FA0FD62FA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7942-4706-4698-9522-967BA133FA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6B7D-6B81-42C2-A781-35F5FA1C89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EC27-6C7B-40AA-9BB0-E6ABAF9E38B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48F0-20BA-41AB-9F5C-1224B80A99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8C2-CE31-4288-AE30-B09823AD399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C9A6-66DA-44B2-80D7-002CB204E6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3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3997-B278-4046-87EA-1E669475C57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03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862B-7B71-4DEC-B5CF-168CBE5C85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сциплина – это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981080" y="533520"/>
            <a:ext cx="563904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Методическая разработ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6" descr="rugat_rebenka"/>
          <p:cNvPicPr/>
          <p:nvPr/>
        </p:nvPicPr>
        <p:blipFill>
          <a:blip r:embed="rId1"/>
          <a:stretch/>
        </p:blipFill>
        <p:spPr>
          <a:xfrm>
            <a:off x="4191120" y="3124080"/>
            <a:ext cx="4752720" cy="354348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DE39-56B3-488D-B34F-25292CF3167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49B-A343-4529-87D8-647DD018FE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Ребенок должен знать, какие правила существуют в его семье и обществе и стараться их выполнять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4" descr="664541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D9C-8045-440C-8F9B-6D4E1437ACA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DEE1-B653-411E-8D4F-3BA639F1DF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4" descr="getImage (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се разногласия обсуждаются в отсутствие ребенка т.о., чтобы было найдено компромиссное решение проблемы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728-57CE-424E-9B93-4803E8297D2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3E0-F79C-4EF8-9EA8-7B446AD3D6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Высказывая ребенку свои требования, родители не должны использовать повелительную  форму и командный тон. Тон должен быть дружественным. Ребенку нужно не приказывать, а разъяснять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0" name="Picture 5" descr="enregistrement-mémoire1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406260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C26-D541-4357-9904-4BDE47BFD8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E726-96BB-4C89-BED3-758F93FE3B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Picture 4" descr="2271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А. Н. Чернышевский писал: </a:t>
            </a: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«Ребенок, который переносит меньше оскорблений, вырастает человеком, более  сознающим свое достоинство!»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advTm="11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769A-4F59-4C6C-9A33-03E059BF8ED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2F1D-7F2D-41B7-A5F1-E9E521F371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Он борется за ваше внимание, которое необходимо ему для нормального развития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9" name="Picture 4" descr="1427881_hID20f"/>
          <p:cNvPicPr/>
          <p:nvPr/>
        </p:nvPicPr>
        <p:blipFill>
          <a:blip r:embed="rId1"/>
          <a:stretch/>
        </p:blipFill>
        <p:spPr>
          <a:xfrm>
            <a:off x="533520" y="1981080"/>
            <a:ext cx="8153280" cy="471492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одготовила: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воспитатель ГБОУ ДОУ№ 2567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Хайбатова М.З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4" name="Picture 4" descr="getImage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DE15-4D12-4809-BFBE-3DF3E76D01F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1F75-3B1C-407B-9161-F60817EAB1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оброта – должна быть строгой!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жизни каждого человека с детства должны быть определенные запре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туальная в наши дни 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блема «Отцов и дете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7" descr="imagedb_php"/>
          <p:cNvPicPr/>
          <p:nvPr/>
        </p:nvPicPr>
        <p:blipFill>
          <a:blip r:embed="rId1"/>
          <a:stretch/>
        </p:blipFill>
        <p:spPr>
          <a:xfrm>
            <a:off x="5181480" y="198108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9586-5CFC-49C6-8DB1-792D6B72FE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74F3-84EA-4F64-BE6D-2A167CE660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Picture 15" descr="temper-tantrum"/>
          <p:cNvPicPr/>
          <p:nvPr/>
        </p:nvPicPr>
        <p:blipFill>
          <a:blip r:embed="rId1"/>
          <a:stretch/>
        </p:blipFill>
        <p:spPr>
          <a:xfrm>
            <a:off x="762120" y="68580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uzzle5"/>
          <p:cNvSpPr/>
          <p:nvPr/>
        </p:nvSpPr>
        <p:spPr>
          <a:xfrm>
            <a:off x="6019920" y="4327560"/>
            <a:ext cx="1523880" cy="1206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ризи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uzzle2"/>
          <p:cNvSpPr/>
          <p:nvPr/>
        </p:nvSpPr>
        <p:spPr>
          <a:xfrm>
            <a:off x="5124600" y="5470560"/>
            <a:ext cx="1523880" cy="94788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то винова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uzzle3"/>
          <p:cNvSpPr/>
          <p:nvPr/>
        </p:nvSpPr>
        <p:spPr>
          <a:xfrm>
            <a:off x="6294600" y="5081760"/>
            <a:ext cx="963360" cy="13269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бы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тер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пт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то прав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приз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3CD-8783-416C-943E-BB3DE4E394D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45B-006B-4751-9E3F-1947297AC9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Picture 6" descr="iStock Timeout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Помните о том, что ваши запреты никогда не должны противоречить естественным потребностям вашего ребенка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2560" y="3733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29880" bIns="298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5AEA-1E0F-4BF0-9D89-D0270657E9C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7E96-D5AC-488A-AF89-5DFBC13797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4346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ованность действий в воспита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допустимо, чтобы взрослые (не только родители, но и бабушки с дедушками) предварительно не согласовывали  предъявленные к детям требования между соб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Picture 6" descr="links"/>
          <p:cNvPicPr/>
          <p:nvPr/>
        </p:nvPicPr>
        <p:blipFill>
          <a:blip r:embed="rId1"/>
          <a:stretch/>
        </p:blipFill>
        <p:spPr>
          <a:xfrm>
            <a:off x="4876920" y="1752480"/>
            <a:ext cx="4267080" cy="395316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0443-AB23-4B92-B14B-E13B50366C5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E01-3D00-4A75-BB3C-3912B7035B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Метод кнута или пряника?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казанием для ребенка должно быть лишение его чего-то хорошего, а не причинение ему боли, обиды и т. 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icture 6" descr="AB05876"/>
          <p:cNvPicPr/>
          <p:nvPr/>
        </p:nvPicPr>
        <p:blipFill>
          <a:blip r:embed="rId1"/>
          <a:stretch/>
        </p:blipFill>
        <p:spPr>
          <a:xfrm>
            <a:off x="4191120" y="1981080"/>
            <a:ext cx="4952880" cy="4610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5C1-B324-4211-96B8-5597A0DC9D0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006-FDD6-4F2B-9077-45312ED8D6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сциплина?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38829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озможно добиться от своих детей сознательного выполнения  каких-то требований без учета чувств, переживаний, эмоций, потребностей и интересов каждого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6" descr="Cap6CN0RBuc"/>
          <p:cNvPicPr/>
          <p:nvPr/>
        </p:nvPicPr>
        <p:blipFill>
          <a:blip r:embed="rId1"/>
          <a:stretch/>
        </p:blipFill>
        <p:spPr>
          <a:xfrm>
            <a:off x="0" y="160020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A0D-DA41-498E-9913-08C23C617D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2B8-2B57-4578-A324-1D18CD9095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8" descr="getImage (10)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есконфликтная ситуаци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рядок и дисциплину нужно не насаждать своим детям, а прививать осторожно и терпеливо. Только в таком случае можно добиться бесконфликтной дисципл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2D6-268C-48F2-BC7F-38AB954BD40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68E-8EDD-46F5-942C-49E99CFF71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шибочная позиция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965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родители, которые считают, что дисциплина совсем необязательна, что ребенок должен развиваться естественно, т. к. подсказывает ему природа. Дескать, всякие правила всегда принимаются детьми в «штыки»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4" descr="manos2"/>
          <p:cNvPicPr/>
          <p:nvPr/>
        </p:nvPicPr>
        <p:blipFill>
          <a:blip r:embed="rId1"/>
          <a:stretch/>
        </p:blipFill>
        <p:spPr>
          <a:xfrm>
            <a:off x="4343400" y="1676520"/>
            <a:ext cx="4648320" cy="426708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3-04-13T12:54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