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10.jpeg" ContentType="image/jpe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A2B3-50D0-42DE-B1B7-21D1AA297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521D-730D-49FD-9B87-0E2147943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7717-37F5-4DC0-9257-5EC0B39ED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AF26-C957-463F-AF8C-DFD2F3B6E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0F17-0CDD-4096-AA0E-4875FFDB0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1027-34C8-4601-A320-0BF227AD9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B36E-0826-458E-9A66-4884BCD83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BC55-258D-4A6C-BE4D-673D5EA89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DBAD-21FB-4ACD-9702-65B1703D6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9DF4-9493-4EA3-A58E-EA9E908C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375C-7DC5-4B6C-A7DF-25827A39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CA46-808E-4146-8F59-9696D9CA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F22CB-7C30-4F00-9E42-1FB945173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ost-spb.ru/anichkov/anichkov/anichkov_foto01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58920" y="765000"/>
            <a:ext cx="727380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latin typeface="Arial"/>
              </a:rPr>
              <a:t>Классный час во 2 класс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latin typeface="Arial"/>
              </a:rPr>
              <a:t>"Знаешь ли ты свой город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cc"/>
              </a:solidFill>
              <a:latin typeface="Arial"/>
              <a:ea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16000" y="4292640"/>
            <a:ext cx="737856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дготовила: Родионова Ольга Викторов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читель начальных классов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БОУ СОШ № 585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ировского райо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анкт -Петербур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17840" y="0"/>
            <a:ext cx="5978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117440" y="0"/>
            <a:ext cx="63342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7389360"/>
            <a:ext cx="702000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617840" y="0"/>
            <a:ext cx="524664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1619280" y="0"/>
            <a:ext cx="524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0"/>
            <a:ext cx="8893080" cy="66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89000"/>
            <a:ext cx="8229600" cy="6408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8T12:29:11Z</dcterms:created>
  <dc:creator>Пользователь</dc:creator>
  <dc:description/>
  <dc:language>en-US</dc:language>
  <cp:lastModifiedBy>Пользователь</cp:lastModifiedBy>
  <dcterms:modified xsi:type="dcterms:W3CDTF">2013-04-13T13:48:17Z</dcterms:modified>
  <cp:revision>11</cp:revision>
  <dc:subject/>
  <dc:title>Слайд 1</dc:title>
</cp:coreProperties>
</file>