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C5C-8974-4EA5-AB13-EE660AA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C34-2BF3-43A5-A9BD-1223226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A37-20D4-434D-A716-80791A1D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05C-B0EB-4C16-9C9F-6CA8183B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D89-CF02-49FE-9F2F-F1A3764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3E5-9498-4EB0-96EC-23A45FE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E02-25E7-4BD8-A26D-D9ED91C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55A-F106-48C5-8575-45743B70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602-F5C9-46C6-A964-5FEB5FC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FCE-F963-4251-8BAC-F474216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448-D012-4D22-8863-210480D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D48-A19A-4CAB-A527-C84E347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5A32-67F6-4C9C-961D-12785800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st-spb.ru/anichkov/anichkov/anichkov_foto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765000"/>
            <a:ext cx="7273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Классный час во 2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"Знаешь ли ты свой горо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292640"/>
            <a:ext cx="73785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готовила: Родионова Ольга Викто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БОУ СОШ № 58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ровского рай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нкт -Петербур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7840" y="0"/>
            <a:ext cx="597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7440" y="0"/>
            <a:ext cx="63342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389360"/>
            <a:ext cx="702000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7840" y="0"/>
            <a:ext cx="524664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29:11Z</dcterms:created>
  <dc:creator>Пользователь</dc:creator>
  <dc:description/>
  <dc:language>en-US</dc:language>
  <cp:lastModifiedBy>Пользователь</cp:lastModifiedBy>
  <dcterms:modified xsi:type="dcterms:W3CDTF">2013-04-13T13:48:17Z</dcterms:modified>
  <cp:revision>11</cp:revision>
  <dc:subject/>
  <dc:title>Слайд 1</dc:title>
</cp:coreProperties>
</file>