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0C0-CCFF-4A5B-B568-C301F643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C22-13B2-44CE-B82C-875F928F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46C6-3DD7-40CF-9180-9715CB0D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A20-56AD-4467-ADF3-84CB1944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8884-B322-4E2C-9AF5-C236CCAE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C857-4A22-49AE-BACA-73BB8446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022C-E0F8-47BB-B367-852DC0C6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43B9-CF3D-4086-AC5C-3AC6816E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3120-C6B0-41CE-A64D-D7706018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D5D7-5F48-4F58-9710-0633E255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88DE-F70D-4E70-BA7F-CD22A06D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109-2422-48FA-B996-7548C93C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E5E3-BE16-41AA-B405-DF9C2275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E1D9-F4EC-4488-A9E3-1F7A9270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EF94-CC6D-4653-8826-B992CA65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7CCA-26A1-40BE-AFBC-1B669F04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BC3B-A1F6-4520-BCA8-89157BAB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CED-CD23-4CF5-82A0-79E9C6DF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81E-A500-4E5C-929D-73927659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B99-4E30-4DBC-8D56-60ACB8DF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F8A-6C28-4504-BB6A-D787BBA7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AF8-6026-48F1-80FE-CBEFABFB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9FB-210B-4032-8478-F8CA08BE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68E-D33B-4846-A366-9178CA34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2523-DEE4-41D3-BB9B-414651E6D3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1F66-B2A6-4442-A4F4-8ACCA6D710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280" y="836280"/>
            <a:ext cx="69138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Ипатьевский монастырь -  «колыбель» Дома Романовых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806436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Икона Владимирской божьей матери и фонарь московского посольства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187280" y="1631880"/>
            <a:ext cx="67694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оицкий собор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Ипатьевского монастыря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74898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Фрески Х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VII 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века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68720" y="1628640"/>
            <a:ext cx="3706920" cy="4942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76380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троители церкви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Гурий Никитин, Сила Савин…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74532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133720"/>
            <a:ext cx="264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Иконостас Троицкого собор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127400" y="189000"/>
            <a:ext cx="4861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лтарные вра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32000" y="1557360"/>
            <a:ext cx="68166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кона Тихвинской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божьей матер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96132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Царское место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 Троицком собор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3729240" cy="4973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31939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308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Екатерина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II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40360" y="476280"/>
            <a:ext cx="4814640" cy="5995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1280" y="2134080"/>
            <a:ext cx="363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исьма к Н.И. Пани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15 мая 1767 г.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я пишу в Ипатском монастыре, который прославлен в истории нашей тем, что из него царь Михаил Федорович на царство веден в Москву, и истинно сие место и видом и богатством украшений в церквах почтен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279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иколай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4841640" cy="6237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55640" y="2133360"/>
            <a:ext cx="31669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1834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етил Костр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ударь повелел восстановить эту знаменитую по совершившимся в ней историческим событиям обитель и обновить все здания монастыр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44640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Родословное  дерево от Рюрика до Екатерины I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из экспозиции Царских палат Ипатьевского монастыря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19640" y="189000"/>
            <a:ext cx="37576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Памятник царю Михаилу Феодоровичу и крестьянину Ивану Сусанину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69636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352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ександр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356000" y="549360"/>
            <a:ext cx="4511880" cy="6119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00000" y="2012760"/>
            <a:ext cx="3208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ступив к восстановлению здания и по внимательном отобрании кирпичных позднейших заделок и пристроек, я открыл вполне ясно сохранившиеся части древнего здания, служившие мне указанием для всего хода работ при возобновлении его в древнем вид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итектор Ф.Ф. Рих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6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алаты бояр Романовых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начала ХХ ве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5960" y="1619280"/>
            <a:ext cx="85280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д на Сусанинскую площад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896472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569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Прибытие Государя Николая II в Кострому на празднование 300-летия царствующего Дома Романовых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1388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Городской голова Костромы 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подносит хлеб-соль Николаю II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1539720"/>
            <a:ext cx="69850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Представители костромского дворянства встречают Николая II с семьей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76360" y="1587600"/>
            <a:ext cx="698328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Торжества празднования 300-летия дома Романовых в Костроме. </a:t>
            </a:r>
            <a:br>
              <a:rPr sz="24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Высочайший проезд по Сусанинской площади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13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патьевский монастырь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чала ХХ ве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626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ыход Николая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I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з Троицкого собора Ипатьевского монасты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76908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1342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Народ и бояре умоляют перед 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Ипатьевским монастырем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 Михаила Романова и его мать принять царство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620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8454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ыход Николая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I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з палат бояр Романов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92360" y="1590840"/>
            <a:ext cx="63230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олокольня и Троицкий собор Ипатьевского монасты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553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ерритория Ипатьевского мужского монасты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9930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патьевский монастырь 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(современный вид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55640" y="1603440"/>
            <a:ext cx="77770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79311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ихаил Фёдорович Романов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1613 - 164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471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арские палат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41672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Внутренний интерьер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царских палат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727416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Фонарь, посох, крест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ихаила Фёдорович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692360" y="1628640"/>
            <a:ext cx="60786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тулья в покоях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Михаила Фёдорович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60240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344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ечь с изразцам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49360"/>
            <a:ext cx="300996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писи на изразц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вой дом лучший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Тако аз есть бессмерт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27640" y="404640"/>
            <a:ext cx="437832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8:48:35Z</dcterms:created>
  <dc:creator>user</dc:creator>
  <dc:description/>
  <dc:language>en-US</dc:language>
  <cp:lastModifiedBy>user</cp:lastModifiedBy>
  <dcterms:modified xsi:type="dcterms:W3CDTF">2013-04-13T19:23:17Z</dcterms:modified>
  <cp:revision>6</cp:revision>
  <dc:subject/>
  <dc:title>Ипатьевский монастырь -  «колыбель» Дома Романовых</dc:title>
</cp:coreProperties>
</file>