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0EC-C1A0-4ECD-AB19-E5701762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E2B-B3E8-4E28-8642-07E26D14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3BD-1A93-4763-8326-7B8BCFCB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D645-91AE-4B98-9ABE-4F9A0DD0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92F7-79D0-4FA8-B224-DE529AAF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3C89-A420-42BA-85BF-FB404690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1173-490C-4F69-AB49-B3375AD4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F5D2-01FB-427A-BFFF-62CC492B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29FB-732F-4565-B4CC-700F53E3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1761-2A28-48C6-9595-E6051A1E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2D6C-1C9E-4569-A82B-DF8C8B41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F86-C78C-41DC-8132-CD550D9C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22A5-DA92-4C93-B8C9-EF89D49E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1630-B7F8-4BC2-B7CE-D1F7EFDB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D873-B8D8-4278-BF7F-D9E9DCE1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DF7C-518B-4EBE-8271-44622B28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BD4B-A508-4E18-9004-2F70D611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C4C-F9B5-4891-8C15-A0DD5390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264-8FB4-4432-91A7-FD6575F6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6D9-B380-4965-A8F2-10389A17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434-A043-4D6D-A4A8-918E478D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E37-11BE-46F3-97E1-F323E4F2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CDB-01E0-48A2-84FB-21E1ED36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CA6-E688-43CC-8CC7-F2D26300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B167-26E2-4E4D-AF74-638762469F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B486-D679-4E07-9B62-2B1CA20DE0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836280"/>
            <a:ext cx="69138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Ипатьевский монастырь -  «колыбель» Дома Романовых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06436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Икона Владимирской божьей матери и фонарь московского посольств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187280" y="1631880"/>
            <a:ext cx="67694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оицкий собор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Ипатьевского монастыря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74898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Фрески Х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VII 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век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68720" y="1628640"/>
            <a:ext cx="3706920" cy="4942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76380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троители церкви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Гурий Никитин, Сила Савин…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74532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133720"/>
            <a:ext cx="264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Иконостас Троицкого собор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127400" y="189000"/>
            <a:ext cx="4861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лтарные вра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32000" y="1557360"/>
            <a:ext cx="68166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кона Тихвинской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божьей матер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96132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Царское место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 Троицком собор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729240" cy="4973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31939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308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Екатерина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II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40360" y="476280"/>
            <a:ext cx="4814640" cy="5995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1280" y="2134080"/>
            <a:ext cx="363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исьма к Н.И. Пани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15 мая 1767 г.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я пишу в Ипатском монастыре, который прославлен в истории нашей тем, что из него царь Михаил Федорович на царство веден в Москву, и истинно сие место и видом и богатством украшений в церквах почтен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279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иколай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841640" cy="6237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55640" y="2133360"/>
            <a:ext cx="31669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1834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етил Костр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ь повелел восстановить эту знаменитую по совершившимся в ней историческим событиям обитель и обновить все здания монастыр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4464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Родословное  дерево от Рюрика до Екатерины I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из экспозиции Царских палат Ипатьевского монастыря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19640" y="189000"/>
            <a:ext cx="37576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амятник царю Михаилу Феодоровичу и крестьянину Ивану Сусанину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9636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352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ександр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511880" cy="6119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00000" y="2012760"/>
            <a:ext cx="3208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ступив к восстановлению здания и по внимательном отобрании кирпичных позднейших заделок и пристроек, я открыл вполне ясно сохранившиеся части древнего здания, служившие мне указанием для всего хода работ при возобновлении его в древнем вид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итектор Ф.Ф. Рих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6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алаты бояр Романовых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начала ХХ ве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5960" y="1619280"/>
            <a:ext cx="85280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д на Сусанинскую площад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896472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569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Прибытие Государя Николая II в Кострому на празднование 300-летия царствующего Дома Романовых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1388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Городской голова Костромы 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односит хлеб-соль Николаю II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539720"/>
            <a:ext cx="69850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Представители костромского дворянства встречают Николая II с семьей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76360" y="1587600"/>
            <a:ext cx="698328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Торжества празднования 300-летия дома Романовых в Костроме. </a:t>
            </a: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Высочайший проезд по Сусанинской площади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13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патьевский монастырь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чала ХХ ве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626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ыход Николая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I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з Троицкого собора Ипатьевского монасты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7690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134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Народ и бояре умоляют перед 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Ипатьевским монастырем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 Михаила Романова и его мать принять царство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845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ыход Николая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I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з палат бояр Романов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92360" y="1590840"/>
            <a:ext cx="63230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олокольня и Троицкий собор Ипатьевского монасты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3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ерритория Ипатьевского мужского монасты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9930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патьевский монастырь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(современный вид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5640" y="1603440"/>
            <a:ext cx="77770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79311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ихаил Фёдорович Романов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1613 - 164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471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арские палат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41672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нутренний интерьер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царских пала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727416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онарь, посох, крест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ихаила Фёдорович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692360" y="1628640"/>
            <a:ext cx="60786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тулья в покоях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ихаила Фёдорович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60240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344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ечь с изразцам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49360"/>
            <a:ext cx="300996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писи на изразц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вой дом лучший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Тако аз есть бессмерт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37832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8:48:35Z</dcterms:created>
  <dc:creator>user</dc:creator>
  <dc:description/>
  <dc:language>en-US</dc:language>
  <cp:lastModifiedBy>user</cp:lastModifiedBy>
  <dcterms:modified xsi:type="dcterms:W3CDTF">2013-04-13T19:23:17Z</dcterms:modified>
  <cp:revision>6</cp:revision>
  <dc:subject/>
  <dc:title>Ипатьевский монастырь -  «колыбель» Дома Романовых</dc:title>
</cp:coreProperties>
</file>