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B36-0509-4C23-A2DA-637881CF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029-D9C9-4236-B9EA-2DEB0DB6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2FE-5610-44F7-9F5D-DF28A9B2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148-8733-45D5-8EFB-F930A67C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C2D-13FD-429B-9E58-3506564F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139-2D26-4495-B6BA-A8F73440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C08-EC73-40DF-8594-24364C61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CC8-E914-4D95-A521-69E9B93E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F7E-8DB0-454F-94E5-57C9A65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FCC-2125-45D9-8CCE-8A10D586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9FD-0595-4F01-A100-0945FFB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E5C-E5FA-491C-B206-F6BDDB1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400-2A22-465A-92D5-9AF9C7D72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6588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Исследование влияния йода на организм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573360"/>
            <a:ext cx="610740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Выполнила: Бессоседняя  Ксе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           ученица 11 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Руководитель: Видершпан Ирина Пет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14240" y="189000"/>
            <a:ext cx="7643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«Ключев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. Ключи, улица Делегатска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194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Йод и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Морепроду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Морские водорос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Рыба (сельдь, камбала, треска, палтус, морской окунь, тунец, лосос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Гребешки, крабы, креветки, кальмары, мидии, устриц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4964040" y="1600200"/>
            <a:ext cx="34066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ealthy_Foods-1"/>
          <p:cNvPicPr/>
          <p:nvPr/>
        </p:nvPicPr>
        <p:blipFill>
          <a:blip r:embed="rId2"/>
          <a:stretch/>
        </p:blipFill>
        <p:spPr>
          <a:xfrm>
            <a:off x="4643280" y="3981600"/>
            <a:ext cx="4043520" cy="2103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468360" y="3789360"/>
            <a:ext cx="403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Йодированные проду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о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Молоко, масло, мясо, яй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Некоторые фрукты( апельсины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ыня, клубника, виногра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бло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Шампиньо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пределение содержания йода в морской, поваренной и йодированной соли, методом тит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71640" y="2852640"/>
          <a:ext cx="7127640" cy="2487600"/>
        </p:xfrm>
        <a:graphic>
          <a:graphicData uri="http://schemas.openxmlformats.org/drawingml/2006/table">
            <a:tbl>
              <a:tblPr/>
              <a:tblGrid>
                <a:gridCol w="1444680"/>
                <a:gridCol w="2226960"/>
                <a:gridCol w="34560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а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тиосульфата натрия, израсходованный на титрование,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дирова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рко-желт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едно-желт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ар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ва заметное желт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Результаты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1692360" y="1700280"/>
            <a:ext cx="6048360" cy="4249800"/>
            <a:chOff x="1692360" y="1700280"/>
            <a:chExt cx="6048360" cy="4249800"/>
          </a:xfrm>
        </p:grpSpPr>
        <p:grpSp>
          <p:nvGrpSpPr>
            <p:cNvPr id="73" name="Group 5"/>
            <p:cNvGrpSpPr/>
            <p:nvPr/>
          </p:nvGrpSpPr>
          <p:grpSpPr>
            <a:xfrm>
              <a:off x="1692360" y="1700280"/>
              <a:ext cx="6048360" cy="4249800"/>
              <a:chOff x="1692360" y="1700280"/>
              <a:chExt cx="6048360" cy="4249800"/>
            </a:xfrm>
          </p:grpSpPr>
          <p:pic>
            <p:nvPicPr>
              <p:cNvPr id="74" name="Picture 6" descr="иодир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700280"/>
                <a:ext cx="3024360" cy="424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7" descr="иодир 2"/>
              <p:cNvPicPr/>
              <p:nvPr/>
            </p:nvPicPr>
            <p:blipFill>
              <a:blip r:embed="rId2"/>
              <a:stretch/>
            </p:blipFill>
            <p:spPr>
              <a:xfrm>
                <a:off x="4716720" y="1700280"/>
                <a:ext cx="3024000" cy="424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Text Box 8"/>
            <p:cNvSpPr/>
            <p:nvPr/>
          </p:nvSpPr>
          <p:spPr>
            <a:xfrm>
              <a:off x="2364120" y="1857240"/>
              <a:ext cx="45360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одированная с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Результаты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6"/>
          <p:cNvGrpSpPr/>
          <p:nvPr/>
        </p:nvGrpSpPr>
        <p:grpSpPr>
          <a:xfrm>
            <a:off x="1332000" y="1628640"/>
            <a:ext cx="5976360" cy="4321440"/>
            <a:chOff x="1332000" y="1628640"/>
            <a:chExt cx="5976360" cy="4321440"/>
          </a:xfrm>
        </p:grpSpPr>
        <p:grpSp>
          <p:nvGrpSpPr>
            <p:cNvPr id="79" name="Group 22"/>
            <p:cNvGrpSpPr/>
            <p:nvPr/>
          </p:nvGrpSpPr>
          <p:grpSpPr>
            <a:xfrm>
              <a:off x="1332000" y="1628640"/>
              <a:ext cx="5976360" cy="4321440"/>
              <a:chOff x="1332000" y="1628640"/>
              <a:chExt cx="5976360" cy="4321440"/>
            </a:xfrm>
          </p:grpSpPr>
          <p:pic>
            <p:nvPicPr>
              <p:cNvPr id="80" name="Picture 23" descr="мор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1628640"/>
                <a:ext cx="2982600" cy="432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4" descr="мор 2"/>
              <p:cNvPicPr/>
              <p:nvPr/>
            </p:nvPicPr>
            <p:blipFill>
              <a:blip r:embed="rId2"/>
              <a:stretch/>
            </p:blipFill>
            <p:spPr>
              <a:xfrm>
                <a:off x="4320360" y="1628640"/>
                <a:ext cx="2988000" cy="432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25"/>
            <p:cNvSpPr/>
            <p:nvPr/>
          </p:nvSpPr>
          <p:spPr>
            <a:xfrm>
              <a:off x="2124000" y="2565360"/>
              <a:ext cx="4032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орская 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Результаты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1476360" y="1773360"/>
            <a:ext cx="6192360" cy="4176720"/>
            <a:chOff x="1476360" y="1773360"/>
            <a:chExt cx="6192360" cy="4176720"/>
          </a:xfrm>
        </p:grpSpPr>
        <p:grpSp>
          <p:nvGrpSpPr>
            <p:cNvPr id="85" name="Group 11"/>
            <p:cNvGrpSpPr/>
            <p:nvPr/>
          </p:nvGrpSpPr>
          <p:grpSpPr>
            <a:xfrm>
              <a:off x="1476360" y="1773360"/>
              <a:ext cx="6192360" cy="4176720"/>
              <a:chOff x="1476360" y="1773360"/>
              <a:chExt cx="6192360" cy="4176720"/>
            </a:xfrm>
          </p:grpSpPr>
          <p:pic>
            <p:nvPicPr>
              <p:cNvPr id="86" name="Picture 12" descr="пов"/>
              <p:cNvPicPr/>
              <p:nvPr/>
            </p:nvPicPr>
            <p:blipFill>
              <a:blip r:embed="rId1"/>
              <a:stretch/>
            </p:blipFill>
            <p:spPr>
              <a:xfrm>
                <a:off x="4542480" y="1773360"/>
                <a:ext cx="3126240" cy="41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3" descr="DSCN1918"/>
              <p:cNvPicPr/>
              <p:nvPr/>
            </p:nvPicPr>
            <p:blipFill>
              <a:blip r:embed="rId2"/>
              <a:stretch/>
            </p:blipFill>
            <p:spPr>
              <a:xfrm>
                <a:off x="1476360" y="1773360"/>
                <a:ext cx="3126600" cy="417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Text Box 14"/>
            <p:cNvSpPr/>
            <p:nvPr/>
          </p:nvSpPr>
          <p:spPr>
            <a:xfrm>
              <a:off x="2843280" y="5300640"/>
              <a:ext cx="308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варенная с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51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актически все население России страдает йодной недостаточностью. Основными мерами профилактики ИДЗ стали потребление йодированных продуктов, и использование в пищу море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о многих торговых точках с. Ключи имеется в наличии йодированная с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ссортимент профилактических средств, реализуемых аптечной сетью с. Ключи, достаточно широкий и удовлетворяет запросы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Йодированные хлебобулочные изделия в магазинах с. Ключи бывают очень редко, что не позволяет использовать эти продукты в целях профил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орская рыба содержит определённое количество йода, что позволяет использовать её как профилактическое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05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Интересные фак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держание йода в крови человека зависит от времени года: с сентября по январь концентрация йода в крови снижается, с февраля начинается новый подъём, а в мае–июне йодное зеркало достигает наивысшего уровня. Эти колебания имеют  небольшую амплитуду, и до сих пор остаются загад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вый в России йодный завод был построен в 1915 г. В Екатеринославле (ныне Днепропетровск); получали йод из золы черноморской водоросли филлофоры; за годы первой мировой войны на этом заводе было добыто 200 кг й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сли грозовое облако «засеять» йодистым серебром или йодистым свинцом, то вместо града в облаке образуется снежная крупа: засеянное такими солями облако проливает дождём и не вредит по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Palatino Linotype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сследовать проблемы дефицита йода и определить его содержание  в некоторых продуктах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od"/>
          <p:cNvPicPr/>
          <p:nvPr/>
        </p:nvPicPr>
        <p:blipFill>
          <a:blip r:embed="rId1"/>
          <a:stretch/>
        </p:blipFill>
        <p:spPr>
          <a:xfrm>
            <a:off x="2340000" y="3429000"/>
            <a:ext cx="41767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Palatino Linotype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) Провести обзор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) Выявить наличие продуктов питания,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обогащенных й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3) Определить содержания йода в некоторых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продуктах 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4) Проанализир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ссортимент продуктов питания торговых точек с. Ключи, содержащих й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ссортимент профилактических средств, реализуемых аптечной сетью с. Клю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5)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96720" y="333360"/>
            <a:ext cx="597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Биологическая роль йо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аствует в образовании гормонов щитовидной желе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казывает воздействие на водно-солевой обмен белков, липидов, углев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обходим для повышения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2852640"/>
            <a:ext cx="777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49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Palatino Linotype"/>
              </a:rPr>
              <a:t>Биологическая роль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Palatino Linotype"/>
              </a:rPr>
              <a:t>щитовидной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ебольшая щитовидная железа играет важную роль в организме: активно захватывает йод из крови, создает его запасы, образует и выделяет тиреоидные гормоны. В организме нет такого органа или системы, которые бы в них не нуждались. Они играют важную роль в жизнедеятельности человека любого возраста, особенно в период внутриутробной жизни и раннего детск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gipoterioz2"/>
          <p:cNvPicPr/>
          <p:nvPr/>
        </p:nvPicPr>
        <p:blipFill>
          <a:blip r:embed="rId1"/>
          <a:stretch/>
        </p:blipFill>
        <p:spPr>
          <a:xfrm>
            <a:off x="4356000" y="2276640"/>
            <a:ext cx="424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Содержание йода в органах и тканях чело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Потребность организма в й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 мкг для детей грудного возраста (первые 12 месяце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0 мкг для детей младшего возраста (от 2 до 6 ле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0 мкг для детей школьного возраста (от 7 до 12 ле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0 мкг для подростков (от 12 лет и старше) и взросл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 мкг для людей пожилого возра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 мкг для беременных и кормящих женщ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65628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Дефицит й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7"/>
          <p:cNvPicPr/>
          <p:nvPr/>
        </p:nvPicPr>
        <p:blipFill>
          <a:blip r:embed="rId1"/>
          <a:stretch/>
        </p:blipFill>
        <p:spPr>
          <a:xfrm>
            <a:off x="324000" y="2205000"/>
            <a:ext cx="82436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Йоддефицитные заболе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иффузный эутиреоидный з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зловой (многоузловой) эутиреоидный з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зловой (многоузловой) токсический з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функциональная автономия щитовидной желе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вичный гипотиреоз (в районах с тяжелым дефицитом й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6:15:56Z</dcterms:created>
  <dc:creator>1</dc:creator>
  <dc:description/>
  <dc:language>en-US</dc:language>
  <cp:lastModifiedBy>WIN7XP</cp:lastModifiedBy>
  <dcterms:modified xsi:type="dcterms:W3CDTF">2013-04-12T18:16:09Z</dcterms:modified>
  <cp:revision>6</cp:revision>
  <dc:subject/>
  <dc:title>Исследование влияния йода на организм человека.</dc:title>
</cp:coreProperties>
</file>