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4A6-389A-44FD-A5F7-870FA322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66A0-AA91-48C9-A973-E042BBBC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602C-8B42-49E7-A339-1579123F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E62-9BDB-49AC-84FB-9C91CEE3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35BE-01AD-4221-9523-8FB89537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3C4A-FB8E-4DA7-9720-7AD4DC0D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1448-C9DC-4330-BDD0-E190515A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AEA-6563-4BBE-9422-76B559BF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FE67-4D7B-4987-B52C-D0656ACA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6955-488C-496E-83A9-9C915B4F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B375-7186-415B-BA8A-95E70A67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BD9-A5F7-4754-9C4F-B6F61B2B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8D2D-B555-421B-AB04-060FA4928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916280"/>
            <a:ext cx="6588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Palatino Linotype"/>
              </a:rPr>
              <a:t>Исследование влияния йода на организм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3573360"/>
            <a:ext cx="6107400" cy="17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Выполнила: Бессоседняя  Ксени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                      ученица 11 б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Руководитель: Видершпан Ирина Пет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учитель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14240" y="189000"/>
            <a:ext cx="76438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«Ключевская средняя общеобразовательная школа № 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Palatino Linotype"/>
              </a:rPr>
              <a:t>с. Ключи, улица Делегатская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194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Palatino Linotype"/>
              </a:rPr>
              <a:t>Йод и 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Морепродук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Морские водорос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Рыба (сельдь, камбала, треска, палтус, морской окунь, тунец, лосос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Гребешки, крабы, креветки, кальмары, мидии, устриц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"/>
          <p:cNvPicPr/>
          <p:nvPr/>
        </p:nvPicPr>
        <p:blipFill>
          <a:blip r:embed="rId1"/>
          <a:stretch/>
        </p:blipFill>
        <p:spPr>
          <a:xfrm>
            <a:off x="4964040" y="1600200"/>
            <a:ext cx="340668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ealthy_Foods-1"/>
          <p:cNvPicPr/>
          <p:nvPr/>
        </p:nvPicPr>
        <p:blipFill>
          <a:blip r:embed="rId2"/>
          <a:stretch/>
        </p:blipFill>
        <p:spPr>
          <a:xfrm>
            <a:off x="4643280" y="3981600"/>
            <a:ext cx="4043520" cy="2103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468360" y="3789360"/>
            <a:ext cx="4032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Йодированные продук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Со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Молоко, масло, мясо, яй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Некоторые фрукты( апельсины,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дыня, клубника, виноград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яблок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Шампиньон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mic Sans M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35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Palatino Linotype"/>
              </a:rPr>
              <a:t>Практическ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пределение содержания йода в морской, поваренной и йодированной соли, методом тит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971640" y="2852640"/>
          <a:ext cx="7127640" cy="2487600"/>
        </p:xfrm>
        <a:graphic>
          <a:graphicData uri="http://schemas.openxmlformats.org/drawingml/2006/table">
            <a:tbl>
              <a:tblPr/>
              <a:tblGrid>
                <a:gridCol w="1444680"/>
                <a:gridCol w="2226960"/>
                <a:gridCol w="3456000"/>
              </a:tblGrid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раш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м тиосульфата натрия, израсходованный на титрование, м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Йодирова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рко-желт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р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ледно-желт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варе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ва заметное желто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338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Palatino Linotype"/>
              </a:rPr>
              <a:t>Результаты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1692360" y="1700280"/>
            <a:ext cx="6048360" cy="4249800"/>
            <a:chOff x="1692360" y="1700280"/>
            <a:chExt cx="6048360" cy="4249800"/>
          </a:xfrm>
        </p:grpSpPr>
        <p:grpSp>
          <p:nvGrpSpPr>
            <p:cNvPr id="73" name="Group 5"/>
            <p:cNvGrpSpPr/>
            <p:nvPr/>
          </p:nvGrpSpPr>
          <p:grpSpPr>
            <a:xfrm>
              <a:off x="1692360" y="1700280"/>
              <a:ext cx="6048360" cy="4249800"/>
              <a:chOff x="1692360" y="1700280"/>
              <a:chExt cx="6048360" cy="4249800"/>
            </a:xfrm>
          </p:grpSpPr>
          <p:pic>
            <p:nvPicPr>
              <p:cNvPr id="74" name="Picture 6" descr="иодир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1700280"/>
                <a:ext cx="3024360" cy="424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7" descr="иодир 2"/>
              <p:cNvPicPr/>
              <p:nvPr/>
            </p:nvPicPr>
            <p:blipFill>
              <a:blip r:embed="rId2"/>
              <a:stretch/>
            </p:blipFill>
            <p:spPr>
              <a:xfrm>
                <a:off x="4716720" y="1700280"/>
                <a:ext cx="3024000" cy="4249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" name="Text Box 8"/>
            <p:cNvSpPr/>
            <p:nvPr/>
          </p:nvSpPr>
          <p:spPr>
            <a:xfrm>
              <a:off x="2364120" y="1857240"/>
              <a:ext cx="4536000" cy="6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одированная с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338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Palatino Linotype"/>
              </a:rPr>
              <a:t>Результаты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26"/>
          <p:cNvGrpSpPr/>
          <p:nvPr/>
        </p:nvGrpSpPr>
        <p:grpSpPr>
          <a:xfrm>
            <a:off x="1332000" y="1628640"/>
            <a:ext cx="5976360" cy="4321440"/>
            <a:chOff x="1332000" y="1628640"/>
            <a:chExt cx="5976360" cy="4321440"/>
          </a:xfrm>
        </p:grpSpPr>
        <p:grpSp>
          <p:nvGrpSpPr>
            <p:cNvPr id="79" name="Group 22"/>
            <p:cNvGrpSpPr/>
            <p:nvPr/>
          </p:nvGrpSpPr>
          <p:grpSpPr>
            <a:xfrm>
              <a:off x="1332000" y="1628640"/>
              <a:ext cx="5976360" cy="4321440"/>
              <a:chOff x="1332000" y="1628640"/>
              <a:chExt cx="5976360" cy="4321440"/>
            </a:xfrm>
          </p:grpSpPr>
          <p:pic>
            <p:nvPicPr>
              <p:cNvPr id="80" name="Picture 23" descr="мор"/>
              <p:cNvPicPr/>
              <p:nvPr/>
            </p:nvPicPr>
            <p:blipFill>
              <a:blip r:embed="rId1"/>
              <a:stretch/>
            </p:blipFill>
            <p:spPr>
              <a:xfrm>
                <a:off x="1332000" y="1628640"/>
                <a:ext cx="2982600" cy="432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Picture 24" descr="мор 2"/>
              <p:cNvPicPr/>
              <p:nvPr/>
            </p:nvPicPr>
            <p:blipFill>
              <a:blip r:embed="rId2"/>
              <a:stretch/>
            </p:blipFill>
            <p:spPr>
              <a:xfrm>
                <a:off x="4320360" y="1628640"/>
                <a:ext cx="2988000" cy="4321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Text Box 25"/>
            <p:cNvSpPr/>
            <p:nvPr/>
          </p:nvSpPr>
          <p:spPr>
            <a:xfrm>
              <a:off x="2124000" y="2565360"/>
              <a:ext cx="403236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Морская со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338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Palatino Linotype"/>
              </a:rPr>
              <a:t>Результаты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5"/>
          <p:cNvGrpSpPr/>
          <p:nvPr/>
        </p:nvGrpSpPr>
        <p:grpSpPr>
          <a:xfrm>
            <a:off x="1476360" y="1773360"/>
            <a:ext cx="6192360" cy="4176720"/>
            <a:chOff x="1476360" y="1773360"/>
            <a:chExt cx="6192360" cy="4176720"/>
          </a:xfrm>
        </p:grpSpPr>
        <p:grpSp>
          <p:nvGrpSpPr>
            <p:cNvPr id="85" name="Group 11"/>
            <p:cNvGrpSpPr/>
            <p:nvPr/>
          </p:nvGrpSpPr>
          <p:grpSpPr>
            <a:xfrm>
              <a:off x="1476360" y="1773360"/>
              <a:ext cx="6192360" cy="4176720"/>
              <a:chOff x="1476360" y="1773360"/>
              <a:chExt cx="6192360" cy="4176720"/>
            </a:xfrm>
          </p:grpSpPr>
          <p:pic>
            <p:nvPicPr>
              <p:cNvPr id="86" name="Picture 12" descr="пов"/>
              <p:cNvPicPr/>
              <p:nvPr/>
            </p:nvPicPr>
            <p:blipFill>
              <a:blip r:embed="rId1"/>
              <a:stretch/>
            </p:blipFill>
            <p:spPr>
              <a:xfrm>
                <a:off x="4542480" y="1773360"/>
                <a:ext cx="3126240" cy="417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13" descr="DSCN1918"/>
              <p:cNvPicPr/>
              <p:nvPr/>
            </p:nvPicPr>
            <p:blipFill>
              <a:blip r:embed="rId2"/>
              <a:stretch/>
            </p:blipFill>
            <p:spPr>
              <a:xfrm>
                <a:off x="1476360" y="1773360"/>
                <a:ext cx="3126600" cy="4176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Text Box 14"/>
            <p:cNvSpPr/>
            <p:nvPr/>
          </p:nvSpPr>
          <p:spPr>
            <a:xfrm>
              <a:off x="2843280" y="5300640"/>
              <a:ext cx="308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оваренная с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549360"/>
            <a:ext cx="5194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Palatino Linotype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актически все население России страдает йодной недостаточностью. Основными мерами профилактики ИДЗ стали потребление йодированных продуктов, и использование в пищу морепроду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о многих торговых точках с. Ключи имеется в наличии йодированная с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ссортимент профилактических средств, реализуемых аптечной сетью с. Ключи, достаточно широкий и удовлетворяет запросы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Йодированные хлебобулочные изделия в магазинах с. Ключи бывают очень редко, что не позволяет использовать эти продукты в целях профилак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Морская рыба содержит определённое количество йода, что позволяет использовать её как профилактическое сред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605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Palatino Linotype"/>
              </a:rPr>
              <a:t>Интересные факт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Содержание йода в крови человека зависит от времени года: с сентября по январь концентрация йода в крови снижается, с февраля начинается новый подъём, а в мае–июне йодное зеркало достигает наивысшего уровня. Эти колебания имеют  небольшую амплитуду, и до сих пор остаются загадк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ервый в России йодный завод был построен в 1915 г. В Екатеринославле (ныне Днепропетровск); получали йод из золы черноморской водоросли филлофоры; за годы первой мировой войны на этом заводе было добыто 200 кг й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Если грозовое облако «засеять» йодистым серебром или йодистым свинцом, то вместо града в облаке образуется снежная крупа: засеянное такими солями облако проливает дождём и не вредит пол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Palatino Linotype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4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 Sans MS"/>
              </a:rPr>
              <a:t>Исследовать проблемы дефицита йода и определить его содержание  в некоторых продуктах 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jod"/>
          <p:cNvPicPr/>
          <p:nvPr/>
        </p:nvPicPr>
        <p:blipFill>
          <a:blip r:embed="rId1"/>
          <a:stretch/>
        </p:blipFill>
        <p:spPr>
          <a:xfrm>
            <a:off x="2340000" y="3429000"/>
            <a:ext cx="41767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5113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Palatino Linotype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1) Провести обзор литературы по данной т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2) Выявить наличие продуктов питания,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     обогащенных йод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3) Определить содержания йода в некоторых          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     продуктах пит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4) Проанализиров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ссортимент продуктов питания торговых точек с. Ключи, содержащих й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ссортимент профилактических средств, реализуемых аптечной сетью с. Клю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5) С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96720" y="333360"/>
            <a:ext cx="5976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Palatino Linotype"/>
              </a:rPr>
              <a:t>Биологическая роль йод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аствует в образовании гормонов щитовидной желез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казывает воздействие на водно-солевой обмен белков, липидов, углево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еобходим для повышения иммуни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39640" y="2852640"/>
            <a:ext cx="7777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5494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Palatino Linotype"/>
              </a:rPr>
              <a:t>Биологическая роль 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Palatino Linotype"/>
              </a:rPr>
              <a:t>щитовидной 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Небольшая щитовидная железа играет важную роль в организме: активно захватывает йод из крови, создает его запасы, образует и выделяет тиреоидные гормоны. В организме нет такого органа или системы, которые бы в них не нуждались. Они играют важную роль в жизнедеятельности человека любого возраста, особенно в период внутриутробной жизни и раннего детск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gipoterioz2"/>
          <p:cNvPicPr/>
          <p:nvPr/>
        </p:nvPicPr>
        <p:blipFill>
          <a:blip r:embed="rId1"/>
          <a:stretch/>
        </p:blipFill>
        <p:spPr>
          <a:xfrm>
            <a:off x="4356000" y="2276640"/>
            <a:ext cx="4248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13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Palatino Linotype"/>
              </a:rPr>
              <a:t>Содержание йода в органах и тканях челове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82296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5113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Palatino Linotype"/>
              </a:rPr>
              <a:t>Потребность организма в йо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0 мкг для детей грудного возраста (первые 12 месяцев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0 мкг для детей младшего возраста (от 2 до 6 ле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20 мкг для детей школьного возраста (от 7 до 12 ле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50 мкг для подростков (от 12 лет и старше) и взрослы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0 мкг для людей пожилого возрас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0 мкг для беременных и кормящих женщ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541440" y="259920"/>
            <a:ext cx="65628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Palatino Linotype"/>
              </a:rPr>
              <a:t>Дефицит й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37"/>
          <p:cNvPicPr/>
          <p:nvPr/>
        </p:nvPicPr>
        <p:blipFill>
          <a:blip r:embed="rId1"/>
          <a:stretch/>
        </p:blipFill>
        <p:spPr>
          <a:xfrm>
            <a:off x="324000" y="2205000"/>
            <a:ext cx="824364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5113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Palatino Linotype"/>
              </a:rPr>
              <a:t>Йоддефицитные заболе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диффузный эутиреоидный зо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зловой (многоузловой) эутиреоидный зо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узловой (многоузловой) токсический зо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функциональная автономия щитовидной желез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ервичный гипотиреоз (в районах с тяжелым дефицитом йод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06:15:56Z</dcterms:created>
  <dc:creator>1</dc:creator>
  <dc:description/>
  <dc:language>en-US</dc:language>
  <cp:lastModifiedBy>WIN7XP</cp:lastModifiedBy>
  <dcterms:modified xsi:type="dcterms:W3CDTF">2013-04-12T18:16:09Z</dcterms:modified>
  <cp:revision>6</cp:revision>
  <dc:subject/>
  <dc:title>Исследование влияния йода на организм человека.</dc:title>
</cp:coreProperties>
</file>