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D5C-BAE8-4AB1-B323-4F072442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5EE-AAFE-46E3-945F-05600243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22442-5430-40AA-A761-F725E0F3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C4CA9-71FE-4D1F-A3B9-7688B27E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45226-DCE8-4BEF-99CE-5B27EB65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C5BA3C-E56C-4C9F-B4A5-C12512D0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B11D3-4C65-48F4-AE46-2EB2E618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9D375-B200-460A-9046-EF29D3D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D9C4-A53B-44BF-B037-4A34B94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2D52C-7D8C-4C01-B4AC-CCE3F388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64F1C-74B6-4EC6-823C-41C1B82F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695C7-9847-4ABE-819E-23536458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52D-CDFF-4F96-A2E9-1484B80A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040E5-056A-4FEB-9640-3DDD0503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F582F-8987-45D7-BCA6-08429D34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E0DB3-38BE-4AA0-9FF9-E5ED242C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1F2AF-B899-4B98-8EB1-B52E8EED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3A34A-A735-4905-8226-096376B3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4D72E-314F-426A-A779-307CA444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A12EE-51F4-45E8-BCCC-86CB719E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B8B02-C800-47D2-B415-254DC3FE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72771-8FA3-4CFA-9DB3-39F857D8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35070-568E-42D0-B424-DC7FE569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785-2D9E-43D0-8B73-C7387EF8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42B65-BE44-4331-87D9-C0EC55CD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6EA6E-92EF-49F1-A366-B87E0F99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630CD-52F7-48D6-A5AD-C26828BD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85604-5305-4FE5-B5BE-BD2CCEEF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0F2C4-229F-42EE-8159-68EFFE88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2B6BC-0156-4899-85F4-C63C71F3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D5D85-A60D-4975-80FB-8B6C623D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35924-13FA-4C58-8FAB-98296DC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1BEF5-950D-4BAE-B741-2D2284B2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8BEA4-5B70-4540-8016-7F5CB5D3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73E2-229A-4DB4-8C72-73752245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AFF2B-704A-430B-81D3-3B2350DF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A9EE0-419C-4ADF-8C71-5BC86496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D8DFF-1A0E-42D2-BECE-137AC6C9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D7AC5-9C6F-40F0-9FF7-938EE650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E9168-2EA1-4DC6-A6C9-8910E4FA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BFEAB-4D20-4518-8D01-8DD3E6A9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DE727-FD2F-4FEA-911C-1C2732E3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3BDF0-161F-4AF0-AD0F-CEFE5AE8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CE623-CE78-4DA7-A7A2-A724D35F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72732-1383-4307-A54A-2907F797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225D-5D2C-4D6B-B8D7-8C501AEC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92CC4-8BDE-4831-AB64-DE24F628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3372F-54A2-49F5-A9C1-E8AA1194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8E3CE-6400-4131-B523-94BEEDE3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4389C-135C-4DB8-8191-152B7433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C7670-CED4-4014-80A6-B6C90E8F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2574-23C8-4251-83EF-DCF7BED7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8E6F-456A-45ED-9D31-4E9BAE2C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381D-1962-4266-AF60-14825D2D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C1F2-D9F7-428E-971B-FDAE6362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7D77-9E24-4F88-BC25-F1FA115E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A21-EDC6-4040-8AC3-FB1B7F34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1C52-5162-47F5-BF9B-9C6456E6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B06C-6E8A-4249-BD5A-0B21AE38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1B98-A863-45DC-8A31-C74A76A0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51BD-1EEF-4343-8223-CC79D4CB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6CB6-06C8-45B7-AAAC-BB13EF61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5CFF1-1321-4398-821E-F50D1B67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FC3D-87D0-4C3A-BCC0-4852B21E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D98FE-9855-42AB-943C-E5BBCA99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6568-F972-44A2-A869-E99F6DAF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DF95E-D951-43C9-8546-7063C9F9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1C0-6802-49DA-B264-4BE1A604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47164-1312-4710-B436-B99F2720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0913-5061-462A-82F9-5F0A08EE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CD57-B6C8-4000-A499-04F36B46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D17EF-9CCB-4291-949E-C141E6E7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486A-6FAC-48B9-A683-F365F8E8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711C-7FFB-4B28-8E59-F726A21C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65F9-F5B1-4C74-8B36-4B47EF29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2D067-683C-4272-9D6C-DD589744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41AF-E999-40EC-BAA4-4B273CA7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E31D2-BB6B-433E-840E-7EEF7F58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292-5FD1-4A6A-BEE1-880109EE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CAE28-F518-46B6-8E66-D130B366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66FDE-26F9-4FB9-B535-A01E8E9F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4036D-78F1-47A1-9385-E0F6E07F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676CC-8CA2-4F03-BDEE-DE99C034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A24EF-7259-4B99-A9F5-00E5EAE9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B464F-E818-406F-A206-5A9FBDAD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88134-9679-4433-A134-BD15796B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C7FB5-9647-495E-9968-CDAE62AD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B2457-BF75-4F25-9C58-5D4FBFA3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3BD8D-11E7-4B0E-A0A2-043C7653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579-7274-4648-BD3D-0D9D3B1E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2E9D5-5456-4AE4-B7CB-D109D469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8DECF-602D-4FA6-A6BD-B1F71432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B93E1-B408-4B9E-BAE2-B383A552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DA8DD-7058-443A-8C2A-8F53E601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7D90E-4F63-4C34-8647-60818C7C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C8282-E653-4E92-8F03-A09A7EA3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BBA7F-BB01-4216-8196-25411EE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2F097-9DE1-4FD7-B743-3D8F151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78BF1-E8AA-4862-BAD2-E38CD753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45FFE-987C-45CB-ABDB-59730B33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6BE-F623-4D99-AF0E-6A2915E0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FC8E2-14C3-4C55-846B-E8464F74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044CD-B7EB-4D27-BADB-56B1951F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78426-5ABF-4A57-BA34-65C4AA6E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0B2CF-D0A8-4249-B273-E3D2330A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7B45F-F83E-4FDD-BFC2-C6C98BB0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9C589-FE4C-4FA5-86DF-708265BC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1DE9B-F7D1-4B74-8298-93EA845D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05357-C134-432C-AC56-F32768D2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FE108-2FBB-46BC-8193-5B5378B4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280C0-43F4-4C2F-B25F-B2459F4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491-3712-4C34-ACFD-1729054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4CD0C-03D6-4A19-A78C-F65C4D54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E5BF5-85F6-4405-B39D-D91E7393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FA497-A1BE-404D-A0EF-65C1BB8A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4E60E-E395-44AC-9E6D-B95FF5A4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D8EE7-9404-47FC-8C1E-2CE1D4D7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C84E9-A97E-453A-846A-58CC12B8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382E4-C9BA-442A-84D2-C8D8C5F2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9538A-7EAE-4ECC-8F9B-751BD9B0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5EAB0-153C-452A-9165-6A04279F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44885-370B-4B24-A169-E9C6967D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5D8-3E48-47D8-8FCA-9EBC15DF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D162E-F45B-4AB0-94E1-285A2117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B3AD4-9349-4D28-8A0F-19D8C003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755CA-A787-4811-9282-900B2122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54235-35F5-453C-B5C2-89C9FAD5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B7834-4F3D-473D-97DA-BD00E0CC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68980-E1CD-4C6D-A763-AE734E60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690E0-D826-4AC0-8889-677FD26D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72BB9-DA3C-4EEB-B228-72D2ED0E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9013D-BE6B-4463-AB11-9787217F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BC0C5-40F8-4DBB-AC87-19D6E588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AD5-3D2C-4A8C-873B-199AAC9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31977-6616-431D-B4EB-FE7F7CCB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C0D2E-D4A7-4C49-900C-ECEC9CAE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3E9AC-5935-46C4-ABD1-E4FD5E72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AD911-29BE-4FA8-9E00-72F8238C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D9C8-716A-4ED9-966F-96F92DAD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F336F-50DA-4298-8350-09AFA26A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2057-FD72-4C6F-9C5B-73270885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9ADF5-B981-4647-97E5-110DBF7F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31CBD-7234-4B17-A09E-BDC5694C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0817E-CE0C-4DD7-99C3-C083404F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1885-7435-44CF-A0ED-578708DACE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40B7-7F5F-482F-8083-A24A23865C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8815-B6A3-4488-A129-2C6CE51A53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45BD-24CD-42C8-A63C-1D1F24E186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1D13-5854-46D7-A49A-84359B63FC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EB51-D58D-4038-976C-33A2BB5587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3ED3-C6DD-4AC7-ABCA-4770E0492B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BB05-A69A-4F5D-B22C-7F3A4E4E79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25AE-2F5D-49D9-A18F-A6EAC2BB10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EC53-9E83-4BA3-A20E-733E1B9E47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046A-88D1-4A3A-97FC-34ED584CDF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6DAB-8C21-43C6-AAFB-095D41B399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Подзаголовок 2" descr=""/>
          <p:cNvPicPr/>
          <p:nvPr/>
        </p:nvPicPr>
        <p:blipFill>
          <a:blip r:embed="rId2"/>
          <a:stretch/>
        </p:blipFill>
        <p:spPr>
          <a:xfrm>
            <a:off x="676440" y="4303800"/>
            <a:ext cx="5608440" cy="1268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37609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"/>
          <p:cNvPicPr/>
          <p:nvPr/>
        </p:nvPicPr>
        <p:blipFill>
          <a:blip r:embed="rId4"/>
          <a:stretch/>
        </p:blipFill>
        <p:spPr>
          <a:xfrm>
            <a:off x="6156360" y="4165560"/>
            <a:ext cx="2668680" cy="23590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1547640" y="189000"/>
            <a:ext cx="5043600" cy="444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рней Иванови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уков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 rot="10800000">
            <a:off x="9467280" y="6957360"/>
            <a:ext cx="45720" cy="44280"/>
          </a:xfrm>
          <a:prstGeom prst="rect">
            <a:avLst/>
          </a:prstGeom>
          <a:noFill/>
          <a:ln w="0">
            <a:noFill/>
          </a:ln>
        </p:spPr>
        <p:txBody>
          <a:bodyPr tIns="-1440" bIns="-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53" name="Объект 2" descr=""/>
          <p:cNvPicPr/>
          <p:nvPr/>
        </p:nvPicPr>
        <p:blipFill>
          <a:blip r:embed="rId2"/>
          <a:stretch/>
        </p:blipFill>
        <p:spPr>
          <a:xfrm>
            <a:off x="-262080" y="-6480"/>
            <a:ext cx="9028080" cy="6870960"/>
          </a:xfrm>
          <a:prstGeom prst="rect">
            <a:avLst/>
          </a:prstGeom>
          <a:ln w="0">
            <a:noFill/>
          </a:ln>
        </p:spPr>
      </p:pic>
      <p:pic>
        <p:nvPicPr>
          <p:cNvPr id="554" name="Прямоугольник 4" descr=""/>
          <p:cNvPicPr/>
          <p:nvPr/>
        </p:nvPicPr>
        <p:blipFill>
          <a:blip r:embed="rId3"/>
          <a:stretch/>
        </p:blipFill>
        <p:spPr>
          <a:xfrm>
            <a:off x="4968720" y="1603440"/>
            <a:ext cx="3419640" cy="2657520"/>
          </a:xfrm>
          <a:prstGeom prst="rect">
            <a:avLst/>
          </a:prstGeom>
          <a:ln w="0">
            <a:noFill/>
          </a:ln>
        </p:spPr>
      </p:pic>
      <p:sp>
        <p:nvSpPr>
          <p:cNvPr id="555" name="Стрелка вправо 5"/>
          <p:cNvSpPr/>
          <p:nvPr/>
        </p:nvSpPr>
        <p:spPr>
          <a:xfrm>
            <a:off x="4140360" y="2581200"/>
            <a:ext cx="998280" cy="505080"/>
          </a:xfrm>
          <a:prstGeom prst="rightArrow">
            <a:avLst>
              <a:gd name="adj1" fmla="val 50000"/>
              <a:gd name="adj2" fmla="val 49878"/>
            </a:avLst>
          </a:prstGeom>
          <a:solidFill>
            <a:srgbClr val="76c5ef"/>
          </a:solidFill>
          <a:ln w="25560">
            <a:solidFill>
              <a:srgbClr val="427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6" name="Стрелка вправо 10"/>
          <p:cNvSpPr/>
          <p:nvPr/>
        </p:nvSpPr>
        <p:spPr>
          <a:xfrm>
            <a:off x="2340000" y="3429000"/>
            <a:ext cx="792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76c5ef"/>
          </a:solidFill>
          <a:ln w="25560">
            <a:solidFill>
              <a:srgbClr val="427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4887720" cy="2232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"/>
          <p:cNvPicPr/>
          <p:nvPr/>
        </p:nvPicPr>
        <p:blipFill>
          <a:blip r:embed="rId5"/>
          <a:stretch/>
        </p:blipFill>
        <p:spPr>
          <a:xfrm>
            <a:off x="250920" y="4437000"/>
            <a:ext cx="2444760" cy="22320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"/>
          <p:cNvPicPr/>
          <p:nvPr/>
        </p:nvPicPr>
        <p:blipFill>
          <a:blip r:embed="rId6"/>
          <a:stretch/>
        </p:blipFill>
        <p:spPr>
          <a:xfrm>
            <a:off x="2695680" y="443700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" descr=""/>
          <p:cNvPicPr/>
          <p:nvPr/>
        </p:nvPicPr>
        <p:blipFill>
          <a:blip r:embed="rId7"/>
          <a:stretch/>
        </p:blipFill>
        <p:spPr>
          <a:xfrm>
            <a:off x="5143680" y="4005360"/>
            <a:ext cx="288432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196720" y="-799596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404640"/>
            <a:ext cx="4356000" cy="63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Когда ему было три года, родители развелись, он остался с матерью. Жили на юге, в бедности. Учился в одесской гимназии, из пятого класса которой был исключен, когда по специальному указу учебные заведения «освобождали» от детей «низкого» происхождения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2"/>
          <a:stretch/>
        </p:blipFill>
        <p:spPr>
          <a:xfrm>
            <a:off x="4500720" y="476280"/>
            <a:ext cx="3367080" cy="2665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"/>
          <p:cNvPicPr/>
          <p:nvPr/>
        </p:nvPicPr>
        <p:blipFill>
          <a:blip r:embed="rId3"/>
          <a:stretch/>
        </p:blipFill>
        <p:spPr>
          <a:xfrm>
            <a:off x="6119640" y="3141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4"/>
          <a:stretch/>
        </p:blipFill>
        <p:spPr>
          <a:xfrm>
            <a:off x="4484520" y="3141720"/>
            <a:ext cx="1635120" cy="20318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"/>
          <p:cNvPicPr/>
          <p:nvPr/>
        </p:nvPicPr>
        <p:blipFill>
          <a:blip r:embed="rId5"/>
          <a:stretch/>
        </p:blipFill>
        <p:spPr>
          <a:xfrm>
            <a:off x="4211640" y="5186520"/>
            <a:ext cx="2657520" cy="167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a02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-2484360" y="-3701880"/>
            <a:ext cx="46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8" name=""/>
          <p:cNvSpPr txBox="1"/>
          <p:nvPr/>
        </p:nvSpPr>
        <p:spPr>
          <a:xfrm rot="900000">
            <a:off x="3136320" y="519840"/>
            <a:ext cx="4957560" cy="582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 возрасте 87 лет К.Чуковский умер 28 октября 1968 в Кунцево. Похоронен в Переделкино, где он жил долгие годы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881080" cy="28083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3"/>
          <a:stretch/>
        </p:blipFill>
        <p:spPr>
          <a:xfrm>
            <a:off x="6875640" y="185760"/>
            <a:ext cx="1923840" cy="2811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"/>
          <p:cNvPicPr/>
          <p:nvPr/>
        </p:nvPicPr>
        <p:blipFill>
          <a:blip r:embed="rId4"/>
          <a:stretch/>
        </p:blipFill>
        <p:spPr>
          <a:xfrm>
            <a:off x="0" y="3284640"/>
            <a:ext cx="3132000" cy="23763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"/>
          <p:cNvPicPr/>
          <p:nvPr/>
        </p:nvPicPr>
        <p:blipFill>
          <a:blip r:embed="rId5"/>
          <a:stretch/>
        </p:blipFill>
        <p:spPr>
          <a:xfrm>
            <a:off x="3408480" y="4467240"/>
            <a:ext cx="197172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4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-2192400" y="-2471400"/>
            <a:ext cx="46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189000"/>
            <a:ext cx="421164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У меня зазвонил телефон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—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Кто говорит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—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Слон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—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ткуда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—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От верблюда..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(ТЕЛЕФОН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5" name="Прямоугольник 3"/>
          <p:cNvSpPr/>
          <p:nvPr/>
        </p:nvSpPr>
        <p:spPr>
          <a:xfrm>
            <a:off x="3635280" y="476280"/>
            <a:ext cx="49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Надо, надо умыватьс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По утрам и вечерам,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А нечистым трубочистам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— </a:t>
            </a: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Стыд и срам! Стыд и срам!.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Прямоугольник 4"/>
          <p:cNvSpPr/>
          <p:nvPr/>
        </p:nvSpPr>
        <p:spPr>
          <a:xfrm>
            <a:off x="4356000" y="2874960"/>
            <a:ext cx="20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(МОЙДОДЫР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4:56:42Z</dcterms:created>
  <dc:creator>Лина</dc:creator>
  <dc:description/>
  <dc:language>en-US</dc:language>
  <cp:lastModifiedBy>Школа</cp:lastModifiedBy>
  <dcterms:modified xsi:type="dcterms:W3CDTF">2013-04-13T17:49:52Z</dcterms:modified>
  <cp:revision>26</cp:revision>
  <dc:subject/>
  <dc:title>Когда и гдеродился и жил Корней Иванович Чуковский</dc:title>
</cp:coreProperties>
</file>