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74DE-4237-4B60-B71B-CD4CAAAA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C82-A568-48ED-BF75-2AD90F04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D50-DE31-4DCA-AF9B-AE536BDF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57B-4FFF-4A41-A236-C78B3A1D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F4EB-DF8F-41BE-912B-81B4D16B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41C8-61A8-4921-BC56-EBB6740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AF62-762F-445D-86D9-AD3AA6B8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BDC6-C1B0-46B5-BB9E-8FAC46B9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3023-E604-4649-AB82-CB011172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4993-9F74-4582-9C1E-3B711F68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0E38-1EC7-4729-BCFF-2061E246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F53C-6B85-4CA3-B5E4-00B206E1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D8C5-788F-4904-AAC8-26DF358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DA23-AAB1-462E-BC70-912ED9C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640D-1B34-4C2C-B850-B20E8B2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D6C2-EF00-466A-915D-23FAC0A5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9CED-D791-484D-A1BB-15BFFE72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4C5-45CD-441B-BFDF-1AA0F243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1F4-43C2-4BF6-A581-D49E5A8D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137-5432-4BD7-9E6C-271310C2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209-4E8B-417F-A3C2-9F3BBC0B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7BF-3916-4240-9056-01CFC75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30D-0875-48D0-A736-1C86F51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60E-46C7-49BA-8B86-FBB8226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36C3-A1F6-43E0-A555-164AD20A2F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97A-333E-4EF3-81FA-08E8AAF9421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Let’s repeat!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ряжение глагол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o be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esent Simp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 -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известно местонахождение и надо сообщить, кто или что находится в этом месте, то в английском языке используется конструкция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is / there ar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ля единственного чис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ля множественн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твердительные предложения: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There is/are 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+что лежит + где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или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где +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there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is/are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+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что лежит</a:t>
            </a:r>
            <a:r>
              <a:rPr b="1" i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.</a:t>
            </a:r>
            <a:r>
              <a:rPr b="1" i="1" lang="ru-RU" sz="3200" spc="-1" strike="noStrike" u="sng">
                <a:solidFill>
                  <a:srgbClr val="161616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Если перечисление, смотрим по первому сло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ие вопросы: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Is there /are there + </a:t>
            </a:r>
            <a:r>
              <a:rPr b="1" i="1" lang="ru-RU" sz="3200" spc="-1" strike="noStrike">
                <a:solidFill>
                  <a:srgbClr val="161616"/>
                </a:solidFill>
                <a:latin typeface="Times New Roman"/>
              </a:rPr>
              <a:t>что лежит + где ?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ить :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Yes there is / No there isn’t 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Yes there are / No there aren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отрицательных предлож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, чтобы образов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рицательное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ложение, после конструкции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ere is /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вится слово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Артикль в этом случае не употребля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 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is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V in his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нструкц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re is/ar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ование вопросительных предложений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рядок слов в  вопросительных предложениях, начинающихся со слов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следующий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hat +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is the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ы, начинающиеся с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ow man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ow many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чего)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books +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are ther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д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этой конструкцией не употребляется вопрос, начинающийся с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(гд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тение дат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датах год читается следующим образом: первые две цифры вместе и вторые две цифры вместе. С названием года употребляется предлог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. например: в 1675 году –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ixteen seventy-five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углые даты читаются так: в 1600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in sixteen hundred.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год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ри этом, обычно не употребляется. Однако начиная с третьего тысячелетия, даты произносятся следующим образом: в 2001 году.-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In the year two thousand and one.</a:t>
            </a:r>
            <a:r>
              <a:rPr b="0" lang="ru-RU" sz="2800" spc="-1" strike="noStrike">
                <a:solidFill>
                  <a:srgbClr val="16161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разование повелительных предложен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чтобы образовать повелительное предложение- на первое место ставится глагол без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Форма глагола в повелительном предложении не изменяется ни по лицам, ни по числам.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Read this l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приказание было более вежливым, в конце предложения добавляют слов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p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нглийские местоимения в объектном падеже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-me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мне, меня, мной, ( обо) мн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-you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 вас, вам, вами, (о) ва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-hi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его, ему, им, (о) нё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–he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(её, ей, ею. (о) не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-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(её, ей, ею, (о) ней, его, ему, им., (о) нё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-u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нас, нам. нами, (о) нас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-them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их, им, ими, (о) них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рицательные просьбы и приказа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чтобы образовать отрицательные приказания и просьбы, перед глаголом ставится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Don’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Don’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him the boo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ражение удивлен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бы выразить удивление в ответной реплике, нужно на первое место в предложение поставить глагол в той же форме, что и в исходном  предложении, и заменить подлежащее местоимение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 is my friend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Том – мой друг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Is he?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Да?/ Неужели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икль  « </a:t>
            </a:r>
            <a:r>
              <a:rPr b="1" lang="en-GB" sz="4400" spc="-1" strike="noStrike">
                <a:solidFill>
                  <a:srgbClr val="161616"/>
                </a:solidFill>
                <a:latin typeface="Times New Roman"/>
              </a:rPr>
              <a:t>a</a:t>
            </a: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тикль </a:t>
            </a:r>
            <a:r>
              <a:rPr b="1" lang="ru-RU" sz="3600" spc="-1" strike="noStrike">
                <a:solidFill>
                  <a:srgbClr val="161616"/>
                </a:solidFill>
                <a:latin typeface="Times New Roman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потребляется перед исчисляемыми существительными в единственном числ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тикль нельзя поставить перед прилагательным или перед именем собственны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дальные глагол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 глаголы работают сами по себе, им не нужны помощн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лжен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+гл;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not=mustn’t;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ительное слово 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+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лежащее второстепенные член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очь, уметь что-то дела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not=can’t [k^nt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Present Simple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; 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потребляется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происходит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mally( Usually)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быч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ten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аст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day ( week, month, year)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аждый день(неделю, месяц, год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 есть периодически повторя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твердительные 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лежаще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lways, never, normally, usually, oft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.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казуем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ополн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стоятельство места и врем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огда, обстоятельство времени может переноситься на нулевое место перед подлежащ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рицательные предложения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спомогательный глагол с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уем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тоятельство места и време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7280" y="188640"/>
            <a:ext cx="8856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просительные 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просительное сл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помогательный глаго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лежащ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азуем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полнение              ( если ест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тоятельство       ( если есть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гда к глаголу добавляется окончание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Если подлежащее стоит в третьем лице, единственном числе, то к глаголу сказуемому добавляется окончание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езличные предло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усском языке в безличных предложениях нет подлежащего. Холодно. Идёт дожд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глийское предложение невозможно без подлежащего и сказуемого, поэтому оно имеет формальное подлежаще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формальное сказуемо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которые на русский язык не переводятся. Например: Холодно.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c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прос к подлежащему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очень грязная и короткая улица, поэтому помощники сюда не ходят, а глагол работает сам. Из-за грязи он работает только в тапке и пытается пройти эту улицу побыстрее, поэтому каково  бы ни было утвердительное предложение, вопрос к подлежащему всегда одинаков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works? Who likes football?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тите внимание, как отвечать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 do; you do; he/she do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o rain; to snow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английском языке, в отличие от русского, есть два глаго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rain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ждить 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now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нежи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 глаголы работают только с одним подлежащи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В октябре идёт дождь(дождит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rains in October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декабре идёт снег(снежит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snows in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помнит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лагательное и существительное очень дружат и никому не позволяют встать между ними, поэтому артиклю приходится отодвинуться и пропустить прилагательно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еред существительным стоит местоимение, то артикль не стави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ожительная – Сравнительная – Превосходна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лагательные бывают: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дносложные и многосложны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носложные прилагательные образуют свои степени сравнения при помощи суффиксов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; 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longer- the long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 на гласну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о при прибавлении суффикса, конечная е отбрасы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e-nicer-the nic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 на согласную, с предшествующей гласной в кратком чтении, то при прибавлении суффикса конечная согласная удваиваетс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-fatter- the fat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и перед ней стоит согласная, то при прибавлении суффикс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няется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-happier- the happi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прил. оканчиваетс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и перед ней стои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ласная, то ничего менять не над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y-gayer- the gay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тепени сравнения прилага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ени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-better-the bes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хорош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d- worse-the wors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плохо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- less –the least;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маленьк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- farther –the farthes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далёки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тяжательный падеж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1способ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ого чтобы выразить, кому принадлежит предмет, в английском языке существует притяжательный падеж. Он образуется при помощи прибавления апостроф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‘s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лову, которое в русском языке стоит в родительном падеже и отвечает на вопросы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кого? чей? чья? чьё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епка Тома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Tom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’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итяжательный падеж. 2 способ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тяжательный падеж образуется с помощью предлога 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o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комната моего друга 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is 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room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y fri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ушевленные существительные образуют притяжательный падеж как первым, так и вторым способ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душевленные существительные образуют притяжательный падеж только с помощью предлога </a:t>
            </a:r>
            <a:r>
              <a:rPr b="0" lang="en-US" sz="2800" spc="-1" strike="noStrike">
                <a:solidFill>
                  <a:srgbClr val="161616"/>
                </a:solidFill>
                <a:latin typeface="Times New Roman"/>
              </a:rPr>
              <a:t>of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ртикль </a:t>
            </a:r>
            <a:r>
              <a:rPr b="1" lang="en-US" sz="4400" spc="-1" strike="noStrike">
                <a:solidFill>
                  <a:srgbClr val="161616"/>
                </a:solidFill>
                <a:latin typeface="Times New Roman"/>
              </a:rPr>
              <a:t>th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ртикль </a:t>
            </a:r>
            <a:r>
              <a:rPr b="0" lang="en-US" sz="36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потребляется, когда речь идёт об уже однажды названном предмете. Например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’s </a:t>
            </a:r>
            <a:r>
              <a:rPr b="0" i="1" lang="en-US" sz="3600" spc="-1" strike="noStrike">
                <a:solidFill>
                  <a:srgbClr val="161616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at. </a:t>
            </a:r>
            <a:r>
              <a:rPr b="0" lang="en-US" sz="36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at is fat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ак же, как и артикль</a:t>
            </a:r>
            <a:r>
              <a:rPr b="0" i="1" lang="ru-RU" sz="3600" spc="-1" strike="noStrike">
                <a:solidFill>
                  <a:srgbClr val="161616"/>
                </a:solidFill>
                <a:latin typeface="Times New Roman"/>
              </a:rPr>
              <a:t> 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артикль </a:t>
            </a:r>
            <a:r>
              <a:rPr b="0" lang="en-US" sz="36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не ставится перед именами собственным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казательные местоим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Th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то, этот, э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Tha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, тот, 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овательно, если говорят о предмете, расположенном близко, надо использовать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is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же говорят о предмете, расположенном далеко, используйте местоимение 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that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ножественное число имён существительны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жественное число существительных образуется при помощи прибавления окончания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s</a:t>
            </a:r>
            <a:r>
              <a:rPr b="0" lang="ru-RU" sz="32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уществительном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сл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, ss x, ch, sh, o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к слову добавляется окончание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161616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Личные и притяжательные местоимения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– my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м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–you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твой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–his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ег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–he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её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- 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–ou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наш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–you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аш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–their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их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07:50:19Z</dcterms:created>
  <dc:creator>user</dc:creator>
  <dc:description/>
  <dc:language>en-US</dc:language>
  <cp:lastModifiedBy>User</cp:lastModifiedBy>
  <dcterms:modified xsi:type="dcterms:W3CDTF">2013-04-13T13:37:08Z</dcterms:modified>
  <cp:revision>29</cp:revision>
  <dc:subject/>
  <dc:title>5 класс</dc:title>
</cp:coreProperties>
</file>