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89BE-E01F-4792-9AC2-BF24467BE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740F-E879-41CD-A341-041FC3D37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9C37-5337-4F88-885A-E24261989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904B-AD59-43D8-9E48-D79CC5208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8F5A3-2690-4A76-814E-638ABA481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2CBA2-19D5-4630-8CC7-7163C5A20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F66C7-AA2E-4BC8-9F81-FE19A6A52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7DAF6-0BA0-4EA1-99C2-7682A8275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9FBB7-09F8-4AF9-864B-F0070EB8F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35A2D-0A0F-488F-B2E1-8174AD27B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E0683-9F34-44A4-A8E1-315382AE4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935C-5DF2-46EA-B210-CE9986308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A8CFA-ED2F-4EE7-827A-8FD4B99DF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A0350-56C8-4FD9-B834-F699FA288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7414A-2D30-4DE1-8721-964578DD4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E7676-37D1-4DCB-A24A-C4BA3B2B6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E1C67-8185-40F5-A958-9FF23DE34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230F-C5D9-4079-B53A-521FF9C27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192B-7981-42D2-A1E1-B58A0D00E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287C-3371-40F9-951F-59C047BA3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B746-BCEB-42E4-A270-F2ECEA525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2B85-C43E-4138-8A51-7ABBA8F01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9285-0A85-479E-AD8D-B2D44A3D1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BD01-BED1-46F7-8117-455E50A06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599BF-BD3A-458B-A7A3-1162658D322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65976-BB97-4706-A021-0BA24BF8AF8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eec94"/>
                </a:solidFill>
                <a:latin typeface="Times New Roman"/>
              </a:rPr>
              <a:t>Let’s repeat!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Спряжение глагола 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to be </a:t>
            </a: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в 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Present Simple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   -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ou  -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–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e –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 -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–a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ou –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-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Конструкция 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there is/ar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Если известно местонахождение и надо сообщить, кто или что находится в этом месте, то в английском языке используется конструкция </a:t>
            </a:r>
            <a:r>
              <a:rPr b="0" lang="en-US" sz="3200" spc="-1" strike="noStrike">
                <a:solidFill>
                  <a:srgbClr val="161616"/>
                </a:solidFill>
                <a:latin typeface="Times New Roman"/>
              </a:rPr>
              <a:t>there is / there are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1616"/>
                </a:solidFill>
                <a:latin typeface="Times New Roman"/>
              </a:rPr>
              <a:t>There is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–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для единственного числ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1616"/>
                </a:solidFill>
                <a:latin typeface="Times New Roman"/>
              </a:rPr>
              <a:t>There are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–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для множественног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Конструкция 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there is/ar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Утвердительные предложения: </a:t>
            </a:r>
            <a:r>
              <a:rPr b="1" i="1" lang="en-US" sz="3200" spc="-1" strike="noStrike" u="sng">
                <a:solidFill>
                  <a:srgbClr val="161616"/>
                </a:solidFill>
                <a:uFillTx/>
                <a:latin typeface="Times New Roman"/>
              </a:rPr>
              <a:t>There is/are </a:t>
            </a:r>
            <a:r>
              <a:rPr b="1" i="1" lang="ru-RU" sz="3200" spc="-1" strike="noStrike" u="sng">
                <a:solidFill>
                  <a:srgbClr val="161616"/>
                </a:solidFill>
                <a:uFillTx/>
                <a:latin typeface="Times New Roman"/>
              </a:rPr>
              <a:t>+что лежит + где </a:t>
            </a:r>
            <a:r>
              <a:rPr b="1" i="1" lang="en-US" sz="3200" spc="-1" strike="noStrike" u="sng">
                <a:solidFill>
                  <a:srgbClr val="161616"/>
                </a:solidFill>
                <a:uFillTx/>
                <a:latin typeface="Times New Roman"/>
              </a:rPr>
              <a:t> </a:t>
            </a:r>
            <a:r>
              <a:rPr b="1" i="1" lang="ru-RU" sz="3200" spc="-1" strike="noStrike" u="sng">
                <a:solidFill>
                  <a:srgbClr val="161616"/>
                </a:solidFill>
                <a:uFillTx/>
                <a:latin typeface="Times New Roman"/>
              </a:rPr>
              <a:t>или </a:t>
            </a:r>
            <a:r>
              <a:rPr b="1" i="1" lang="en-US" sz="3200" spc="-1" strike="noStrike" u="sng">
                <a:solidFill>
                  <a:srgbClr val="161616"/>
                </a:solidFill>
                <a:uFillTx/>
                <a:latin typeface="Times New Roman"/>
              </a:rPr>
              <a:t> </a:t>
            </a:r>
            <a:r>
              <a:rPr b="1" i="1" lang="ru-RU" sz="3200" spc="-1" strike="noStrike" u="sng">
                <a:solidFill>
                  <a:srgbClr val="161616"/>
                </a:solidFill>
                <a:uFillTx/>
                <a:latin typeface="Times New Roman"/>
              </a:rPr>
              <a:t>где + </a:t>
            </a:r>
            <a:r>
              <a:rPr b="1" i="1" lang="en-US" sz="3200" spc="-1" strike="noStrike" u="sng">
                <a:solidFill>
                  <a:srgbClr val="161616"/>
                </a:solidFill>
                <a:uFillTx/>
                <a:latin typeface="Times New Roman"/>
              </a:rPr>
              <a:t>there</a:t>
            </a:r>
            <a:r>
              <a:rPr b="1" i="1" lang="ru-RU" sz="3200" spc="-1" strike="noStrike" u="sng">
                <a:solidFill>
                  <a:srgbClr val="161616"/>
                </a:solidFill>
                <a:uFillTx/>
                <a:latin typeface="Times New Roman"/>
              </a:rPr>
              <a:t> </a:t>
            </a:r>
            <a:r>
              <a:rPr b="1" i="1" lang="en-US" sz="3200" spc="-1" strike="noStrike" u="sng">
                <a:solidFill>
                  <a:srgbClr val="161616"/>
                </a:solidFill>
                <a:uFillTx/>
                <a:latin typeface="Times New Roman"/>
              </a:rPr>
              <a:t>is/are</a:t>
            </a:r>
            <a:r>
              <a:rPr b="1" i="1" lang="ru-RU" sz="3200" spc="-1" strike="noStrike" u="sng">
                <a:solidFill>
                  <a:srgbClr val="161616"/>
                </a:solidFill>
                <a:uFillTx/>
                <a:latin typeface="Times New Roman"/>
              </a:rPr>
              <a:t> </a:t>
            </a:r>
            <a:r>
              <a:rPr b="1" i="1" lang="en-US" sz="3200" spc="-1" strike="noStrike" u="sng">
                <a:solidFill>
                  <a:srgbClr val="161616"/>
                </a:solidFill>
                <a:uFillTx/>
                <a:latin typeface="Times New Roman"/>
              </a:rPr>
              <a:t>+</a:t>
            </a:r>
            <a:r>
              <a:rPr b="1" i="1" lang="ru-RU" sz="3200" spc="-1" strike="noStrike" u="sng">
                <a:solidFill>
                  <a:srgbClr val="161616"/>
                </a:solidFill>
                <a:uFillTx/>
                <a:latin typeface="Times New Roman"/>
              </a:rPr>
              <a:t>что лежит</a:t>
            </a:r>
            <a:r>
              <a:rPr b="1" i="1" lang="en-US" sz="3200" spc="-1" strike="noStrike" u="sng">
                <a:solidFill>
                  <a:srgbClr val="161616"/>
                </a:solidFill>
                <a:uFillTx/>
                <a:latin typeface="Times New Roman"/>
              </a:rPr>
              <a:t>.</a:t>
            </a:r>
            <a:r>
              <a:rPr b="1" i="1" lang="ru-RU" sz="3200" spc="-1" strike="noStrike" u="sng">
                <a:solidFill>
                  <a:srgbClr val="161616"/>
                </a:solidFill>
                <a:uFillTx/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Если перечисление, смотрим по первому слову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бщие вопросы: </a:t>
            </a:r>
            <a:r>
              <a:rPr b="1" i="1" lang="en-US" sz="3200" spc="-1" strike="noStrike">
                <a:solidFill>
                  <a:srgbClr val="161616"/>
                </a:solidFill>
                <a:latin typeface="Times New Roman"/>
              </a:rPr>
              <a:t>Is there /are there + </a:t>
            </a:r>
            <a:r>
              <a:rPr b="1" i="1" lang="ru-RU" sz="3200" spc="-1" strike="noStrike">
                <a:solidFill>
                  <a:srgbClr val="161616"/>
                </a:solidFill>
                <a:latin typeface="Times New Roman"/>
              </a:rPr>
              <a:t>что лежит + где ?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тветить : </a:t>
            </a:r>
            <a:r>
              <a:rPr b="0" lang="en-US" sz="3200" spc="-1" strike="noStrike">
                <a:solidFill>
                  <a:srgbClr val="161616"/>
                </a:solidFill>
                <a:latin typeface="Times New Roman"/>
              </a:rPr>
              <a:t>Yes there is / No there isn’t </a:t>
            </a:r>
            <a:r>
              <a:rPr b="0" lang="ru-RU" sz="3200" spc="-1" strike="noStrike">
                <a:solidFill>
                  <a:srgbClr val="161616"/>
                </a:solidFill>
                <a:latin typeface="Times New Roman"/>
              </a:rPr>
              <a:t>или </a:t>
            </a:r>
            <a:r>
              <a:rPr b="0" lang="en-US" sz="3200" spc="-1" strike="noStrike">
                <a:solidFill>
                  <a:srgbClr val="161616"/>
                </a:solidFill>
                <a:latin typeface="Times New Roman"/>
              </a:rPr>
              <a:t>Yes there are / No there aren’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Конструкция 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there is/ar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бразование отрицательных предложений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ля того , чтобы образовать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трицательное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едложение, после конструкции </a:t>
            </a:r>
            <a:r>
              <a:rPr b="0" lang="en-US" sz="3200" spc="-1" strike="noStrike">
                <a:solidFill>
                  <a:srgbClr val="161616"/>
                </a:solidFill>
                <a:latin typeface="Times New Roman"/>
              </a:rPr>
              <a:t>there is /ar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тавится слово </a:t>
            </a:r>
            <a:r>
              <a:rPr b="1" lang="en-US" sz="3200" spc="-1" strike="noStrike">
                <a:solidFill>
                  <a:srgbClr val="161616"/>
                </a:solidFill>
                <a:latin typeface="Times New Roman"/>
              </a:rPr>
              <a:t>n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Артикль в этом случае не употребляетс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апример :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re is </a:t>
            </a:r>
            <a:r>
              <a:rPr b="1" lang="en-US" sz="3200" spc="-1" strike="noStrike">
                <a:solidFill>
                  <a:srgbClr val="161616"/>
                </a:solidFill>
                <a:latin typeface="Times New Roman"/>
              </a:rPr>
              <a:t>n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V in his roo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Конструкция 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there is/ar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бразование вопросительных предложений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орядок слов в  вопросительных предложениях, начинающихся со слова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hat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, следующий: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What + </a:t>
            </a:r>
            <a:r>
              <a:rPr b="1" i="1" lang="en-US" sz="3200" spc="-1" strike="noStrike">
                <a:solidFill>
                  <a:srgbClr val="161616"/>
                </a:solidFill>
                <a:latin typeface="Times New Roman"/>
              </a:rPr>
              <a:t>is ther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где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опросы, начинающиеся с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How man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How many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(чего)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books + </a:t>
            </a:r>
            <a:r>
              <a:rPr b="1" i="1" lang="en-US" sz="3200" spc="-1" strike="noStrike">
                <a:solidFill>
                  <a:srgbClr val="161616"/>
                </a:solidFill>
                <a:latin typeface="Times New Roman"/>
              </a:rPr>
              <a:t>are ther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+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где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 этой конструкцией не употребляется вопрос, начинающийся с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here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(где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Чтение дат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 датах год читается следующим образом: первые две цифры вместе и вторые две цифры вместе. С названием года употребляется предлог </a:t>
            </a:r>
            <a:r>
              <a:rPr b="1" lang="en-US" sz="2800" spc="-1" strike="noStrike">
                <a:solidFill>
                  <a:srgbClr val="161616"/>
                </a:solidFill>
                <a:latin typeface="Times New Roman"/>
              </a:rPr>
              <a:t>in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. например: в 1675 году – </a:t>
            </a:r>
            <a:r>
              <a:rPr b="1" lang="en-US" sz="2800" spc="-1" strike="noStrike">
                <a:solidFill>
                  <a:srgbClr val="161616"/>
                </a:solidFill>
                <a:latin typeface="Times New Roman"/>
              </a:rPr>
              <a:t>i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sixteen seventy-five.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руглые даты читаются так: в 1600-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161616"/>
                </a:solidFill>
                <a:latin typeface="Times New Roman"/>
              </a:rPr>
              <a:t>in sixteen hundred.</a:t>
            </a:r>
            <a:r>
              <a:rPr b="0" lang="ru-RU" sz="2800" spc="-1" strike="noStrike">
                <a:solidFill>
                  <a:srgbClr val="161616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лово год(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ear)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при этом, обычно не употребляется. Однако начиная с третьего тысячелетия, даты произносятся следующим образом: в 2001 году.-</a:t>
            </a:r>
            <a:r>
              <a:rPr b="0" lang="en-US" sz="2800" spc="-1" strike="noStrike">
                <a:solidFill>
                  <a:srgbClr val="161616"/>
                </a:solidFill>
                <a:latin typeface="Times New Roman"/>
              </a:rPr>
              <a:t>In the year two thousand and one.</a:t>
            </a:r>
            <a:r>
              <a:rPr b="0" lang="ru-RU" sz="2800" spc="-1" strike="noStrike">
                <a:solidFill>
                  <a:srgbClr val="161616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Образование повелительных предложений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ля того чтобы образовать повелительное предложение- на первое место ставится глагол без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. Форма глагола в повелительном предложении не изменяется ни по лицам, ни по числам.</a:t>
            </a:r>
            <a:r>
              <a:rPr b="0" lang="en-US" sz="3200" spc="-1" strike="noStrike">
                <a:solidFill>
                  <a:srgbClr val="161616"/>
                </a:solidFill>
                <a:latin typeface="Times New Roman"/>
              </a:rPr>
              <a:t>Read this lis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Чтобы приказание было более вежливым, в конце предложения добавляют слово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161616"/>
                </a:solidFill>
                <a:latin typeface="Times New Roman"/>
              </a:rPr>
              <a:t>plea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Английские местоимения в объектном падеже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-me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( мне, меня, мной, ( обо) мне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ou-you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( вас, вам, вами, (о) вас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-him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(его, ему, им, (о) нём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he –her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(её, ей, ею. (о) ней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-it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(её, ей, ею, (о) ней, его, ему, им., (о) нём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-us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(нас, нам. нами, (о) нас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-them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(их, им, ими, (о) них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Отрицательные просьбы и приказания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ля того чтобы образовать отрицательные приказания и просьбы, перед глаголом ставится </a:t>
            </a:r>
            <a:r>
              <a:rPr b="0" lang="en-US" sz="3200" spc="-1" strike="noStrike">
                <a:solidFill>
                  <a:srgbClr val="161616"/>
                </a:solidFill>
                <a:latin typeface="Times New Roman"/>
              </a:rPr>
              <a:t>Don’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е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61616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161616"/>
                </a:solidFill>
                <a:latin typeface="Times New Roman"/>
              </a:rPr>
              <a:t>Don’t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ive him the book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Выражение удивления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Чтобы выразить удивление в ответной реплике, нужно на первое место в предложение поставить глагол в той же форме, что и в исходном  предложении, и заменить подлежащее местоимением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: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m is my friend.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( Том – мой друг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: </a:t>
            </a:r>
            <a:r>
              <a:rPr b="0" lang="en-US" sz="3200" spc="-1" strike="noStrike">
                <a:solidFill>
                  <a:srgbClr val="161616"/>
                </a:solidFill>
                <a:latin typeface="Times New Roman"/>
              </a:rPr>
              <a:t>Is he?</a:t>
            </a:r>
            <a:r>
              <a:rPr b="0" lang="ru-RU" sz="3200" spc="-1" strike="noStrike">
                <a:solidFill>
                  <a:srgbClr val="161616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( Да?/ Неужели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Артикль  « </a:t>
            </a:r>
            <a:r>
              <a:rPr b="1" lang="en-GB" sz="4400" spc="-1" strike="noStrike">
                <a:solidFill>
                  <a:srgbClr val="161616"/>
                </a:solidFill>
                <a:latin typeface="Times New Roman"/>
              </a:rPr>
              <a:t>a</a:t>
            </a:r>
            <a:r>
              <a:rPr b="1" lang="en-GB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»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Артикль </a:t>
            </a:r>
            <a:r>
              <a:rPr b="1" lang="ru-RU" sz="3600" spc="-1" strike="noStrike">
                <a:solidFill>
                  <a:srgbClr val="161616"/>
                </a:solidFill>
                <a:latin typeface="Times New Roman"/>
              </a:rPr>
              <a:t>а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употребляется перед исчисляемыми существительными в единственном числе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Артикль нельзя поставить перед прилагательным или перед именем собственным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Модальные глаголы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Эти глаголы работают сами по себе, им не нужны помощник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1616"/>
                </a:solidFill>
                <a:latin typeface="Times New Roman"/>
              </a:rPr>
              <a:t>Mus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олжен.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st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+гл;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st not=mustn’t;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опросительное слово +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st +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одлежащее второстепенные члены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1616"/>
                </a:solidFill>
                <a:latin typeface="Times New Roman"/>
              </a:rPr>
              <a:t>Ca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–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мочь, уметь что-то делат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n not=can’t [k^nt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Present Simple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; V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Употребляется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ействие происходит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ways-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сегд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rmally( Usually)-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обычн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ften-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част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very day ( week, month, year)-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каждый день(неделю, месяц, год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То есть периодически повторяетс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Утвердительные предложения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.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длежаще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always, never, normally, usually, ofte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I.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казуемо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II.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Дополне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V.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бстоятельство места и времен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ногда, обстоятельство времени может переноситься на нулевое место перед подлежащим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Отрицательные предложения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.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одлежаще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I.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Вспомогательный глагол с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II.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казуемо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V.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ополнени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.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бстоятельство места и времен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87280" y="188640"/>
            <a:ext cx="88567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Вопросительные предложения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.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опросительное слов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I.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спомогательный глаго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II.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одлежаще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V.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казуемо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.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ополнение              ( если есть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I.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бстоятельство       ( если есть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Когда к глаголу добавляется окончание 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s</a:t>
            </a: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 ?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Если подлежащее стоит в третьем лице, единственном числе, то к глаголу сказуемому добавляется окончание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Безличные предложения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 русском языке в безличных предложениях нет подлежащего. Холодно. Идёт дождь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нглийское предложение невозможно без подлежащего и сказуемого, поэтому оно имеет формальное подлежащее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и формальное сказуемое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, которые на русский язык не переводятся. Например: Холодно. –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is col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Вопрос к подлежащему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Это очень грязная и короткая улица, поэтому помощники сюда не ходят, а глагол работает сам. Из-за грязи он работает только в тапке и пытается пройти эту улицу побыстрее, поэтому каково  бы ни было утвердительное предложение, вопрос к подлежащему всегда одинаков: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o works? Who likes football?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братите внимание, как отвечать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 do; you do; he/she do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To rain; to snow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 английском языке, в отличие от русского, есть два глагола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rain-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ождить и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snow-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снежить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Эти глаголы работают только с одним подлежащим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апример: В октябре идёт дождь(дождит)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t rains in October.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 декабре идёт снег(снежит)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snows in Decemb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Запомните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илагательное и существительное очень дружат и никому не позволяют встать между ними, поэтому артиклю приходится отодвинуться и пропустить прилагательно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161616"/>
                </a:solidFill>
                <a:latin typeface="Times New Roman"/>
              </a:rPr>
              <a:t>a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big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161616"/>
                </a:solidFill>
                <a:latin typeface="Times New Roman"/>
              </a:rPr>
              <a:t>t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Если перед существительным стоит местоимение, то артикль не ставитс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his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a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Степени сравнения прилагательных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ложительная – Сравнительная – Превосходна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илагательные бывают: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односложные и многосложные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Степени сравнения прилагательных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дносложные прилагательные образуют свои степени сравнения при помощи суффиксов: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r; e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ng-longer- the longe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Если прил. Оканчивается на гласную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e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, то при прибавлении суффикса, конечная е отбрасываетс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ice-nicer-the nices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Степени сравнения прилагательных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Если прил. оканчивается на согласную, с предшествующей гласной в кратком чтении, то при прибавлении суффикса конечная согласная удваивается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at-fatter- the fatte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Если прил. оканчивается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на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y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, и перед ней стоит согласная, то при прибавлении суффикса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еняется на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ppy-happier- the happie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Степени сравнения прилагательных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Если прил. оканчивается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на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y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, и перед ней стоит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гласная, то ничего менять не надо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ay-gayer- the gaye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Степени сравнения прилагательных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сключения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ood-better-the best;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(хороший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ad- worse-the worst;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(плохой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ttle- less –the least;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(маленький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ar- farther –the farthest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(далёкий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Притяжательный падеж.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1способ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ля того чтобы выразить, кому принадлежит предмет, в английском языке существует притяжательный падеж. Он образуется при помощи прибавления апострофа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161616"/>
                </a:solidFill>
                <a:latin typeface="Times New Roman"/>
              </a:rPr>
              <a:t>‘s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 слову, которое в русском языке стоит в родительном падеже и отвечает на вопросы </a:t>
            </a: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кого? чей? чья? чьё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епка Тома =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Tom</a:t>
            </a:r>
            <a:r>
              <a:rPr b="0" lang="en-US" sz="3200" spc="-1" strike="noStrike">
                <a:solidFill>
                  <a:srgbClr val="161616"/>
                </a:solidFill>
                <a:latin typeface="Times New Roman"/>
              </a:rPr>
              <a:t>’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ca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Притяжательный падеж. 2 способ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итяжательный падеж образуется с помощью предлога </a:t>
            </a:r>
            <a:r>
              <a:rPr b="0" lang="en-US" sz="2800" spc="-1" strike="noStrike">
                <a:solidFill>
                  <a:srgbClr val="161616"/>
                </a:solidFill>
                <a:latin typeface="Times New Roman"/>
              </a:rPr>
              <a:t>of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Это комната моего друга =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his is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 room </a:t>
            </a:r>
            <a:r>
              <a:rPr b="1" lang="en-US" sz="2800" spc="-1" strike="noStrike">
                <a:solidFill>
                  <a:srgbClr val="161616"/>
                </a:solidFill>
                <a:latin typeface="Times New Roman"/>
              </a:rPr>
              <a:t>of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y frie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душевленные существительные образуют притяжательный падеж как первым, так и вторым способом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еодушевленные существительные образуют притяжательный падеж только с помощью предлога </a:t>
            </a:r>
            <a:r>
              <a:rPr b="0" lang="en-US" sz="2800" spc="-1" strike="noStrike">
                <a:solidFill>
                  <a:srgbClr val="161616"/>
                </a:solidFill>
                <a:latin typeface="Times New Roman"/>
              </a:rPr>
              <a:t>of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Артикль </a:t>
            </a:r>
            <a:r>
              <a:rPr b="1" lang="en-US" sz="4400" spc="-1" strike="noStrike">
                <a:solidFill>
                  <a:srgbClr val="161616"/>
                </a:solidFill>
                <a:latin typeface="Times New Roman"/>
              </a:rPr>
              <a:t>th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Артикль </a:t>
            </a:r>
            <a:r>
              <a:rPr b="0" lang="en-US" sz="3600" spc="-1" strike="noStrike">
                <a:solidFill>
                  <a:srgbClr val="161616"/>
                </a:solidFill>
                <a:latin typeface="Times New Roman"/>
              </a:rPr>
              <a:t>th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употребляется, когда речь идёт об уже однажды названном предмете. Например: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t’s </a:t>
            </a:r>
            <a:r>
              <a:rPr b="0" i="1" lang="en-US" sz="3600" spc="-1" strike="noStrike">
                <a:solidFill>
                  <a:srgbClr val="161616"/>
                </a:solidFill>
                <a:latin typeface="Times New Roman"/>
              </a:rPr>
              <a:t>a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cat. </a:t>
            </a:r>
            <a:r>
              <a:rPr b="0" lang="en-US" sz="3600" spc="-1" strike="noStrike">
                <a:solidFill>
                  <a:srgbClr val="161616"/>
                </a:solidFill>
                <a:latin typeface="Times New Roman"/>
              </a:rPr>
              <a:t>Th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cat is fat.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Так же, как и артикль</a:t>
            </a:r>
            <a:r>
              <a:rPr b="0" i="1" lang="ru-RU" sz="3600" spc="-1" strike="noStrike">
                <a:solidFill>
                  <a:srgbClr val="161616"/>
                </a:solidFill>
                <a:latin typeface="Times New Roman"/>
              </a:rPr>
              <a:t> а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, артикль </a:t>
            </a:r>
            <a:r>
              <a:rPr b="0" lang="en-US" sz="3600" spc="-1" strike="noStrike">
                <a:solidFill>
                  <a:srgbClr val="161616"/>
                </a:solidFill>
                <a:latin typeface="Times New Roman"/>
              </a:rPr>
              <a:t>the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не ставится перед именами собственными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Указательные местоимения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61616"/>
                </a:solidFill>
                <a:latin typeface="Times New Roman"/>
              </a:rPr>
              <a:t>This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это, этот, эт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161616"/>
                </a:solidFill>
                <a:latin typeface="Times New Roman"/>
              </a:rPr>
              <a:t>That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–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то, тот, т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ледовательно, если говорят о предмете, расположенном близко, надо использовать </a:t>
            </a:r>
            <a:r>
              <a:rPr b="0" lang="en-US" sz="3200" spc="-1" strike="noStrike">
                <a:solidFill>
                  <a:srgbClr val="161616"/>
                </a:solidFill>
                <a:latin typeface="Times New Roman"/>
              </a:rPr>
              <a:t>this</a:t>
            </a:r>
            <a:r>
              <a:rPr b="0" lang="ru-RU" sz="3200" spc="-1" strike="noStrike">
                <a:solidFill>
                  <a:srgbClr val="161616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Если же говорят о предмете, расположенном далеко, используйте местоимение </a:t>
            </a:r>
            <a:r>
              <a:rPr b="0" lang="en-US" sz="3200" spc="-1" strike="noStrike">
                <a:solidFill>
                  <a:srgbClr val="161616"/>
                </a:solidFill>
                <a:latin typeface="Times New Roman"/>
              </a:rPr>
              <a:t>that</a:t>
            </a:r>
            <a:r>
              <a:rPr b="0" lang="ru-RU" sz="3200" spc="-1" strike="noStrike">
                <a:solidFill>
                  <a:srgbClr val="161616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Множественное число имён существительных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ножественное число существительных образуется при помощи прибавления окончания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161616"/>
                </a:solidFill>
                <a:latin typeface="Times New Roman"/>
              </a:rPr>
              <a:t>s</a:t>
            </a:r>
            <a:r>
              <a:rPr b="0" lang="ru-RU" sz="3200" spc="-1" strike="noStrike">
                <a:solidFill>
                  <a:srgbClr val="161616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 существительному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осле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, ss x, ch, sh, o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к слову добавляется окончание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161616"/>
                </a:solidFill>
                <a:latin typeface="Times New Roman"/>
              </a:rPr>
              <a:t>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Личные и притяжательные местоимения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 – my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(мой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ou –your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(твой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–his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(его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e –her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(её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 - i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 –our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(наш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ou –your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(ваш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–their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(их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4T07:50:19Z</dcterms:created>
  <dc:creator>user</dc:creator>
  <dc:description/>
  <dc:language>en-US</dc:language>
  <cp:lastModifiedBy>User</cp:lastModifiedBy>
  <dcterms:modified xsi:type="dcterms:W3CDTF">2013-04-13T13:37:08Z</dcterms:modified>
  <cp:revision>29</cp:revision>
  <dc:subject/>
  <dc:title>5 класс</dc:title>
</cp:coreProperties>
</file>