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942480" y="755640"/>
            <a:ext cx="497052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4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1520" y="0"/>
            <a:ext cx="297504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8920"/>
            <a:ext cx="29750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1520" y="9448920"/>
            <a:ext cx="29750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6720"/>
                <a:tab algn="l" pos="1333440"/>
                <a:tab algn="l" pos="1998720"/>
                <a:tab algn="l" pos="266544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6720"/>
                <a:tab algn="l" pos="1333440"/>
                <a:tab algn="l" pos="1998720"/>
                <a:tab algn="l" pos="266544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339E05A7-414F-4BEA-B968-21E1281EC12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3881520" y="9448920"/>
            <a:ext cx="2975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6720"/>
                <a:tab algn="l" pos="1333440"/>
                <a:tab algn="l" pos="1998720"/>
                <a:tab algn="l" pos="266544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465BF270-BA32-48BA-85EA-62F2A63E9E0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942840" y="75564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3881520" y="9448920"/>
            <a:ext cx="2975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6720"/>
                <a:tab algn="l" pos="1333440"/>
                <a:tab algn="l" pos="1998720"/>
                <a:tab algn="l" pos="266544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0DFB9E19-2120-4FD9-B82B-4F312EB7AC3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42840" y="75564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3881520" y="9448920"/>
            <a:ext cx="2975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6720"/>
                <a:tab algn="l" pos="1333440"/>
                <a:tab algn="l" pos="1998720"/>
                <a:tab algn="l" pos="266544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D4B05674-F164-46EE-B3DB-6F75CB80F28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42840" y="75564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3881520" y="9448920"/>
            <a:ext cx="2975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6720"/>
                <a:tab algn="l" pos="1333440"/>
                <a:tab algn="l" pos="1998720"/>
                <a:tab algn="l" pos="266544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C3BD7CCB-95C8-4E66-9DFA-68A4E790FDC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42840" y="75564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3881520" y="9448920"/>
            <a:ext cx="2975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6720"/>
                <a:tab algn="l" pos="1333440"/>
                <a:tab algn="l" pos="1998720"/>
                <a:tab algn="l" pos="266544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ECE5179B-0C38-4F03-9DF9-B46E2250601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42840" y="75564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70E3-EDBB-4796-B8AB-E20FEE0B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8BA-4676-4FDA-B6CF-BC5085DE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DFF6-F076-4C25-BEAB-E47AEF94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4ED-917F-46F2-863D-CFD282AD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FE8-65E3-4094-82C6-7CB3D04F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7B0-407E-4FAB-AC8D-FCFE3843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2FD-829F-4345-8DDE-7817F66E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6253-789C-4B88-BA81-8C01C774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317-A9C0-494F-8376-573DB6F6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4EDD-A281-4434-992F-BDAB3C69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24B-A217-4E4F-A2ED-78E46D95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157F-9341-42A2-BD37-1F2F6E87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0BC8A-0B2A-4C98-8F67-00FBD17149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466560"/>
            <a:ext cx="91454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Abcdaire Enfantin"/>
              </a:rPr>
              <a:t>     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3600" spc="-1" strike="noStrike">
                <a:solidFill>
                  <a:srgbClr val="ff00ff"/>
                </a:solidFill>
                <a:latin typeface="Arbat-Bold"/>
              </a:rPr>
              <a:t>Из опыта работы по ФЭМП</a:t>
            </a:r>
            <a:br>
              <a:rPr sz="3600"/>
            </a:br>
            <a:r>
              <a:rPr b="0" lang="ru-RU" sz="3600" spc="-1" strike="noStrike">
                <a:solidFill>
                  <a:srgbClr val="ff00ff"/>
                </a:solidFill>
                <a:latin typeface="Arbat-Bold"/>
              </a:rPr>
              <a:t> у дошкольников 6-7 лет.</a:t>
            </a:r>
            <a:br>
              <a:rPr sz="3600"/>
            </a:b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Abcdaire Enfanti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Abcdaire Enfantin"/>
              </a:rPr>
              <a:t>                              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7280" y="3995640"/>
            <a:ext cx="929016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bat-Bold"/>
              </a:rPr>
              <a:t>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bat-Bold"/>
              </a:rPr>
              <a:t>Воспитатель 1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bat-Bold"/>
              </a:rPr>
              <a:t>Л.В, Юшинё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bat-Bold"/>
              </a:rPr>
              <a:t>МБДОУ детский сад №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bat-Bold"/>
              </a:rPr>
              <a:t>Города Новотроиц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2920" y="539280"/>
            <a:ext cx="9069480" cy="621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bat-Bold"/>
              </a:rPr>
              <a:t>« математика… выполняет поряд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bat-Bold"/>
              </a:rPr>
              <a:t>Симметрию и  определ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bat-Bold"/>
              </a:rPr>
              <a:t>А это важнейшие виды прекрасн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bat-Bold"/>
              </a:rPr>
              <a:t>Программа современного образования обязывает реализовывать развивающую функцию обучения. Математика как объект исследования обладает большими возможностями для решения задач, связанных с развитием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bat-Bold"/>
              </a:rPr>
              <a:t>Создание  условий, отбор определенных методик и технологий развивающего обучения, получение информации о ребенке- всё это способствует развитию свободной творческой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1235520"/>
            <a:ext cx="90694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611280"/>
            <a:ext cx="906948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lvl="1" marL="4572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по ФЭМП  включает в себя несколько разде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 и фор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ка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ка в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и с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2"/>
          <p:cNvPicPr/>
          <p:nvPr/>
        </p:nvPicPr>
        <p:blipFill>
          <a:blip r:embed="rId1"/>
          <a:stretch/>
        </p:blipFill>
        <p:spPr>
          <a:xfrm>
            <a:off x="1511280" y="3635280"/>
            <a:ext cx="7632720" cy="36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576360" y="684360"/>
            <a:ext cx="8640720" cy="63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  <a:ea typeface="MS Gothic"/>
              </a:rPr>
              <a:t>Реализация этих разделов помогает нам </a:t>
            </a:r>
            <a:endParaRPr b="0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  <a:ea typeface="MS Gothic"/>
              </a:rPr>
              <a:t>в развитии воображения, креативности мышления,</a:t>
            </a:r>
            <a:endParaRPr b="0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  <a:ea typeface="MS Gothic"/>
              </a:rPr>
              <a:t>Формирование символической функции сознания;</a:t>
            </a:r>
            <a:endParaRPr b="0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  <a:ea typeface="MS Gothic"/>
              </a:rPr>
              <a:t>Гармоничное ,сбалансированное развитие у детей эмоционально-образного и логического начал;</a:t>
            </a:r>
            <a:endParaRPr b="0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  <a:ea typeface="MS Gothic"/>
              </a:rPr>
              <a:t>Развития интереса к играм, требующим умственного напряжения, интеллектуального усилия;</a:t>
            </a:r>
            <a:endParaRPr b="0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  <a:ea typeface="MS Gothic"/>
              </a:rPr>
              <a:t>Способствовать стремлению к достижению положительного результата, настойчивости и находчивости.</a:t>
            </a:r>
            <a:endParaRPr b="0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  <a:ea typeface="MS Gothic"/>
              </a:rPr>
              <a:t>Формирование базисных математических представлений.</a:t>
            </a:r>
            <a:endParaRPr b="0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bat-Bold"/>
                <a:ea typeface="MS Gothic"/>
              </a:rPr>
              <a:t>Эффективность реализации математических задач</a:t>
            </a:r>
            <a:endParaRPr b="0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bat-Bold"/>
                <a:ea typeface="MS Gothic"/>
              </a:rPr>
              <a:t>Во многом зависит от содержания развивающей среды:</a:t>
            </a:r>
            <a:endParaRPr b="0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bat-Bold"/>
                <a:ea typeface="MS Gothic"/>
              </a:rPr>
              <a:t>Развивающая среда призвана содействовать решению как специфических задач целенаправленного развития математических представлений детей, так и решению их всестороннего формирования личности и подготовки  к 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bat-Bold"/>
                <a:ea typeface="MS Gothic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i="1" lang="en-US" sz="1800" spc="-1" strike="noStrike">
              <a:solidFill>
                <a:srgbClr val="000000"/>
              </a:solidFill>
              <a:latin typeface="Arbat-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-16920"/>
            <a:ext cx="90694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0" y="539280"/>
            <a:ext cx="4890960" cy="621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335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ющая среда включ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стольно-печатны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ы для развития логического мышл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ловолом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огически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бики, лабири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ы на составление целого из ча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ы на передвижени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IMG_1311"/>
          <p:cNvPicPr/>
          <p:nvPr/>
        </p:nvPicPr>
        <p:blipFill>
          <a:blip r:embed="rId1"/>
          <a:stretch/>
        </p:blipFill>
        <p:spPr>
          <a:xfrm>
            <a:off x="503280" y="539640"/>
            <a:ext cx="41050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co"/>
          <p:cNvPicPr/>
          <p:nvPr/>
        </p:nvPicPr>
        <p:blipFill>
          <a:blip r:embed="rId1"/>
          <a:stretch/>
        </p:blipFill>
        <p:spPr>
          <a:xfrm>
            <a:off x="4824360" y="1258920"/>
            <a:ext cx="4687920" cy="568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bat-Bold"/>
              </a:rPr>
              <a:t>Цель развивающих игр имеет два асп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554508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</a:rPr>
              <a:t>Познава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</a:rPr>
              <a:t>(обучение способам действия с предмета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</a:rPr>
              <a:t>Воспитательный (обучение способам сотрудничества, формам общения и отношения с другими людь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bat-Bold"/>
              </a:rPr>
              <a:t>Основные принципы развивающих иг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</a:rPr>
              <a:t>Совмещение элементов игры и учения, переход от игр-забав через игры-задачи к учебно-познав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</a:rPr>
              <a:t>Постепенное усложнение обучающих задач и условий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</a:rPr>
              <a:t>Повышение умственной активности ребенка, формирование вербального и невербального общения в игров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</a:rPr>
              <a:t>Единство обучающих и воспитательных воз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Формы и методы представления развивающе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местная игра воспитателя с ребен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остоятельная деятельность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тематические праздники иразвле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н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гадывание загадок, занимательных вопросов, шуточных задачек, головолом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ение математических сказ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7:38:58Z</dcterms:created>
  <dc:creator>Alex77</dc:creator>
  <dc:description/>
  <dc:language>en-US</dc:language>
  <cp:lastModifiedBy>Acer</cp:lastModifiedBy>
  <dcterms:modified xsi:type="dcterms:W3CDTF">2013-04-13T12:14:44Z</dcterms:modified>
  <cp:revision>12</cp:revision>
  <dc:subject/>
  <dc:title>Из опыта работы по ФЭМП.                          (подготовительная группа)  .</dc:title>
</cp:coreProperties>
</file>