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942480" y="755640"/>
            <a:ext cx="497052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4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1520" y="0"/>
            <a:ext cx="297504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733B258F-551C-4075-BC70-838B576B424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B691FD4E-2FD0-4E2B-BF4B-34ECBC3D971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C4F68F3-EEFE-45A4-8AB8-D5C9F12934D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65A5A5CD-050A-4310-BFA8-24EC8A008DB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8D2E98AA-DBFE-445D-BD67-02E62D53299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3881520" y="9448920"/>
            <a:ext cx="2975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6720"/>
                <a:tab algn="l" pos="1333440"/>
                <a:tab algn="l" pos="1998720"/>
                <a:tab algn="l" pos="266544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  <a:tab algn="l" pos="9115560"/>
                <a:tab algn="l" pos="9529920"/>
                <a:tab algn="l" pos="9944280"/>
                <a:tab algn="l" pos="10358280"/>
                <a:tab algn="l" pos="10772640"/>
              </a:tabLst>
            </a:pPr>
            <a:fld id="{01DAD8DA-D647-4C65-851C-CFD3B9DEEA4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3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2F6-0F81-4E72-AABA-A05D3BBD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D5C-0826-4D6C-BF9C-9A3F7B53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801-4FE3-4914-A1B2-9FE622F6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97F-41DE-4603-AB77-486F5BD3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30D-F0B1-4D4B-B2F0-9DAB9C88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191-D7D6-466A-AD39-2134EAB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FEA-BCA2-49A7-99D4-344D68C8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46A-648E-41A0-A860-15B9513B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0F4-C7B5-44E4-8634-F3A7485D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88E-8EC7-4E22-AB07-B6D9C7B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E5D-C330-4630-9AB7-3F78EEB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C7E-54D3-49F6-BF5D-DFD1540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9EAB-FEB6-49AC-94DF-DF7A71DCA3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66560"/>
            <a:ext cx="9145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bcdaire Enfantin"/>
              </a:rPr>
              <a:t>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3600" spc="-1" strike="noStrike">
                <a:solidFill>
                  <a:srgbClr val="ff00ff"/>
                </a:solidFill>
                <a:latin typeface="Arbat-Bold"/>
              </a:rPr>
              <a:t>Из опыта работы по ФЭМП</a:t>
            </a:r>
            <a:br>
              <a:rPr sz="3600"/>
            </a:br>
            <a:r>
              <a:rPr b="0" lang="ru-RU" sz="3600" spc="-1" strike="noStrike">
                <a:solidFill>
                  <a:srgbClr val="ff00ff"/>
                </a:solidFill>
                <a:latin typeface="Arbat-Bold"/>
              </a:rPr>
              <a:t> у дошкольников 6-7 лет.</a:t>
            </a:r>
            <a:br>
              <a:rPr sz="3600"/>
            </a:b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Abcdaire Enfanti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Abcdaire Enfantin"/>
              </a:rPr>
              <a:t>                               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7280" y="3995640"/>
            <a:ext cx="929016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Autofit/>
          </a:bodyPr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Воспитатель 1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Л.В, Юшинё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МБДОУ детский сад №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bat-Bold"/>
              </a:rPr>
              <a:t>Города Новотроиц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2920" y="539280"/>
            <a:ext cx="9069480" cy="621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« математика… выполняет поряд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Симметрию и  определ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А это важнейшие виды прекрасн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Программа современного образования обязывает реализовывать развивающую функцию обучения. Математика как объект исследования обладает большими возможностями для решения задач, связанных с развитием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bat-Bold"/>
              </a:rPr>
              <a:t>Создание  условий, отбор определенных методик и технологий развивающего обучения, получение информации о ребенке- всё это способствует развитию свободной творческой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1235520"/>
            <a:ext cx="906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611280"/>
            <a:ext cx="9069480" cy="357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о ФЭМП  включает в себя несколько разде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 и фор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ка в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 с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"/>
          <p:cNvPicPr/>
          <p:nvPr/>
        </p:nvPicPr>
        <p:blipFill>
          <a:blip r:embed="rId1"/>
          <a:stretch/>
        </p:blipFill>
        <p:spPr>
          <a:xfrm>
            <a:off x="1511280" y="3635280"/>
            <a:ext cx="763272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76360" y="684360"/>
            <a:ext cx="8640720" cy="63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Реализация этих разделов помогает нам 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в развитии воображения, креативности мышления,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Формирование символической функции сознания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Гармоничное ,сбалансированное развитие у детей эмоционально-образного и логического начал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Развития интереса к играм, требующим умственного напряжения, интеллектуального усилия;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Способствовать стремлению к достижению положительного результата, настойчивости и находчивости.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Формирование базисных математических представлений.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Эффективность реализации математических задач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bat-Bold"/>
                <a:ea typeface="MS Gothic"/>
              </a:rPr>
              <a:t>Во многом зависит от содержания развивающей среды:</a:t>
            </a: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20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bat-Bold"/>
                <a:ea typeface="MS Gothic"/>
              </a:rPr>
              <a:t>Развивающая среда призвана содействовать решению как специфических задач целенаправленного развития математических представлений детей, так и решению их всестороннего формирования личности и подготовки  к учеб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bat-Bold"/>
                <a:ea typeface="MS Gothic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  <a:p>
            <a:pPr lvl="1" marL="800280" indent="-343080" algn="ctr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i="1" lang="en-US" sz="1800" spc="-1" strike="noStrike">
              <a:solidFill>
                <a:srgbClr val="000000"/>
              </a:solidFill>
              <a:latin typeface="Arba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-16920"/>
            <a:ext cx="906948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0" y="539280"/>
            <a:ext cx="4890960" cy="621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335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вающая среда вклю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стольно-печатны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для развития логического мыш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ловолом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ческ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бики, лабири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составление целого из ч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ы на передвиж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IMG_1311"/>
          <p:cNvPicPr/>
          <p:nvPr/>
        </p:nvPicPr>
        <p:blipFill>
          <a:blip r:embed="rId1"/>
          <a:stretch/>
        </p:blipFill>
        <p:spPr>
          <a:xfrm>
            <a:off x="503280" y="539640"/>
            <a:ext cx="4105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o"/>
          <p:cNvPicPr/>
          <p:nvPr/>
        </p:nvPicPr>
        <p:blipFill>
          <a:blip r:embed="rId1"/>
          <a:stretch/>
        </p:blipFill>
        <p:spPr>
          <a:xfrm>
            <a:off x="4824360" y="1258920"/>
            <a:ext cx="4687920" cy="568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bat-Bold"/>
              </a:rPr>
              <a:t>Цель развивающих игр имеет два асп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5545080" cy="474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знава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(обучение способам действия с предмета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Воспитательный (обучение способам сотрудничества, формам общения и отношения с другими людь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bat-Bold"/>
              </a:rPr>
              <a:t>Основные принципы развивающих иг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Совмещение элементов игры и учения, переход от игр-забав через игры-задачи к учебно-позна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степенное усложнение обучающих задач и услови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Повышение умственной активности ребенка, формирование вербального и невербального общения в игр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bat-Bold"/>
              </a:rPr>
              <a:t>Единство обучающих и воспитательных воз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Формы и методы представления развивающе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местная игра воспитателя с ребен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ая деятельность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ческие праздники иразвл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гадывание загадок, занимательных вопросов, шуточных задачек, головолом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ение математических сказ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7:38:58Z</dcterms:created>
  <dc:creator>Alex77</dc:creator>
  <dc:description/>
  <dc:language>en-US</dc:language>
  <cp:lastModifiedBy>Acer</cp:lastModifiedBy>
  <dcterms:modified xsi:type="dcterms:W3CDTF">2013-04-13T12:14:44Z</dcterms:modified>
  <cp:revision>12</cp:revision>
  <dc:subject/>
  <dc:title>Из опыта работы по ФЭМП.                          (подготовительная группа)  .</dc:title>
</cp:coreProperties>
</file>