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6.png" ContentType="image/png"/>
  <Override PartName="/ppt/media/image36.gif" ContentType="image/gif"/>
  <Override PartName="/ppt/media/image29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0.jpeg" ContentType="image/jpeg"/>
  <Override PartName="/ppt/media/image38.gif" ContentType="image/gif"/>
  <Override PartName="/ppt/media/image37.jpeg" ContentType="image/jpeg"/>
  <Override PartName="/ppt/media/image30.png" ContentType="image/png"/>
  <Override PartName="/ppt/media/image28.png" ContentType="image/png"/>
  <Override PartName="/ppt/media/image39.gif" ContentType="image/gif"/>
  <Override PartName="/ppt/media/image10.png" ContentType="image/png"/>
  <Override PartName="/ppt/media/image5.png" ContentType="image/png"/>
  <Override PartName="/ppt/media/image42.gif" ContentType="image/gif"/>
  <Override PartName="/ppt/media/image35.png" ContentType="image/png"/>
  <Override PartName="/ppt/media/image41.gif" ContentType="image/gif"/>
  <Override PartName="/ppt/media/image4.png" ContentType="image/png"/>
  <Override PartName="/ppt/media/image27.png" ContentType="image/png"/>
  <Override PartName="/ppt/media/image34.gif" ContentType="image/gif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9B4-31F8-4E6D-BFE9-89D89D3D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E7C-DD24-4F1C-9922-60E60947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718-02F3-4444-8E25-6754A659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577B-9A81-4A8F-A34C-E1C3F0CF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187C-B586-4C97-A310-E23D286B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4ACF-A12E-44CF-877C-C5BDD3A9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3818-C4BF-4264-AFDC-9485A20E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873B-82B8-488C-9E71-AB85473C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1FA8-1525-4FED-A777-08F0FBFE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8B53-8C52-4FB0-85F4-F169BAD5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F13E-0B76-4D85-9BE9-76B9019B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0B2-2CF2-4776-8530-75C4969A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47E0-280C-47C0-9157-B6A533E3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1587-A2B8-4E9A-87EF-A2F979E0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6C54-2FED-4BE3-8785-9EF96FD1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4754-9CBA-4722-A39D-03A5229B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9C62-C2DB-4F75-B163-FB6FE5FF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B92-9C8A-4F0D-92E8-771EB728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646-AB27-4B32-A443-0C3BFCAA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FD3-8B81-4F9B-AE31-FD71AE19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B2B-E75D-4630-8D58-6257C9B2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F28-63FC-4904-8759-17EF14E0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742-0418-4F72-90AB-ADB8E76C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BFB-00DD-478C-81D6-27713A2B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.xml"/><Relationship Id="rId30" Type="http://schemas.openxmlformats.org/officeDocument/2006/relationships/slideLayout" Target="../slideLayouts/slideLayout2.xml"/><Relationship Id="rId31" Type="http://schemas.openxmlformats.org/officeDocument/2006/relationships/slideLayout" Target="../slideLayouts/slideLayout3.xml"/><Relationship Id="rId32" Type="http://schemas.openxmlformats.org/officeDocument/2006/relationships/slideLayout" Target="../slideLayouts/slideLayout4.xml"/><Relationship Id="rId33" Type="http://schemas.openxmlformats.org/officeDocument/2006/relationships/slideLayout" Target="../slideLayouts/slideLayout5.xml"/><Relationship Id="rId34" Type="http://schemas.openxmlformats.org/officeDocument/2006/relationships/slideLayout" Target="../slideLayouts/slideLayout6.xml"/><Relationship Id="rId35" Type="http://schemas.openxmlformats.org/officeDocument/2006/relationships/slideLayout" Target="../slideLayouts/slideLayout7.xml"/><Relationship Id="rId36" Type="http://schemas.openxmlformats.org/officeDocument/2006/relationships/slideLayout" Target="../slideLayouts/slideLayout8.xml"/><Relationship Id="rId37" Type="http://schemas.openxmlformats.org/officeDocument/2006/relationships/slideLayout" Target="../slideLayouts/slideLayout9.xml"/><Relationship Id="rId38" Type="http://schemas.openxmlformats.org/officeDocument/2006/relationships/slideLayout" Target="../slideLayouts/slideLayout10.xml"/><Relationship Id="rId39" Type="http://schemas.openxmlformats.org/officeDocument/2006/relationships/slideLayout" Target="../slideLayouts/slideLayout11.xml"/><Relationship Id="rId4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2.png"/><Relationship Id="rId35" Type="http://schemas.openxmlformats.org/officeDocument/2006/relationships/image" Target="../media/image33.png"/><Relationship Id="rId36" Type="http://schemas.openxmlformats.org/officeDocument/2006/relationships/image" Target="../media/image33.png"/><Relationship Id="rId37" Type="http://schemas.openxmlformats.org/officeDocument/2006/relationships/slideLayout" Target="../slideLayouts/slideLayout13.xml"/><Relationship Id="rId38" Type="http://schemas.openxmlformats.org/officeDocument/2006/relationships/slideLayout" Target="../slideLayouts/slideLayout14.xml"/><Relationship Id="rId39" Type="http://schemas.openxmlformats.org/officeDocument/2006/relationships/slideLayout" Target="../slideLayouts/slideLayout15.xml"/><Relationship Id="rId40" Type="http://schemas.openxmlformats.org/officeDocument/2006/relationships/slideLayout" Target="../slideLayouts/slideLayout16.xml"/><Relationship Id="rId41" Type="http://schemas.openxmlformats.org/officeDocument/2006/relationships/slideLayout" Target="../slideLayouts/slideLayout17.xml"/><Relationship Id="rId42" Type="http://schemas.openxmlformats.org/officeDocument/2006/relationships/slideLayout" Target="../slideLayouts/slideLayout18.xml"/><Relationship Id="rId43" Type="http://schemas.openxmlformats.org/officeDocument/2006/relationships/slideLayout" Target="../slideLayouts/slideLayout19.xml"/><Relationship Id="rId44" Type="http://schemas.openxmlformats.org/officeDocument/2006/relationships/slideLayout" Target="../slideLayouts/slideLayout20.xml"/><Relationship Id="rId45" Type="http://schemas.openxmlformats.org/officeDocument/2006/relationships/slideLayout" Target="../slideLayouts/slideLayout21.xml"/><Relationship Id="rId46" Type="http://schemas.openxmlformats.org/officeDocument/2006/relationships/slideLayout" Target="../slideLayouts/slideLayout22.xml"/><Relationship Id="rId47" Type="http://schemas.openxmlformats.org/officeDocument/2006/relationships/slideLayout" Target="../slideLayouts/slideLayout23.xml"/><Relationship Id="rId4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9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8BBE-426A-4778-AD85-8733456DC497}" type="slidenum">
              <a:rPr b="0" lang="en-US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60"/>
          <p:cNvGrpSpPr/>
          <p:nvPr/>
        </p:nvGrpSpPr>
        <p:grpSpPr>
          <a:xfrm>
            <a:off x="-151200" y="0"/>
            <a:ext cx="9521640" cy="6858000"/>
            <a:chOff x="-151200" y="0"/>
            <a:chExt cx="9521640" cy="6858000"/>
          </a:xfrm>
        </p:grpSpPr>
        <p:grpSp>
          <p:nvGrpSpPr>
            <p:cNvPr id="6" name="Group 182"/>
            <p:cNvGrpSpPr/>
            <p:nvPr/>
          </p:nvGrpSpPr>
          <p:grpSpPr>
            <a:xfrm>
              <a:off x="-151200" y="304560"/>
              <a:ext cx="9209520" cy="6438600"/>
              <a:chOff x="-151200" y="304560"/>
              <a:chExt cx="9209520" cy="6438600"/>
            </a:xfrm>
          </p:grpSpPr>
          <p:grpSp>
            <p:nvGrpSpPr>
              <p:cNvPr id="7" name="Freeform 12"/>
              <p:cNvGrpSpPr/>
              <p:nvPr/>
            </p:nvGrpSpPr>
            <p:grpSpPr>
              <a:xfrm>
                <a:off x="-151200" y="3517560"/>
                <a:ext cx="1464120" cy="1462320"/>
                <a:chOff x="-151200" y="3517560"/>
                <a:chExt cx="1464120" cy="1462320"/>
              </a:xfrm>
            </p:grpSpPr>
            <p:pic>
              <p:nvPicPr>
                <p:cNvPr id="8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55800"/>
                  <a:ext cx="1258560" cy="121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"/>
                <p:cNvSpPr/>
                <p:nvPr/>
              </p:nvSpPr>
              <p:spPr>
                <a:xfrm rot="8050800">
                  <a:off x="86040" y="3708360"/>
                  <a:ext cx="989280" cy="108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0" name="Freeform 28"/>
              <p:cNvGrpSpPr/>
              <p:nvPr/>
            </p:nvGrpSpPr>
            <p:grpSpPr>
              <a:xfrm>
                <a:off x="317160" y="304560"/>
                <a:ext cx="1462320" cy="1362240"/>
                <a:chOff x="317160" y="304560"/>
                <a:chExt cx="1462320" cy="1362240"/>
              </a:xfrm>
            </p:grpSpPr>
            <p:pic>
              <p:nvPicPr>
                <p:cNvPr id="11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66560" y="437040"/>
                  <a:ext cx="1191960" cy="10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" name=""/>
                <p:cNvSpPr/>
                <p:nvPr/>
              </p:nvSpPr>
              <p:spPr>
                <a:xfrm rot="7569000">
                  <a:off x="657720" y="365400"/>
                  <a:ext cx="780840" cy="12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" name="Freeform 36"/>
              <p:cNvGrpSpPr/>
              <p:nvPr/>
            </p:nvGrpSpPr>
            <p:grpSpPr>
              <a:xfrm>
                <a:off x="7568640" y="611640"/>
                <a:ext cx="1297800" cy="1265760"/>
                <a:chOff x="7568640" y="611640"/>
                <a:chExt cx="1297800" cy="1265760"/>
              </a:xfrm>
            </p:grpSpPr>
            <p:pic>
              <p:nvPicPr>
                <p:cNvPr id="14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78720" y="677160"/>
                  <a:ext cx="1228680" cy="114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" name=""/>
                <p:cNvSpPr/>
                <p:nvPr/>
              </p:nvSpPr>
              <p:spPr>
                <a:xfrm rot="11849400">
                  <a:off x="7694280" y="745920"/>
                  <a:ext cx="1046520" cy="99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" name="Freeform 32"/>
              <p:cNvGrpSpPr/>
              <p:nvPr/>
            </p:nvGrpSpPr>
            <p:grpSpPr>
              <a:xfrm>
                <a:off x="6793560" y="1863000"/>
                <a:ext cx="1462320" cy="833400"/>
                <a:chOff x="6793560" y="1863000"/>
                <a:chExt cx="1462320" cy="833400"/>
              </a:xfrm>
            </p:grpSpPr>
            <p:pic>
              <p:nvPicPr>
                <p:cNvPr id="17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93560" y="1877760"/>
                  <a:ext cx="1462320" cy="77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" name=""/>
                <p:cNvSpPr/>
                <p:nvPr/>
              </p:nvSpPr>
              <p:spPr>
                <a:xfrm rot="6220200">
                  <a:off x="7256160" y="1616040"/>
                  <a:ext cx="534960" cy="13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" name="Freeform 16"/>
              <p:cNvGrpSpPr/>
              <p:nvPr/>
            </p:nvGrpSpPr>
            <p:grpSpPr>
              <a:xfrm>
                <a:off x="7582320" y="4819320"/>
                <a:ext cx="1476000" cy="1174680"/>
                <a:chOff x="7582320" y="4819320"/>
                <a:chExt cx="1476000" cy="1174680"/>
              </a:xfrm>
            </p:grpSpPr>
            <p:pic>
              <p:nvPicPr>
                <p:cNvPr id="20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20480" y="4924800"/>
                  <a:ext cx="1420560" cy="100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" name=""/>
                <p:cNvSpPr/>
                <p:nvPr/>
              </p:nvSpPr>
              <p:spPr>
                <a:xfrm rot="6532800">
                  <a:off x="7919280" y="4763880"/>
                  <a:ext cx="801720" cy="12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" name="Freeform 20"/>
              <p:cNvGrpSpPr/>
              <p:nvPr/>
            </p:nvGrpSpPr>
            <p:grpSpPr>
              <a:xfrm>
                <a:off x="6971400" y="5281560"/>
                <a:ext cx="1603800" cy="1461600"/>
                <a:chOff x="6971400" y="5281560"/>
                <a:chExt cx="1603800" cy="1461600"/>
              </a:xfrm>
            </p:grpSpPr>
            <p:pic>
              <p:nvPicPr>
                <p:cNvPr id="23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083000" y="5445360"/>
                  <a:ext cx="1392120" cy="116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" name=""/>
                <p:cNvSpPr/>
                <p:nvPr/>
              </p:nvSpPr>
              <p:spPr>
                <a:xfrm rot="7603800">
                  <a:off x="7399800" y="5290200"/>
                  <a:ext cx="746280" cy="144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5" name="Group 189"/>
            <p:cNvGrpSpPr/>
            <p:nvPr/>
          </p:nvGrpSpPr>
          <p:grpSpPr>
            <a:xfrm>
              <a:off x="0" y="93960"/>
              <a:ext cx="9144000" cy="6764040"/>
              <a:chOff x="0" y="93960"/>
              <a:chExt cx="9144000" cy="6764040"/>
            </a:xfrm>
          </p:grpSpPr>
          <p:grpSp>
            <p:nvGrpSpPr>
              <p:cNvPr id="26" name="Freeform 12"/>
              <p:cNvGrpSpPr/>
              <p:nvPr/>
            </p:nvGrpSpPr>
            <p:grpSpPr>
              <a:xfrm>
                <a:off x="7506360" y="3521520"/>
                <a:ext cx="1262880" cy="1282320"/>
                <a:chOff x="7506360" y="3521520"/>
                <a:chExt cx="1262880" cy="1282320"/>
              </a:xfrm>
            </p:grpSpPr>
            <p:pic>
              <p:nvPicPr>
                <p:cNvPr id="27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94200" y="3665880"/>
                  <a:ext cx="1099440" cy="101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" name=""/>
                <p:cNvSpPr/>
                <p:nvPr/>
              </p:nvSpPr>
              <p:spPr>
                <a:xfrm rot="19953600">
                  <a:off x="7677000" y="3679200"/>
                  <a:ext cx="920880" cy="96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" name="Freeform 20"/>
              <p:cNvGrpSpPr/>
              <p:nvPr/>
            </p:nvGrpSpPr>
            <p:grpSpPr>
              <a:xfrm>
                <a:off x="6600960" y="5100120"/>
                <a:ext cx="1202040" cy="1341000"/>
                <a:chOff x="6600960" y="5100120"/>
                <a:chExt cx="1202040" cy="1341000"/>
              </a:xfrm>
            </p:grpSpPr>
            <p:pic>
              <p:nvPicPr>
                <p:cNvPr id="30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10760" y="5221080"/>
                  <a:ext cx="937080" cy="111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" name=""/>
                <p:cNvSpPr/>
                <p:nvPr/>
              </p:nvSpPr>
              <p:spPr>
                <a:xfrm rot="12860400">
                  <a:off x="6877080" y="5180040"/>
                  <a:ext cx="649080" cy="118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" name="Freeform 12"/>
              <p:cNvGrpSpPr/>
              <p:nvPr/>
            </p:nvGrpSpPr>
            <p:grpSpPr>
              <a:xfrm>
                <a:off x="7062480" y="2269800"/>
                <a:ext cx="1124640" cy="1133640"/>
                <a:chOff x="7062480" y="2269800"/>
                <a:chExt cx="1124640" cy="1133640"/>
              </a:xfrm>
            </p:grpSpPr>
            <p:pic>
              <p:nvPicPr>
                <p:cNvPr id="33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31600" y="2387880"/>
                  <a:ext cx="979200" cy="85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" name=""/>
                <p:cNvSpPr/>
                <p:nvPr/>
              </p:nvSpPr>
              <p:spPr>
                <a:xfrm rot="1885800">
                  <a:off x="7220880" y="2418840"/>
                  <a:ext cx="807480" cy="83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" name="Freeform 16"/>
              <p:cNvGrpSpPr/>
              <p:nvPr/>
            </p:nvGrpSpPr>
            <p:grpSpPr>
              <a:xfrm>
                <a:off x="7874640" y="93960"/>
                <a:ext cx="1073520" cy="1146960"/>
                <a:chOff x="7874640" y="93960"/>
                <a:chExt cx="1073520" cy="1146960"/>
              </a:xfrm>
            </p:grpSpPr>
            <p:pic>
              <p:nvPicPr>
                <p:cNvPr id="36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32680" y="212400"/>
                  <a:ext cx="756720" cy="946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" name=""/>
                <p:cNvSpPr/>
                <p:nvPr/>
              </p:nvSpPr>
              <p:spPr>
                <a:xfrm rot="19458000">
                  <a:off x="8093880" y="189000"/>
                  <a:ext cx="635040" cy="95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8" name="Freeform 32"/>
              <p:cNvGrpSpPr/>
              <p:nvPr/>
            </p:nvGrpSpPr>
            <p:grpSpPr>
              <a:xfrm>
                <a:off x="6855120" y="1019160"/>
                <a:ext cx="966960" cy="490320"/>
                <a:chOff x="6855120" y="1019160"/>
                <a:chExt cx="966960" cy="490320"/>
              </a:xfrm>
            </p:grpSpPr>
            <p:pic>
              <p:nvPicPr>
                <p:cNvPr id="39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55120" y="1019160"/>
                  <a:ext cx="966960" cy="49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" name=""/>
                <p:cNvSpPr/>
                <p:nvPr/>
              </p:nvSpPr>
              <p:spPr>
                <a:xfrm rot="16200000">
                  <a:off x="7161840" y="844560"/>
                  <a:ext cx="356760" cy="83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" name="Freeform 28"/>
              <p:cNvGrpSpPr/>
              <p:nvPr/>
            </p:nvGrpSpPr>
            <p:grpSpPr>
              <a:xfrm>
                <a:off x="595080" y="98640"/>
                <a:ext cx="1225440" cy="1314000"/>
                <a:chOff x="595080" y="98640"/>
                <a:chExt cx="1225440" cy="1314000"/>
              </a:xfrm>
            </p:grpSpPr>
            <p:pic>
              <p:nvPicPr>
                <p:cNvPr id="42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38720" y="247320"/>
                  <a:ext cx="912960" cy="99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" name=""/>
                <p:cNvSpPr/>
                <p:nvPr/>
              </p:nvSpPr>
              <p:spPr>
                <a:xfrm rot="2065200">
                  <a:off x="836280" y="213480"/>
                  <a:ext cx="742680" cy="10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4" name="Freeform 39"/>
              <p:cNvGrpSpPr/>
              <p:nvPr/>
            </p:nvGrpSpPr>
            <p:grpSpPr>
              <a:xfrm>
                <a:off x="8699400" y="1170360"/>
                <a:ext cx="444600" cy="908280"/>
                <a:chOff x="8699400" y="1170360"/>
                <a:chExt cx="444600" cy="908280"/>
              </a:xfrm>
            </p:grpSpPr>
            <p:pic>
              <p:nvPicPr>
                <p:cNvPr id="45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699400" y="1170360"/>
                  <a:ext cx="444600" cy="90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"/>
                <p:cNvSpPr/>
                <p:nvPr/>
              </p:nvSpPr>
              <p:spPr>
                <a:xfrm>
                  <a:off x="8767080" y="1239120"/>
                  <a:ext cx="310680" cy="77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" name="Freeform 88"/>
              <p:cNvGrpSpPr/>
              <p:nvPr/>
            </p:nvGrpSpPr>
            <p:grpSpPr>
              <a:xfrm>
                <a:off x="11880" y="4992480"/>
                <a:ext cx="811080" cy="1035720"/>
                <a:chOff x="11880" y="4992480"/>
                <a:chExt cx="811080" cy="1035720"/>
              </a:xfrm>
            </p:grpSpPr>
            <p:pic>
              <p:nvPicPr>
                <p:cNvPr id="48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4992480"/>
                  <a:ext cx="811080" cy="1035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76320" y="5061600"/>
                  <a:ext cx="682920" cy="89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" name="Freeform 47"/>
              <p:cNvGrpSpPr/>
              <p:nvPr/>
            </p:nvGrpSpPr>
            <p:grpSpPr>
              <a:xfrm>
                <a:off x="0" y="2333520"/>
                <a:ext cx="576720" cy="981000"/>
                <a:chOff x="0" y="2333520"/>
                <a:chExt cx="576720" cy="981000"/>
              </a:xfrm>
            </p:grpSpPr>
            <p:pic>
              <p:nvPicPr>
                <p:cNvPr id="51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33520"/>
                  <a:ext cx="576720" cy="98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" name=""/>
                <p:cNvSpPr/>
                <p:nvPr/>
              </p:nvSpPr>
              <p:spPr>
                <a:xfrm>
                  <a:off x="65880" y="2400120"/>
                  <a:ext cx="447120" cy="84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3" name="Freeform 23"/>
              <p:cNvGrpSpPr/>
              <p:nvPr/>
            </p:nvGrpSpPr>
            <p:grpSpPr>
              <a:xfrm>
                <a:off x="8429040" y="6052680"/>
                <a:ext cx="714960" cy="805320"/>
                <a:chOff x="8429040" y="6052680"/>
                <a:chExt cx="714960" cy="805320"/>
              </a:xfrm>
            </p:grpSpPr>
            <p:pic>
              <p:nvPicPr>
                <p:cNvPr id="54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29040" y="6052680"/>
                  <a:ext cx="714960" cy="80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>
                  <a:off x="8493480" y="6118560"/>
                  <a:ext cx="58428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6" name="Group 200"/>
            <p:cNvGrpSpPr/>
            <p:nvPr/>
          </p:nvGrpSpPr>
          <p:grpSpPr>
            <a:xfrm>
              <a:off x="-16920" y="0"/>
              <a:ext cx="9387360" cy="6858000"/>
              <a:chOff x="-16920" y="0"/>
              <a:chExt cx="9387360" cy="6858000"/>
            </a:xfrm>
          </p:grpSpPr>
          <p:grpSp>
            <p:nvGrpSpPr>
              <p:cNvPr id="57" name="Freeform 16"/>
              <p:cNvGrpSpPr/>
              <p:nvPr/>
            </p:nvGrpSpPr>
            <p:grpSpPr>
              <a:xfrm>
                <a:off x="7378920" y="1325160"/>
                <a:ext cx="1991520" cy="2230200"/>
                <a:chOff x="7378920" y="1325160"/>
                <a:chExt cx="1991520" cy="2230200"/>
              </a:xfrm>
            </p:grpSpPr>
            <p:pic>
              <p:nvPicPr>
                <p:cNvPr id="58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18760" y="1524240"/>
                  <a:ext cx="1341360" cy="1773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9111600">
                  <a:off x="7740000" y="1514520"/>
                  <a:ext cx="1268640" cy="18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" name="Freeform 24"/>
              <p:cNvGrpSpPr/>
              <p:nvPr/>
            </p:nvGrpSpPr>
            <p:grpSpPr>
              <a:xfrm>
                <a:off x="7797240" y="5443920"/>
                <a:ext cx="1239480" cy="794160"/>
                <a:chOff x="7797240" y="5443920"/>
                <a:chExt cx="1239480" cy="794160"/>
              </a:xfrm>
            </p:grpSpPr>
            <p:pic>
              <p:nvPicPr>
                <p:cNvPr id="61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797240" y="5528520"/>
                  <a:ext cx="1197000" cy="604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4324800">
                  <a:off x="8190000" y="5271120"/>
                  <a:ext cx="466200" cy="11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3" name="Freeform 28"/>
              <p:cNvGrpSpPr/>
              <p:nvPr/>
            </p:nvGrpSpPr>
            <p:grpSpPr>
              <a:xfrm>
                <a:off x="6846120" y="3908160"/>
                <a:ext cx="1532520" cy="1676520"/>
                <a:chOff x="6846120" y="3908160"/>
                <a:chExt cx="1532520" cy="1676520"/>
              </a:xfrm>
            </p:grpSpPr>
            <p:pic>
              <p:nvPicPr>
                <p:cNvPr id="64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81200" y="4105080"/>
                  <a:ext cx="1052640" cy="133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9659000">
                  <a:off x="7147080" y="4048560"/>
                  <a:ext cx="93024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32"/>
              <p:cNvGrpSpPr/>
              <p:nvPr/>
            </p:nvGrpSpPr>
            <p:grpSpPr>
              <a:xfrm>
                <a:off x="7590600" y="393120"/>
                <a:ext cx="873720" cy="1286280"/>
                <a:chOff x="7590600" y="393120"/>
                <a:chExt cx="873720" cy="1286280"/>
              </a:xfrm>
            </p:grpSpPr>
            <p:pic>
              <p:nvPicPr>
                <p:cNvPr id="67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34520" y="445320"/>
                  <a:ext cx="751680" cy="11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177800">
                  <a:off x="7774920" y="443160"/>
                  <a:ext cx="504360" cy="118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9" name="Freeform 12"/>
              <p:cNvGrpSpPr/>
              <p:nvPr/>
            </p:nvGrpSpPr>
            <p:grpSpPr>
              <a:xfrm>
                <a:off x="7851960" y="3295800"/>
                <a:ext cx="1318680" cy="1306080"/>
                <a:chOff x="7851960" y="3295800"/>
                <a:chExt cx="1318680" cy="1306080"/>
              </a:xfrm>
            </p:grpSpPr>
            <p:pic>
              <p:nvPicPr>
                <p:cNvPr id="70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31960" y="3378240"/>
                  <a:ext cx="980280" cy="11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7111200">
                  <a:off x="8034840" y="3456720"/>
                  <a:ext cx="952200" cy="9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2" name="Freeform 15"/>
              <p:cNvGrpSpPr/>
              <p:nvPr/>
            </p:nvGrpSpPr>
            <p:grpSpPr>
              <a:xfrm>
                <a:off x="12960" y="6007680"/>
                <a:ext cx="583200" cy="850320"/>
                <a:chOff x="12960" y="6007680"/>
                <a:chExt cx="583200" cy="850320"/>
              </a:xfrm>
            </p:grpSpPr>
            <p:pic>
              <p:nvPicPr>
                <p:cNvPr id="73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07680"/>
                  <a:ext cx="583200" cy="85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68400" y="6064200"/>
                  <a:ext cx="47592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5" name="Freeform 27"/>
              <p:cNvGrpSpPr/>
              <p:nvPr/>
            </p:nvGrpSpPr>
            <p:grpSpPr>
              <a:xfrm>
                <a:off x="-4680" y="3318120"/>
                <a:ext cx="986400" cy="1173960"/>
                <a:chOff x="-4680" y="3318120"/>
                <a:chExt cx="986400" cy="1173960"/>
              </a:xfrm>
            </p:grpSpPr>
            <p:pic>
              <p:nvPicPr>
                <p:cNvPr id="76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18120"/>
                  <a:ext cx="986400" cy="117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>
                  <a:off x="38160" y="3358080"/>
                  <a:ext cx="900720" cy="109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" name="Freeform 51"/>
              <p:cNvGrpSpPr/>
              <p:nvPr/>
            </p:nvGrpSpPr>
            <p:grpSpPr>
              <a:xfrm>
                <a:off x="-16920" y="1401480"/>
                <a:ext cx="601200" cy="1407600"/>
                <a:chOff x="-16920" y="1401480"/>
                <a:chExt cx="601200" cy="1407600"/>
              </a:xfrm>
            </p:grpSpPr>
            <p:pic>
              <p:nvPicPr>
                <p:cNvPr id="79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1480"/>
                  <a:ext cx="601200" cy="140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37800" y="1454760"/>
                  <a:ext cx="493200" cy="12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1" name="Freeform 43"/>
              <p:cNvGrpSpPr/>
              <p:nvPr/>
            </p:nvGrpSpPr>
            <p:grpSpPr>
              <a:xfrm>
                <a:off x="-10800" y="0"/>
                <a:ext cx="1166760" cy="868320"/>
                <a:chOff x="-10800" y="0"/>
                <a:chExt cx="1166760" cy="868320"/>
              </a:xfrm>
            </p:grpSpPr>
            <p:pic>
              <p:nvPicPr>
                <p:cNvPr id="82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6676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55080" y="65880"/>
                  <a:ext cx="1035720" cy="73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4" name="Freeform 35"/>
              <p:cNvGrpSpPr/>
              <p:nvPr/>
            </p:nvGrpSpPr>
            <p:grpSpPr>
              <a:xfrm>
                <a:off x="8230320" y="11880"/>
                <a:ext cx="914040" cy="676800"/>
                <a:chOff x="8230320" y="11880"/>
                <a:chExt cx="914040" cy="676800"/>
              </a:xfrm>
            </p:grpSpPr>
            <p:pic>
              <p:nvPicPr>
                <p:cNvPr id="85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30320" y="11880"/>
                  <a:ext cx="914040" cy="67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8295120" y="77040"/>
                  <a:ext cx="7830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7" name="Freeform 31"/>
              <p:cNvGrpSpPr/>
              <p:nvPr/>
            </p:nvGrpSpPr>
            <p:grpSpPr>
              <a:xfrm>
                <a:off x="6882840" y="6115320"/>
                <a:ext cx="1257120" cy="742680"/>
                <a:chOff x="6882840" y="6115320"/>
                <a:chExt cx="1257120" cy="742680"/>
              </a:xfrm>
            </p:grpSpPr>
            <p:pic>
              <p:nvPicPr>
                <p:cNvPr id="88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882840" y="6115320"/>
                  <a:ext cx="1257120" cy="742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>
                  <a:off x="6936840" y="6166800"/>
                  <a:ext cx="114732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9"/>
    <p:sldLayoutId id="2147483650" r:id="rId30"/>
    <p:sldLayoutId id="2147483651" r:id="rId31"/>
    <p:sldLayoutId id="2147483652" r:id="rId32"/>
    <p:sldLayoutId id="2147483653" r:id="rId33"/>
    <p:sldLayoutId id="2147483654" r:id="rId34"/>
    <p:sldLayoutId id="2147483655" r:id="rId35"/>
    <p:sldLayoutId id="2147483656" r:id="rId36"/>
    <p:sldLayoutId id="2147483657" r:id="rId37"/>
    <p:sldLayoutId id="2147483658" r:id="rId38"/>
    <p:sldLayoutId id="2147483659" r:id="rId39"/>
    <p:sldLayoutId id="2147483660" r:id="rId4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60"/>
          <p:cNvGrpSpPr/>
          <p:nvPr/>
        </p:nvGrpSpPr>
        <p:grpSpPr>
          <a:xfrm>
            <a:off x="-151200" y="0"/>
            <a:ext cx="9521640" cy="6858000"/>
            <a:chOff x="-151200" y="0"/>
            <a:chExt cx="9521640" cy="6858000"/>
          </a:xfrm>
        </p:grpSpPr>
        <p:grpSp>
          <p:nvGrpSpPr>
            <p:cNvPr id="127" name="Group 182"/>
            <p:cNvGrpSpPr/>
            <p:nvPr/>
          </p:nvGrpSpPr>
          <p:grpSpPr>
            <a:xfrm>
              <a:off x="-151200" y="304560"/>
              <a:ext cx="9209520" cy="6438600"/>
              <a:chOff x="-151200" y="304560"/>
              <a:chExt cx="9209520" cy="6438600"/>
            </a:xfrm>
          </p:grpSpPr>
          <p:grpSp>
            <p:nvGrpSpPr>
              <p:cNvPr id="128" name="Freeform 12"/>
              <p:cNvGrpSpPr/>
              <p:nvPr/>
            </p:nvGrpSpPr>
            <p:grpSpPr>
              <a:xfrm>
                <a:off x="-151200" y="3517560"/>
                <a:ext cx="1464120" cy="1462320"/>
                <a:chOff x="-151200" y="3517560"/>
                <a:chExt cx="1464120" cy="1462320"/>
              </a:xfrm>
            </p:grpSpPr>
            <p:pic>
              <p:nvPicPr>
                <p:cNvPr id="12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55800"/>
                  <a:ext cx="1258560" cy="121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8050800">
                  <a:off x="86040" y="3708360"/>
                  <a:ext cx="989280" cy="108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1" name="Freeform 28"/>
              <p:cNvGrpSpPr/>
              <p:nvPr/>
            </p:nvGrpSpPr>
            <p:grpSpPr>
              <a:xfrm>
                <a:off x="317160" y="304560"/>
                <a:ext cx="1462320" cy="1362240"/>
                <a:chOff x="317160" y="304560"/>
                <a:chExt cx="1462320" cy="1362240"/>
              </a:xfrm>
            </p:grpSpPr>
            <p:pic>
              <p:nvPicPr>
                <p:cNvPr id="13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66560" y="437040"/>
                  <a:ext cx="1191960" cy="105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7569000">
                  <a:off x="657720" y="365400"/>
                  <a:ext cx="780840" cy="12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4" name="Freeform 36"/>
              <p:cNvGrpSpPr/>
              <p:nvPr/>
            </p:nvGrpSpPr>
            <p:grpSpPr>
              <a:xfrm>
                <a:off x="7568640" y="611640"/>
                <a:ext cx="1297800" cy="1265760"/>
                <a:chOff x="7568640" y="611640"/>
                <a:chExt cx="1297800" cy="1265760"/>
              </a:xfrm>
            </p:grpSpPr>
            <p:pic>
              <p:nvPicPr>
                <p:cNvPr id="13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78720" y="677160"/>
                  <a:ext cx="1228680" cy="1149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 rot="11849400">
                  <a:off x="7694280" y="745920"/>
                  <a:ext cx="1046520" cy="99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7" name="Freeform 32"/>
              <p:cNvGrpSpPr/>
              <p:nvPr/>
            </p:nvGrpSpPr>
            <p:grpSpPr>
              <a:xfrm>
                <a:off x="6793560" y="1863000"/>
                <a:ext cx="1462320" cy="833400"/>
                <a:chOff x="6793560" y="1863000"/>
                <a:chExt cx="1462320" cy="833400"/>
              </a:xfrm>
            </p:grpSpPr>
            <p:pic>
              <p:nvPicPr>
                <p:cNvPr id="13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93560" y="1877760"/>
                  <a:ext cx="1462320" cy="77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6220200">
                  <a:off x="7256160" y="1616040"/>
                  <a:ext cx="534960" cy="13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0" name="Freeform 16"/>
              <p:cNvGrpSpPr/>
              <p:nvPr/>
            </p:nvGrpSpPr>
            <p:grpSpPr>
              <a:xfrm>
                <a:off x="7582320" y="4819320"/>
                <a:ext cx="1476000" cy="1174680"/>
                <a:chOff x="7582320" y="4819320"/>
                <a:chExt cx="1476000" cy="1174680"/>
              </a:xfrm>
            </p:grpSpPr>
            <p:pic>
              <p:nvPicPr>
                <p:cNvPr id="14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20480" y="4924800"/>
                  <a:ext cx="1420560" cy="100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 rot="6532800">
                  <a:off x="7919280" y="4763880"/>
                  <a:ext cx="801720" cy="128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3" name="Freeform 20"/>
              <p:cNvGrpSpPr/>
              <p:nvPr/>
            </p:nvGrpSpPr>
            <p:grpSpPr>
              <a:xfrm>
                <a:off x="6971400" y="5281560"/>
                <a:ext cx="1603800" cy="1461600"/>
                <a:chOff x="6971400" y="5281560"/>
                <a:chExt cx="1603800" cy="1461600"/>
              </a:xfrm>
            </p:grpSpPr>
            <p:pic>
              <p:nvPicPr>
                <p:cNvPr id="14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083000" y="5445360"/>
                  <a:ext cx="1392120" cy="116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7603800">
                  <a:off x="7399800" y="5290200"/>
                  <a:ext cx="746280" cy="144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46" name="Group 189"/>
            <p:cNvGrpSpPr/>
            <p:nvPr/>
          </p:nvGrpSpPr>
          <p:grpSpPr>
            <a:xfrm>
              <a:off x="0" y="93960"/>
              <a:ext cx="9144000" cy="6764040"/>
              <a:chOff x="0" y="93960"/>
              <a:chExt cx="9144000" cy="6764040"/>
            </a:xfrm>
          </p:grpSpPr>
          <p:grpSp>
            <p:nvGrpSpPr>
              <p:cNvPr id="147" name="Freeform 12"/>
              <p:cNvGrpSpPr/>
              <p:nvPr/>
            </p:nvGrpSpPr>
            <p:grpSpPr>
              <a:xfrm>
                <a:off x="7506360" y="3521520"/>
                <a:ext cx="1262880" cy="1282320"/>
                <a:chOff x="7506360" y="3521520"/>
                <a:chExt cx="1262880" cy="1282320"/>
              </a:xfrm>
            </p:grpSpPr>
            <p:pic>
              <p:nvPicPr>
                <p:cNvPr id="14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94200" y="3665880"/>
                  <a:ext cx="1099440" cy="101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9953600">
                  <a:off x="7677000" y="3679200"/>
                  <a:ext cx="920880" cy="96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0" name="Freeform 20"/>
              <p:cNvGrpSpPr/>
              <p:nvPr/>
            </p:nvGrpSpPr>
            <p:grpSpPr>
              <a:xfrm>
                <a:off x="6600960" y="5100120"/>
                <a:ext cx="1202040" cy="1341000"/>
                <a:chOff x="6600960" y="5100120"/>
                <a:chExt cx="1202040" cy="1341000"/>
              </a:xfrm>
            </p:grpSpPr>
            <p:pic>
              <p:nvPicPr>
                <p:cNvPr id="15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10760" y="5221080"/>
                  <a:ext cx="937080" cy="111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2860400">
                  <a:off x="6877080" y="5180040"/>
                  <a:ext cx="649080" cy="118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3" name="Freeform 12"/>
              <p:cNvGrpSpPr/>
              <p:nvPr/>
            </p:nvGrpSpPr>
            <p:grpSpPr>
              <a:xfrm>
                <a:off x="7062480" y="2269800"/>
                <a:ext cx="1124640" cy="1133640"/>
                <a:chOff x="7062480" y="2269800"/>
                <a:chExt cx="1124640" cy="1133640"/>
              </a:xfrm>
            </p:grpSpPr>
            <p:pic>
              <p:nvPicPr>
                <p:cNvPr id="15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31600" y="2387880"/>
                  <a:ext cx="979200" cy="853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1885800">
                  <a:off x="7220880" y="2418840"/>
                  <a:ext cx="807480" cy="83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6" name="Freeform 16"/>
              <p:cNvGrpSpPr/>
              <p:nvPr/>
            </p:nvGrpSpPr>
            <p:grpSpPr>
              <a:xfrm>
                <a:off x="7874640" y="93960"/>
                <a:ext cx="1073520" cy="1146960"/>
                <a:chOff x="7874640" y="93960"/>
                <a:chExt cx="1073520" cy="1146960"/>
              </a:xfrm>
            </p:grpSpPr>
            <p:pic>
              <p:nvPicPr>
                <p:cNvPr id="15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32680" y="212400"/>
                  <a:ext cx="756720" cy="946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9458000">
                  <a:off x="8093880" y="189000"/>
                  <a:ext cx="635040" cy="95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9" name="Freeform 32"/>
              <p:cNvGrpSpPr/>
              <p:nvPr/>
            </p:nvGrpSpPr>
            <p:grpSpPr>
              <a:xfrm>
                <a:off x="6855120" y="1019160"/>
                <a:ext cx="966960" cy="490320"/>
                <a:chOff x="6855120" y="1019160"/>
                <a:chExt cx="966960" cy="490320"/>
              </a:xfrm>
            </p:grpSpPr>
            <p:pic>
              <p:nvPicPr>
                <p:cNvPr id="16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55120" y="1019160"/>
                  <a:ext cx="966960" cy="49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6200000">
                  <a:off x="7161840" y="844560"/>
                  <a:ext cx="356760" cy="83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2" name="Freeform 28"/>
              <p:cNvGrpSpPr/>
              <p:nvPr/>
            </p:nvGrpSpPr>
            <p:grpSpPr>
              <a:xfrm>
                <a:off x="595080" y="98640"/>
                <a:ext cx="1225440" cy="1314000"/>
                <a:chOff x="595080" y="98640"/>
                <a:chExt cx="1225440" cy="1314000"/>
              </a:xfrm>
            </p:grpSpPr>
            <p:pic>
              <p:nvPicPr>
                <p:cNvPr id="16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38720" y="247320"/>
                  <a:ext cx="912960" cy="99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 rot="2065200">
                  <a:off x="836280" y="213480"/>
                  <a:ext cx="742680" cy="10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5" name="Freeform 39"/>
              <p:cNvGrpSpPr/>
              <p:nvPr/>
            </p:nvGrpSpPr>
            <p:grpSpPr>
              <a:xfrm>
                <a:off x="8699400" y="1170360"/>
                <a:ext cx="444600" cy="908280"/>
                <a:chOff x="8699400" y="1170360"/>
                <a:chExt cx="444600" cy="908280"/>
              </a:xfrm>
            </p:grpSpPr>
            <p:pic>
              <p:nvPicPr>
                <p:cNvPr id="16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699400" y="1170360"/>
                  <a:ext cx="444600" cy="90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8767080" y="1239120"/>
                  <a:ext cx="310680" cy="77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8" name="Freeform 88"/>
              <p:cNvGrpSpPr/>
              <p:nvPr/>
            </p:nvGrpSpPr>
            <p:grpSpPr>
              <a:xfrm>
                <a:off x="11880" y="4992480"/>
                <a:ext cx="811080" cy="1035720"/>
                <a:chOff x="11880" y="4992480"/>
                <a:chExt cx="811080" cy="1035720"/>
              </a:xfrm>
            </p:grpSpPr>
            <p:pic>
              <p:nvPicPr>
                <p:cNvPr id="16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4992480"/>
                  <a:ext cx="811080" cy="1035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76320" y="5061600"/>
                  <a:ext cx="682920" cy="89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1" name="Freeform 47"/>
              <p:cNvGrpSpPr/>
              <p:nvPr/>
            </p:nvGrpSpPr>
            <p:grpSpPr>
              <a:xfrm>
                <a:off x="0" y="2333520"/>
                <a:ext cx="576720" cy="981000"/>
                <a:chOff x="0" y="2333520"/>
                <a:chExt cx="576720" cy="981000"/>
              </a:xfrm>
            </p:grpSpPr>
            <p:pic>
              <p:nvPicPr>
                <p:cNvPr id="17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33520"/>
                  <a:ext cx="576720" cy="98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65880" y="2400120"/>
                  <a:ext cx="447120" cy="84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4" name="Freeform 23"/>
              <p:cNvGrpSpPr/>
              <p:nvPr/>
            </p:nvGrpSpPr>
            <p:grpSpPr>
              <a:xfrm>
                <a:off x="8429040" y="6052680"/>
                <a:ext cx="714960" cy="805320"/>
                <a:chOff x="8429040" y="6052680"/>
                <a:chExt cx="714960" cy="805320"/>
              </a:xfrm>
            </p:grpSpPr>
            <p:pic>
              <p:nvPicPr>
                <p:cNvPr id="17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29040" y="6052680"/>
                  <a:ext cx="714960" cy="80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8493480" y="6118560"/>
                  <a:ext cx="58428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7" name="Group 200"/>
            <p:cNvGrpSpPr/>
            <p:nvPr/>
          </p:nvGrpSpPr>
          <p:grpSpPr>
            <a:xfrm>
              <a:off x="-16920" y="0"/>
              <a:ext cx="9387360" cy="6858000"/>
              <a:chOff x="-16920" y="0"/>
              <a:chExt cx="9387360" cy="6858000"/>
            </a:xfrm>
          </p:grpSpPr>
          <p:grpSp>
            <p:nvGrpSpPr>
              <p:cNvPr id="178" name="Freeform 16"/>
              <p:cNvGrpSpPr/>
              <p:nvPr/>
            </p:nvGrpSpPr>
            <p:grpSpPr>
              <a:xfrm>
                <a:off x="7378920" y="1325160"/>
                <a:ext cx="1991520" cy="2230200"/>
                <a:chOff x="7378920" y="1325160"/>
                <a:chExt cx="1991520" cy="2230200"/>
              </a:xfrm>
            </p:grpSpPr>
            <p:pic>
              <p:nvPicPr>
                <p:cNvPr id="17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18760" y="1524240"/>
                  <a:ext cx="1341360" cy="1773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 rot="9111600">
                  <a:off x="7740000" y="1514520"/>
                  <a:ext cx="1268640" cy="18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1" name="Freeform 24"/>
              <p:cNvGrpSpPr/>
              <p:nvPr/>
            </p:nvGrpSpPr>
            <p:grpSpPr>
              <a:xfrm>
                <a:off x="7797240" y="5443920"/>
                <a:ext cx="1239480" cy="794160"/>
                <a:chOff x="7797240" y="5443920"/>
                <a:chExt cx="1239480" cy="794160"/>
              </a:xfrm>
            </p:grpSpPr>
            <p:pic>
              <p:nvPicPr>
                <p:cNvPr id="18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797240" y="5528520"/>
                  <a:ext cx="1197000" cy="604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4324800">
                  <a:off x="8190000" y="5271120"/>
                  <a:ext cx="466200" cy="113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4" name="Freeform 28"/>
              <p:cNvGrpSpPr/>
              <p:nvPr/>
            </p:nvGrpSpPr>
            <p:grpSpPr>
              <a:xfrm>
                <a:off x="6846120" y="3908160"/>
                <a:ext cx="1532520" cy="1676520"/>
                <a:chOff x="6846120" y="3908160"/>
                <a:chExt cx="1532520" cy="1676520"/>
              </a:xfrm>
            </p:grpSpPr>
            <p:pic>
              <p:nvPicPr>
                <p:cNvPr id="18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81200" y="4105080"/>
                  <a:ext cx="1052640" cy="133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9659000">
                  <a:off x="7147080" y="4048560"/>
                  <a:ext cx="930240" cy="139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7" name="Freeform 32"/>
              <p:cNvGrpSpPr/>
              <p:nvPr/>
            </p:nvGrpSpPr>
            <p:grpSpPr>
              <a:xfrm>
                <a:off x="7590600" y="393120"/>
                <a:ext cx="873720" cy="1286280"/>
                <a:chOff x="7590600" y="393120"/>
                <a:chExt cx="873720" cy="1286280"/>
              </a:xfrm>
            </p:grpSpPr>
            <p:pic>
              <p:nvPicPr>
                <p:cNvPr id="18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34520" y="445320"/>
                  <a:ext cx="751680" cy="11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177800">
                  <a:off x="7774920" y="443160"/>
                  <a:ext cx="504360" cy="118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0" name="Freeform 12"/>
              <p:cNvGrpSpPr/>
              <p:nvPr/>
            </p:nvGrpSpPr>
            <p:grpSpPr>
              <a:xfrm>
                <a:off x="7851960" y="3295800"/>
                <a:ext cx="1318680" cy="1306080"/>
                <a:chOff x="7851960" y="3295800"/>
                <a:chExt cx="1318680" cy="1306080"/>
              </a:xfrm>
            </p:grpSpPr>
            <p:pic>
              <p:nvPicPr>
                <p:cNvPr id="19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31960" y="3378240"/>
                  <a:ext cx="980280" cy="11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7111200">
                  <a:off x="8034840" y="3456720"/>
                  <a:ext cx="952200" cy="9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3" name="Freeform 15"/>
              <p:cNvGrpSpPr/>
              <p:nvPr/>
            </p:nvGrpSpPr>
            <p:grpSpPr>
              <a:xfrm>
                <a:off x="12960" y="6007680"/>
                <a:ext cx="583200" cy="850320"/>
                <a:chOff x="12960" y="6007680"/>
                <a:chExt cx="583200" cy="850320"/>
              </a:xfrm>
            </p:grpSpPr>
            <p:pic>
              <p:nvPicPr>
                <p:cNvPr id="19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07680"/>
                  <a:ext cx="583200" cy="85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68400" y="6064200"/>
                  <a:ext cx="47592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6" name="Freeform 27"/>
              <p:cNvGrpSpPr/>
              <p:nvPr/>
            </p:nvGrpSpPr>
            <p:grpSpPr>
              <a:xfrm>
                <a:off x="-4680" y="3318120"/>
                <a:ext cx="986400" cy="1173960"/>
                <a:chOff x="-4680" y="3318120"/>
                <a:chExt cx="986400" cy="1173960"/>
              </a:xfrm>
            </p:grpSpPr>
            <p:pic>
              <p:nvPicPr>
                <p:cNvPr id="19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18120"/>
                  <a:ext cx="986400" cy="117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38160" y="3358080"/>
                  <a:ext cx="900720" cy="109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9" name="Freeform 51"/>
              <p:cNvGrpSpPr/>
              <p:nvPr/>
            </p:nvGrpSpPr>
            <p:grpSpPr>
              <a:xfrm>
                <a:off x="-16920" y="1401480"/>
                <a:ext cx="601200" cy="1407600"/>
                <a:chOff x="-16920" y="1401480"/>
                <a:chExt cx="601200" cy="1407600"/>
              </a:xfrm>
            </p:grpSpPr>
            <p:pic>
              <p:nvPicPr>
                <p:cNvPr id="20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1480"/>
                  <a:ext cx="601200" cy="140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37800" y="1454760"/>
                  <a:ext cx="493200" cy="12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2" name="Freeform 43"/>
              <p:cNvGrpSpPr/>
              <p:nvPr/>
            </p:nvGrpSpPr>
            <p:grpSpPr>
              <a:xfrm>
                <a:off x="-10800" y="0"/>
                <a:ext cx="1166760" cy="868320"/>
                <a:chOff x="-10800" y="0"/>
                <a:chExt cx="1166760" cy="868320"/>
              </a:xfrm>
            </p:grpSpPr>
            <p:pic>
              <p:nvPicPr>
                <p:cNvPr id="20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6676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>
                  <a:off x="55080" y="65880"/>
                  <a:ext cx="1035720" cy="73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5" name="Freeform 35"/>
              <p:cNvGrpSpPr/>
              <p:nvPr/>
            </p:nvGrpSpPr>
            <p:grpSpPr>
              <a:xfrm>
                <a:off x="8230320" y="11880"/>
                <a:ext cx="914040" cy="676800"/>
                <a:chOff x="8230320" y="11880"/>
                <a:chExt cx="914040" cy="676800"/>
              </a:xfrm>
            </p:grpSpPr>
            <p:pic>
              <p:nvPicPr>
                <p:cNvPr id="20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30320" y="11880"/>
                  <a:ext cx="914040" cy="67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8295120" y="77040"/>
                  <a:ext cx="7830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8" name="Freeform 31"/>
              <p:cNvGrpSpPr/>
              <p:nvPr/>
            </p:nvGrpSpPr>
            <p:grpSpPr>
              <a:xfrm>
                <a:off x="6882840" y="6115320"/>
                <a:ext cx="1257120" cy="742680"/>
                <a:chOff x="6882840" y="6115320"/>
                <a:chExt cx="1257120" cy="742680"/>
              </a:xfrm>
            </p:grpSpPr>
            <p:pic>
              <p:nvPicPr>
                <p:cNvPr id="20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882840" y="6115320"/>
                  <a:ext cx="1257120" cy="742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>
                  <a:off x="6936840" y="6166800"/>
                  <a:ext cx="1147320" cy="6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1" name="Oval 31"/>
          <p:cNvGrpSpPr/>
          <p:nvPr/>
        </p:nvGrpSpPr>
        <p:grpSpPr>
          <a:xfrm>
            <a:off x="5456160" y="1414440"/>
            <a:ext cx="1127160" cy="1127160"/>
            <a:chOff x="5456160" y="1414440"/>
            <a:chExt cx="1127160" cy="1127160"/>
          </a:xfrm>
        </p:grpSpPr>
        <p:pic>
          <p:nvPicPr>
            <p:cNvPr id="212" name="Oval 31" descr=""/>
            <p:cNvPicPr/>
            <p:nvPr/>
          </p:nvPicPr>
          <p:blipFill>
            <a:blip r:embed="rId29"/>
            <a:stretch/>
          </p:blipFill>
          <p:spPr>
            <a:xfrm>
              <a:off x="5456160" y="1414440"/>
              <a:ext cx="11271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4" name="Oval 32"/>
          <p:cNvGrpSpPr/>
          <p:nvPr/>
        </p:nvGrpSpPr>
        <p:grpSpPr>
          <a:xfrm>
            <a:off x="5626080" y="1390680"/>
            <a:ext cx="871560" cy="871560"/>
            <a:chOff x="5626080" y="1390680"/>
            <a:chExt cx="871560" cy="871560"/>
          </a:xfrm>
        </p:grpSpPr>
        <p:pic>
          <p:nvPicPr>
            <p:cNvPr id="215" name="Oval 32" descr=""/>
            <p:cNvPicPr/>
            <p:nvPr/>
          </p:nvPicPr>
          <p:blipFill>
            <a:blip r:embed="rId30"/>
            <a:stretch/>
          </p:blipFill>
          <p:spPr>
            <a:xfrm>
              <a:off x="5626080" y="1390680"/>
              <a:ext cx="8715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7" name="Oval 28"/>
          <p:cNvGrpSpPr/>
          <p:nvPr/>
        </p:nvGrpSpPr>
        <p:grpSpPr>
          <a:xfrm>
            <a:off x="5230800" y="1871640"/>
            <a:ext cx="646200" cy="646200"/>
            <a:chOff x="5230800" y="1871640"/>
            <a:chExt cx="646200" cy="646200"/>
          </a:xfrm>
        </p:grpSpPr>
        <p:pic>
          <p:nvPicPr>
            <p:cNvPr id="218" name="Oval 28" descr=""/>
            <p:cNvPicPr/>
            <p:nvPr/>
          </p:nvPicPr>
          <p:blipFill>
            <a:blip r:embed="rId31"/>
            <a:stretch/>
          </p:blipFill>
          <p:spPr>
            <a:xfrm>
              <a:off x="5230800" y="1871640"/>
              <a:ext cx="6462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0" name="Oval 30"/>
          <p:cNvGrpSpPr/>
          <p:nvPr/>
        </p:nvGrpSpPr>
        <p:grpSpPr>
          <a:xfrm>
            <a:off x="5400720" y="1785960"/>
            <a:ext cx="530280" cy="530280"/>
            <a:chOff x="5400720" y="1785960"/>
            <a:chExt cx="530280" cy="530280"/>
          </a:xfrm>
        </p:grpSpPr>
        <p:pic>
          <p:nvPicPr>
            <p:cNvPr id="221" name="Oval 30" descr=""/>
            <p:cNvPicPr/>
            <p:nvPr/>
          </p:nvPicPr>
          <p:blipFill>
            <a:blip r:embed="rId32"/>
            <a:stretch/>
          </p:blipFill>
          <p:spPr>
            <a:xfrm>
              <a:off x="5400720" y="1785960"/>
              <a:ext cx="5302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3" name="Oval 27"/>
          <p:cNvGrpSpPr/>
          <p:nvPr/>
        </p:nvGrpSpPr>
        <p:grpSpPr>
          <a:xfrm>
            <a:off x="4694400" y="2060640"/>
            <a:ext cx="298440" cy="298440"/>
            <a:chOff x="4694400" y="2060640"/>
            <a:chExt cx="298440" cy="298440"/>
          </a:xfrm>
        </p:grpSpPr>
        <p:pic>
          <p:nvPicPr>
            <p:cNvPr id="224" name="Oval 27" descr=""/>
            <p:cNvPicPr/>
            <p:nvPr/>
          </p:nvPicPr>
          <p:blipFill>
            <a:blip r:embed="rId33"/>
            <a:stretch/>
          </p:blipFill>
          <p:spPr>
            <a:xfrm>
              <a:off x="469440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6" name="Oval 29"/>
          <p:cNvGrpSpPr/>
          <p:nvPr/>
        </p:nvGrpSpPr>
        <p:grpSpPr>
          <a:xfrm>
            <a:off x="6108840" y="969840"/>
            <a:ext cx="298440" cy="298440"/>
            <a:chOff x="6108840" y="969840"/>
            <a:chExt cx="298440" cy="298440"/>
          </a:xfrm>
        </p:grpSpPr>
        <p:pic>
          <p:nvPicPr>
            <p:cNvPr id="227" name="Oval 29" descr=""/>
            <p:cNvPicPr/>
            <p:nvPr/>
          </p:nvPicPr>
          <p:blipFill>
            <a:blip r:embed="rId34"/>
            <a:stretch/>
          </p:blipFill>
          <p:spPr>
            <a:xfrm>
              <a:off x="6108840" y="9698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9" name="Oval 33"/>
          <p:cNvGrpSpPr/>
          <p:nvPr/>
        </p:nvGrpSpPr>
        <p:grpSpPr>
          <a:xfrm>
            <a:off x="5035680" y="1871640"/>
            <a:ext cx="237960" cy="238320"/>
            <a:chOff x="5035680" y="1871640"/>
            <a:chExt cx="237960" cy="238320"/>
          </a:xfrm>
        </p:grpSpPr>
        <p:pic>
          <p:nvPicPr>
            <p:cNvPr id="230" name="Oval 33" descr=""/>
            <p:cNvPicPr/>
            <p:nvPr/>
          </p:nvPicPr>
          <p:blipFill>
            <a:blip r:embed="rId35"/>
            <a:stretch/>
          </p:blipFill>
          <p:spPr>
            <a:xfrm>
              <a:off x="5035680" y="187164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2" name="Oval 34"/>
          <p:cNvGrpSpPr/>
          <p:nvPr/>
        </p:nvGrpSpPr>
        <p:grpSpPr>
          <a:xfrm>
            <a:off x="6126120" y="1036800"/>
            <a:ext cx="238320" cy="237960"/>
            <a:chOff x="6126120" y="1036800"/>
            <a:chExt cx="238320" cy="237960"/>
          </a:xfrm>
        </p:grpSpPr>
        <p:pic>
          <p:nvPicPr>
            <p:cNvPr id="233" name="Oval 34" descr=""/>
            <p:cNvPicPr/>
            <p:nvPr/>
          </p:nvPicPr>
          <p:blipFill>
            <a:blip r:embed="rId36"/>
            <a:stretch/>
          </p:blipFill>
          <p:spPr>
            <a:xfrm>
              <a:off x="6126120" y="1036800"/>
              <a:ext cx="2383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9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724E-58E2-4CFF-B8F5-02EE7005F1BC}" type="slidenum">
              <a:rPr b="0" lang="en-US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7"/>
    <p:sldLayoutId id="2147483663" r:id="rId38"/>
    <p:sldLayoutId id="2147483664" r:id="rId39"/>
    <p:sldLayoutId id="2147483665" r:id="rId40"/>
    <p:sldLayoutId id="2147483666" r:id="rId41"/>
    <p:sldLayoutId id="2147483667" r:id="rId42"/>
    <p:sldLayoutId id="2147483668" r:id="rId43"/>
    <p:sldLayoutId id="2147483669" r:id="rId44"/>
    <p:sldLayoutId id="2147483670" r:id="rId45"/>
    <p:sldLayoutId id="2147483671" r:id="rId46"/>
    <p:sldLayoutId id="2147483672" r:id="rId47"/>
    <p:sldLayoutId id="2147483673" r:id="rId4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1684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Пётр Ильич Чайковски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11684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000"/>
                </a:solidFill>
                <a:latin typeface="Verdana"/>
              </a:rPr>
              <a:t>Подготовила Васильева Лиана Витальевна ученица 4б клас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8" name="Picture 2" descr="C:\Users\Админ\AppData\Local\Microsoft\Windows\Temporary Internet Files\Content.IE5\LNRO3TRX\MM900205401[1].gif"/>
          <p:cNvPicPr/>
          <p:nvPr/>
        </p:nvPicPr>
        <p:blipFill>
          <a:blip r:embed="rId1"/>
          <a:stretch/>
        </p:blipFill>
        <p:spPr>
          <a:xfrm>
            <a:off x="-252360" y="3284640"/>
            <a:ext cx="9577440" cy="3573360"/>
          </a:xfrm>
          <a:prstGeom prst="rect">
            <a:avLst/>
          </a:prstGeom>
          <a:ln w="0">
            <a:noFill/>
          </a:ln>
        </p:spPr>
      </p:pic>
      <p:pic>
        <p:nvPicPr>
          <p:cNvPr id="279" name="Kalimba.mp3" descr=""/>
          <p:cNvPicPr/>
          <p:nvPr/>
        </p:nvPicPr>
        <p:blipFill>
          <a:blip r:embed="rId2"/>
          <a:stretch/>
        </p:blipFill>
        <p:spPr>
          <a:xfrm>
            <a:off x="-3637080" y="98100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80" name="Ivan_Petrov_Krauze_-_P.I._CHaykovskiy_Blagoslovlyayu_vas_lesa_(get-tune.net).mp3" descr=""/>
          <p:cNvPicPr/>
          <p:nvPr/>
        </p:nvPicPr>
        <p:blipFill>
          <a:blip r:embed="rId3"/>
          <a:stretch/>
        </p:blipFill>
        <p:spPr>
          <a:xfrm>
            <a:off x="4289400" y="189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50602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9800" y="445680"/>
            <a:ext cx="2660400" cy="4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иография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7640" y="907560"/>
            <a:ext cx="3562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Пётр Ильич Чайковский родился 7 мая 1840 году и умер 6 ноября 1893 год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н обучался в Императорском училищ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по окончан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которого получил чин титулярного советника и стал работать в Министерстве юстиции.                            Всемирную славу Чайковскому принесли  балеты «Лебединое озеро», «Щелкунчик», «Спящая красавицы» и оперы «Евгений Онегин», «Пиковая дама», «Орлеанская дева» и други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3" name="Picture 2" descr="C:\Users\Админ\AppData\Local\Microsoft\Windows\Temporary Internet Files\Content.IE5\LNRO3TRX\MM900303453[1].gif"/>
          <p:cNvPicPr/>
          <p:nvPr/>
        </p:nvPicPr>
        <p:blipFill>
          <a:blip r:embed="rId1"/>
          <a:stretch/>
        </p:blipFill>
        <p:spPr>
          <a:xfrm>
            <a:off x="3851280" y="1197000"/>
            <a:ext cx="468144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ётр Ильич Чайковск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5" name="Объект 3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048360" cy="4608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Users\Админ\AppData\Local\Microsoft\Windows\Temporary Internet Files\Content.IE5\LNRO3TRX\MM900283002[1].gif"/>
          <p:cNvPicPr/>
          <p:nvPr/>
        </p:nvPicPr>
        <p:blipFill>
          <a:blip r:embed="rId2"/>
          <a:stretch/>
        </p:blipFill>
        <p:spPr>
          <a:xfrm>
            <a:off x="-757080" y="2924280"/>
            <a:ext cx="2881080" cy="4752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09800" y="1387080"/>
            <a:ext cx="348120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Личное Петра Ильича Чайковског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09800" y="2499840"/>
            <a:ext cx="348120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Пётр Ильич Чайковский очень любил осень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он говорил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«Чудесное время года когда и не жарко и не холодно, когда кружат листья разных цветов и когда проходят дожди в воздухи такой свежий что не описать». Он очень любил погулять по осеннему парку. Ещё он очень любил детей и всё врем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когда он приезжал на свою дачу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то сразу садился за рояль в беседке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и его музыка была слышна везде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огда все дети к нему сбегались и слушал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2" descr="C:\Users\Админ\AppData\Local\Microsoft\Windows\Temporary Internet Files\Content.IE5\Q9I9N8AU\MM900284163[1].gif"/>
          <p:cNvPicPr/>
          <p:nvPr/>
        </p:nvPicPr>
        <p:blipFill>
          <a:blip r:embed="rId1"/>
          <a:stretch/>
        </p:blipFill>
        <p:spPr>
          <a:xfrm>
            <a:off x="4011480" y="907920"/>
            <a:ext cx="5148360" cy="468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омпозито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1" name="Объект 3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705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3481200" cy="11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родолжае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09800" y="1483920"/>
            <a:ext cx="348120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В 1885 году он становится директором отделения российского музыкального общества в Москве. В 1893 году Чайковский удостоился званием Почётного доктора. 16 октября 1893 года состоялся последний концерт композитора, он дирижировал Шестой симфони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4" name="Picture 2" descr="C:\Users\Админ\AppData\Local\Microsoft\Windows\Temporary Internet Files\Content.IE5\RGY7TMVE\MM900188333[1].gif"/>
          <p:cNvPicPr/>
          <p:nvPr/>
        </p:nvPicPr>
        <p:blipFill>
          <a:blip r:embed="rId1"/>
          <a:stretch/>
        </p:blipFill>
        <p:spPr>
          <a:xfrm>
            <a:off x="5003640" y="1916280"/>
            <a:ext cx="3097440" cy="2290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79640" y="3213000"/>
            <a:ext cx="612144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мерть Петра Ильича Чайковског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99640" y="4869000"/>
            <a:ext cx="711684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9000"/>
                </a:solidFill>
                <a:latin typeface="Verdana"/>
              </a:rPr>
              <a:t>6 ноября 1893 года в Санкт-Петербурге скончался от холеры. Величайший музыкант, композитор, педагог оставил после себя 10 опер, 76 </a:t>
            </a:r>
            <a:r>
              <a:rPr b="1" lang="en-US" sz="2000" spc="-1" strike="noStrike">
                <a:solidFill>
                  <a:srgbClr val="ff9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9000"/>
                </a:solidFill>
                <a:latin typeface="Verdana"/>
              </a:rPr>
              <a:t>пусов, 3 балета и 4 сюиты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7" name="Picture 2" descr="C:\Users\Админ\AppData\Local\Microsoft\Windows\Temporary Internet Files\Content.IE5\Q9I9N8AU\MM900315817[1].gif"/>
          <p:cNvPicPr/>
          <p:nvPr/>
        </p:nvPicPr>
        <p:blipFill>
          <a:blip r:embed="rId1"/>
          <a:stretch/>
        </p:blipFill>
        <p:spPr>
          <a:xfrm>
            <a:off x="3203640" y="696960"/>
            <a:ext cx="3960720" cy="258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11:11:32Z</dcterms:created>
  <dc:creator>Васильева Лиана Витальевна</dc:creator>
  <dc:description/>
  <dc:language>en-US</dc:language>
  <cp:lastModifiedBy>Школа</cp:lastModifiedBy>
  <dcterms:modified xsi:type="dcterms:W3CDTF">2013-04-13T18:11:28Z</dcterms:modified>
  <cp:revision>13</cp:revision>
  <dc:subject/>
  <dc:title>Пётр Ильич Чайковский</dc:title>
</cp:coreProperties>
</file>