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6.png" ContentType="image/png"/>
  <Override PartName="/ppt/media/image36.gif" ContentType="image/gif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0.jpeg" ContentType="image/jpeg"/>
  <Override PartName="/ppt/media/image38.gif" ContentType="image/gif"/>
  <Override PartName="/ppt/media/image37.jpeg" ContentType="image/jpeg"/>
  <Override PartName="/ppt/media/image30.png" ContentType="image/png"/>
  <Override PartName="/ppt/media/image28.png" ContentType="image/png"/>
  <Override PartName="/ppt/media/image39.gif" ContentType="image/gif"/>
  <Override PartName="/ppt/media/image10.png" ContentType="image/png"/>
  <Override PartName="/ppt/media/image5.png" ContentType="image/png"/>
  <Override PartName="/ppt/media/image42.gif" ContentType="image/gif"/>
  <Override PartName="/ppt/media/image35.png" ContentType="image/png"/>
  <Override PartName="/ppt/media/image41.gif" ContentType="image/gif"/>
  <Override PartName="/ppt/media/image4.png" ContentType="image/png"/>
  <Override PartName="/ppt/media/image27.png" ContentType="image/png"/>
  <Override PartName="/ppt/media/image34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02E-BCF5-4FBC-B7C8-C1705A71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C5A-7127-447C-94A0-C9EB880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BB9-3103-4301-B1B9-1A4A5250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487-FB61-4417-BFBE-C502F361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4783-8978-4F18-A8DA-9C776E2A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7733-9DCD-4392-B993-39CC86FD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0188-64AA-4E84-8B8F-6EE2E8AA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6E2A-FBBD-41E0-803B-AB4EA7D0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D4B4-5722-445D-A62B-95D6C621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2A14-B605-442C-84C9-4D0E4CAE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B2C2-B0F1-49BF-9937-6C323DA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FD1-873C-4BAC-94E3-70198B2E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1F7E-34C3-4CC8-AF33-F1B885E5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E224-6B48-424C-832C-8F0BC6C7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B367-A7B7-4678-9290-DC2E47D5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7241-7DC6-40E4-B2D2-885E08B6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B11B-91EA-408D-AB91-E55AE467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18B-2049-4CCE-B864-80C8D6DF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A30-B1E4-4608-B01B-C35D1450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A1C-DAA1-43E7-A89E-CDDE157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45D-B2A2-430D-8C71-BE01F332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3C4-66DA-42B5-8950-6495F669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15F-CD64-4078-9904-EBC7EB6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839-E6CF-4788-AB82-815545CD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261B-EBA8-4A02-B87D-B3AEEB565C4E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51200" y="0"/>
            <a:ext cx="9521640" cy="6858000"/>
            <a:chOff x="-151200" y="0"/>
            <a:chExt cx="952164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51200" y="304560"/>
              <a:ext cx="9209520" cy="6438600"/>
              <a:chOff x="-151200" y="304560"/>
              <a:chExt cx="9209520" cy="6438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51200" y="3517560"/>
                <a:ext cx="1464120" cy="1462320"/>
                <a:chOff x="-151200" y="3517560"/>
                <a:chExt cx="1464120" cy="146232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55800"/>
                  <a:ext cx="12585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86040" y="3708360"/>
                  <a:ext cx="989280" cy="10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7160" y="304560"/>
                <a:ext cx="1462320" cy="1362240"/>
                <a:chOff x="317160" y="304560"/>
                <a:chExt cx="1462320" cy="136224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6560" y="437040"/>
                  <a:ext cx="1191960" cy="10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57720" y="365400"/>
                  <a:ext cx="780840" cy="12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68640" y="611640"/>
                <a:ext cx="1297800" cy="1265760"/>
                <a:chOff x="7568640" y="611640"/>
                <a:chExt cx="1297800" cy="126576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78720" y="677160"/>
                  <a:ext cx="1228680" cy="114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694280" y="745920"/>
                  <a:ext cx="1046520" cy="9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793560" y="1863000"/>
                <a:ext cx="1462320" cy="833400"/>
                <a:chOff x="6793560" y="1863000"/>
                <a:chExt cx="1462320" cy="83340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93560" y="1877760"/>
                  <a:ext cx="1462320" cy="77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56160" y="1616040"/>
                  <a:ext cx="534960" cy="13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82320" y="4819320"/>
                <a:ext cx="1476000" cy="1174680"/>
                <a:chOff x="7582320" y="4819320"/>
                <a:chExt cx="1476000" cy="11746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0480" y="4924800"/>
                  <a:ext cx="1420560" cy="100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19280" y="4763880"/>
                  <a:ext cx="801720" cy="12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71400" y="5281560"/>
                <a:ext cx="1603800" cy="1461600"/>
                <a:chOff x="6971400" y="5281560"/>
                <a:chExt cx="1603800" cy="146160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83000" y="5445360"/>
                  <a:ext cx="1392120" cy="11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399800" y="5290200"/>
                  <a:ext cx="746280" cy="14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3960"/>
              <a:ext cx="9144000" cy="6764040"/>
              <a:chOff x="0" y="93960"/>
              <a:chExt cx="9144000" cy="676404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06360" y="3521520"/>
                <a:ext cx="1262880" cy="1282320"/>
                <a:chOff x="7506360" y="3521520"/>
                <a:chExt cx="1262880" cy="128232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94200" y="3665880"/>
                  <a:ext cx="10994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77000" y="3679200"/>
                  <a:ext cx="920880" cy="9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00960" y="5100120"/>
                <a:ext cx="1202040" cy="1341000"/>
                <a:chOff x="6600960" y="5100120"/>
                <a:chExt cx="1202040" cy="134100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10760" y="5221080"/>
                  <a:ext cx="937080" cy="111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77080" y="5180040"/>
                  <a:ext cx="649080" cy="11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62480" y="2269800"/>
                <a:ext cx="1124640" cy="1133640"/>
                <a:chOff x="7062480" y="2269800"/>
                <a:chExt cx="1124640" cy="113364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31600" y="2387880"/>
                  <a:ext cx="979200" cy="85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0880" y="2418840"/>
                  <a:ext cx="807480" cy="8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74640" y="93960"/>
                <a:ext cx="1073520" cy="1146960"/>
                <a:chOff x="7874640" y="93960"/>
                <a:chExt cx="1073520" cy="114696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32680" y="212400"/>
                  <a:ext cx="756720" cy="94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093880" y="189000"/>
                  <a:ext cx="635040" cy="95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55120" y="1019160"/>
                <a:ext cx="966960" cy="490320"/>
                <a:chOff x="6855120" y="1019160"/>
                <a:chExt cx="966960" cy="49032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55120" y="1019160"/>
                  <a:ext cx="966960" cy="49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1840" y="844560"/>
                  <a:ext cx="356760" cy="83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5080" y="98640"/>
                <a:ext cx="1225440" cy="1314000"/>
                <a:chOff x="595080" y="98640"/>
                <a:chExt cx="1225440" cy="131400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38720" y="247320"/>
                  <a:ext cx="912960" cy="99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36280" y="213480"/>
                  <a:ext cx="742680" cy="10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699400" y="1170360"/>
                <a:ext cx="444600" cy="908280"/>
                <a:chOff x="8699400" y="1170360"/>
                <a:chExt cx="444600" cy="90828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699400" y="1170360"/>
                  <a:ext cx="44460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67080" y="1239120"/>
                  <a:ext cx="31068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4992480"/>
                <a:ext cx="811080" cy="1035720"/>
                <a:chOff x="11880" y="4992480"/>
                <a:chExt cx="811080" cy="103572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4992480"/>
                  <a:ext cx="811080" cy="10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76320" y="5061600"/>
                  <a:ext cx="682920" cy="89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33520"/>
                <a:ext cx="576720" cy="981000"/>
                <a:chOff x="0" y="2333520"/>
                <a:chExt cx="576720" cy="98100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33520"/>
                  <a:ext cx="57672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65880" y="2400120"/>
                  <a:ext cx="447120" cy="84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29040" y="6052680"/>
                <a:ext cx="714960" cy="805320"/>
                <a:chOff x="8429040" y="6052680"/>
                <a:chExt cx="714960" cy="80532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29040" y="6052680"/>
                  <a:ext cx="71496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493480" y="6118560"/>
                  <a:ext cx="5842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87360" cy="6858000"/>
              <a:chOff x="-16920" y="0"/>
              <a:chExt cx="93873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78920" y="1325160"/>
                <a:ext cx="1991520" cy="2230200"/>
                <a:chOff x="7378920" y="1325160"/>
                <a:chExt cx="1991520" cy="223020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18760" y="1524240"/>
                  <a:ext cx="1341360" cy="177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0000" y="1514520"/>
                  <a:ext cx="1268640" cy="18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797240" y="5443920"/>
                <a:ext cx="1239480" cy="794160"/>
                <a:chOff x="7797240" y="5443920"/>
                <a:chExt cx="1239480" cy="79416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797240" y="5528520"/>
                  <a:ext cx="119700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71120"/>
                  <a:ext cx="466200" cy="11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46120" y="3908160"/>
                <a:ext cx="1532520" cy="1676520"/>
                <a:chOff x="6846120" y="3908160"/>
                <a:chExt cx="1532520" cy="167652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81200" y="4105080"/>
                  <a:ext cx="1052640" cy="13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47080" y="4048560"/>
                  <a:ext cx="93024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590600" y="393120"/>
                <a:ext cx="873720" cy="1286280"/>
                <a:chOff x="7590600" y="393120"/>
                <a:chExt cx="873720" cy="1286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34520" y="445320"/>
                  <a:ext cx="751680" cy="11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74920" y="443160"/>
                  <a:ext cx="5043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51960" y="3295800"/>
                <a:ext cx="1318680" cy="1306080"/>
                <a:chOff x="7851960" y="3295800"/>
                <a:chExt cx="1318680" cy="130608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31960" y="3378240"/>
                  <a:ext cx="980280" cy="11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34840" y="3456720"/>
                  <a:ext cx="952200" cy="9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07680"/>
                <a:ext cx="583200" cy="850320"/>
                <a:chOff x="12960" y="6007680"/>
                <a:chExt cx="583200" cy="85032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07680"/>
                  <a:ext cx="583200" cy="85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68400" y="6064200"/>
                  <a:ext cx="47592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18120"/>
                <a:ext cx="986400" cy="1173960"/>
                <a:chOff x="-4680" y="3318120"/>
                <a:chExt cx="986400" cy="117396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18120"/>
                  <a:ext cx="986400" cy="117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38160" y="3358080"/>
                  <a:ext cx="900720" cy="10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1480"/>
                <a:ext cx="601200" cy="1407600"/>
                <a:chOff x="-16920" y="1401480"/>
                <a:chExt cx="601200" cy="140760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1480"/>
                  <a:ext cx="601200" cy="140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37800" y="1454760"/>
                  <a:ext cx="493200" cy="12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66760" cy="868320"/>
                <a:chOff x="-10800" y="0"/>
                <a:chExt cx="1166760" cy="86832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6676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55080" y="65880"/>
                  <a:ext cx="1035720" cy="73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30320" y="11880"/>
                <a:ext cx="914040" cy="676800"/>
                <a:chOff x="8230320" y="11880"/>
                <a:chExt cx="914040" cy="67680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30320" y="11880"/>
                  <a:ext cx="914040" cy="67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295120" y="77040"/>
                  <a:ext cx="783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882840" y="6115320"/>
                <a:ext cx="1257120" cy="742680"/>
                <a:chOff x="6882840" y="6115320"/>
                <a:chExt cx="1257120" cy="7426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882840" y="6115320"/>
                  <a:ext cx="125712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36840" y="6166800"/>
                  <a:ext cx="114732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51200" y="0"/>
            <a:ext cx="9521640" cy="6858000"/>
            <a:chOff x="-151200" y="0"/>
            <a:chExt cx="952164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51200" y="304560"/>
              <a:ext cx="9209520" cy="6438600"/>
              <a:chOff x="-151200" y="304560"/>
              <a:chExt cx="9209520" cy="6438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51200" y="3517560"/>
                <a:ext cx="1464120" cy="1462320"/>
                <a:chOff x="-151200" y="3517560"/>
                <a:chExt cx="1464120" cy="146232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55800"/>
                  <a:ext cx="12585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86040" y="3708360"/>
                  <a:ext cx="989280" cy="10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7160" y="304560"/>
                <a:ext cx="1462320" cy="1362240"/>
                <a:chOff x="317160" y="304560"/>
                <a:chExt cx="1462320" cy="136224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6560" y="437040"/>
                  <a:ext cx="1191960" cy="10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57720" y="365400"/>
                  <a:ext cx="780840" cy="12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68640" y="611640"/>
                <a:ext cx="1297800" cy="1265760"/>
                <a:chOff x="7568640" y="611640"/>
                <a:chExt cx="1297800" cy="126576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78720" y="677160"/>
                  <a:ext cx="1228680" cy="114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694280" y="745920"/>
                  <a:ext cx="1046520" cy="9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793560" y="1863000"/>
                <a:ext cx="1462320" cy="833400"/>
                <a:chOff x="6793560" y="1863000"/>
                <a:chExt cx="1462320" cy="83340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93560" y="1877760"/>
                  <a:ext cx="1462320" cy="77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56160" y="1616040"/>
                  <a:ext cx="534960" cy="13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82320" y="4819320"/>
                <a:ext cx="1476000" cy="1174680"/>
                <a:chOff x="7582320" y="4819320"/>
                <a:chExt cx="1476000" cy="11746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0480" y="4924800"/>
                  <a:ext cx="1420560" cy="100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19280" y="4763880"/>
                  <a:ext cx="801720" cy="12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71400" y="5281560"/>
                <a:ext cx="1603800" cy="1461600"/>
                <a:chOff x="6971400" y="5281560"/>
                <a:chExt cx="1603800" cy="146160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83000" y="5445360"/>
                  <a:ext cx="1392120" cy="11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399800" y="5290200"/>
                  <a:ext cx="746280" cy="14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3960"/>
              <a:ext cx="9144000" cy="6764040"/>
              <a:chOff x="0" y="93960"/>
              <a:chExt cx="9144000" cy="676404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06360" y="3521520"/>
                <a:ext cx="1262880" cy="1282320"/>
                <a:chOff x="7506360" y="3521520"/>
                <a:chExt cx="1262880" cy="128232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94200" y="3665880"/>
                  <a:ext cx="10994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77000" y="3679200"/>
                  <a:ext cx="920880" cy="9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00960" y="5100120"/>
                <a:ext cx="1202040" cy="1341000"/>
                <a:chOff x="6600960" y="5100120"/>
                <a:chExt cx="1202040" cy="134100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10760" y="5221080"/>
                  <a:ext cx="937080" cy="111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77080" y="5180040"/>
                  <a:ext cx="649080" cy="11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62480" y="2269800"/>
                <a:ext cx="1124640" cy="1133640"/>
                <a:chOff x="7062480" y="2269800"/>
                <a:chExt cx="1124640" cy="113364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31600" y="2387880"/>
                  <a:ext cx="979200" cy="85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0880" y="2418840"/>
                  <a:ext cx="807480" cy="8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74640" y="93960"/>
                <a:ext cx="1073520" cy="1146960"/>
                <a:chOff x="7874640" y="93960"/>
                <a:chExt cx="1073520" cy="114696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32680" y="212400"/>
                  <a:ext cx="756720" cy="94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093880" y="189000"/>
                  <a:ext cx="635040" cy="95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55120" y="1019160"/>
                <a:ext cx="966960" cy="490320"/>
                <a:chOff x="6855120" y="1019160"/>
                <a:chExt cx="966960" cy="49032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55120" y="1019160"/>
                  <a:ext cx="966960" cy="49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1840" y="844560"/>
                  <a:ext cx="356760" cy="83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5080" y="98640"/>
                <a:ext cx="1225440" cy="1314000"/>
                <a:chOff x="595080" y="98640"/>
                <a:chExt cx="1225440" cy="131400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38720" y="247320"/>
                  <a:ext cx="912960" cy="99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36280" y="213480"/>
                  <a:ext cx="742680" cy="10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699400" y="1170360"/>
                <a:ext cx="444600" cy="908280"/>
                <a:chOff x="8699400" y="1170360"/>
                <a:chExt cx="444600" cy="90828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699400" y="1170360"/>
                  <a:ext cx="44460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67080" y="1239120"/>
                  <a:ext cx="31068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4992480"/>
                <a:ext cx="811080" cy="1035720"/>
                <a:chOff x="11880" y="4992480"/>
                <a:chExt cx="811080" cy="103572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4992480"/>
                  <a:ext cx="811080" cy="10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76320" y="5061600"/>
                  <a:ext cx="682920" cy="89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33520"/>
                <a:ext cx="576720" cy="981000"/>
                <a:chOff x="0" y="2333520"/>
                <a:chExt cx="576720" cy="98100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33520"/>
                  <a:ext cx="57672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65880" y="2400120"/>
                  <a:ext cx="447120" cy="84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29040" y="6052680"/>
                <a:ext cx="714960" cy="805320"/>
                <a:chOff x="8429040" y="6052680"/>
                <a:chExt cx="714960" cy="80532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29040" y="6052680"/>
                  <a:ext cx="71496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493480" y="6118560"/>
                  <a:ext cx="5842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87360" cy="6858000"/>
              <a:chOff x="-16920" y="0"/>
              <a:chExt cx="93873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78920" y="1325160"/>
                <a:ext cx="1991520" cy="2230200"/>
                <a:chOff x="7378920" y="1325160"/>
                <a:chExt cx="1991520" cy="223020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18760" y="1524240"/>
                  <a:ext cx="1341360" cy="177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0000" y="1514520"/>
                  <a:ext cx="1268640" cy="18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797240" y="5443920"/>
                <a:ext cx="1239480" cy="794160"/>
                <a:chOff x="7797240" y="5443920"/>
                <a:chExt cx="1239480" cy="79416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797240" y="5528520"/>
                  <a:ext cx="119700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71120"/>
                  <a:ext cx="466200" cy="11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46120" y="3908160"/>
                <a:ext cx="1532520" cy="1676520"/>
                <a:chOff x="6846120" y="3908160"/>
                <a:chExt cx="1532520" cy="167652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81200" y="4105080"/>
                  <a:ext cx="1052640" cy="13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47080" y="4048560"/>
                  <a:ext cx="93024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590600" y="393120"/>
                <a:ext cx="873720" cy="1286280"/>
                <a:chOff x="7590600" y="393120"/>
                <a:chExt cx="873720" cy="1286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34520" y="445320"/>
                  <a:ext cx="751680" cy="11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74920" y="443160"/>
                  <a:ext cx="5043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51960" y="3295800"/>
                <a:ext cx="1318680" cy="1306080"/>
                <a:chOff x="7851960" y="3295800"/>
                <a:chExt cx="1318680" cy="130608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31960" y="3378240"/>
                  <a:ext cx="980280" cy="11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34840" y="3456720"/>
                  <a:ext cx="952200" cy="9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07680"/>
                <a:ext cx="583200" cy="850320"/>
                <a:chOff x="12960" y="6007680"/>
                <a:chExt cx="583200" cy="85032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07680"/>
                  <a:ext cx="583200" cy="85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68400" y="6064200"/>
                  <a:ext cx="47592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18120"/>
                <a:ext cx="986400" cy="1173960"/>
                <a:chOff x="-4680" y="3318120"/>
                <a:chExt cx="986400" cy="117396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18120"/>
                  <a:ext cx="986400" cy="117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38160" y="3358080"/>
                  <a:ext cx="900720" cy="10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1480"/>
                <a:ext cx="601200" cy="1407600"/>
                <a:chOff x="-16920" y="1401480"/>
                <a:chExt cx="601200" cy="140760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1480"/>
                  <a:ext cx="601200" cy="140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37800" y="1454760"/>
                  <a:ext cx="493200" cy="12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66760" cy="868320"/>
                <a:chOff x="-10800" y="0"/>
                <a:chExt cx="1166760" cy="86832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6676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55080" y="65880"/>
                  <a:ext cx="1035720" cy="73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30320" y="11880"/>
                <a:ext cx="914040" cy="676800"/>
                <a:chOff x="8230320" y="11880"/>
                <a:chExt cx="914040" cy="67680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30320" y="11880"/>
                  <a:ext cx="914040" cy="67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295120" y="77040"/>
                  <a:ext cx="783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882840" y="6115320"/>
                <a:ext cx="1257120" cy="742680"/>
                <a:chOff x="6882840" y="6115320"/>
                <a:chExt cx="1257120" cy="7426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882840" y="6115320"/>
                  <a:ext cx="125712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36840" y="6166800"/>
                  <a:ext cx="114732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27160" cy="1127160"/>
            <a:chOff x="5456160" y="1414440"/>
            <a:chExt cx="1127160" cy="112716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27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1560" cy="871560"/>
            <a:chOff x="5626080" y="1390680"/>
            <a:chExt cx="87156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1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0800" y="1871640"/>
            <a:ext cx="646200" cy="646200"/>
            <a:chOff x="5230800" y="1871640"/>
            <a:chExt cx="64620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0800" y="187164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85960"/>
            <a:ext cx="530280" cy="530280"/>
            <a:chOff x="5400720" y="1785960"/>
            <a:chExt cx="530280" cy="53028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8596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694400" y="2060640"/>
            <a:ext cx="298440" cy="298440"/>
            <a:chOff x="469440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69440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298440" cy="298440"/>
            <a:chOff x="6108840" y="969840"/>
            <a:chExt cx="298440" cy="29844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37960" cy="238320"/>
            <a:chOff x="5035680" y="1871640"/>
            <a:chExt cx="237960" cy="23832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38320" cy="237960"/>
            <a:chOff x="6126120" y="1036800"/>
            <a:chExt cx="238320" cy="23796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383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3ACC-09DB-413D-8FA8-A9B1A4578E84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168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Пётр Ильич Чайковск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1168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000"/>
                </a:solidFill>
                <a:latin typeface="Verdana"/>
              </a:rPr>
              <a:t>Подготовила Васильева Лиана Витальевна ученица 4б клас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2" descr="C:\Users\Админ\AppData\Local\Microsoft\Windows\Temporary Internet Files\Content.IE5\LNRO3TRX\MM900205401[1].gif"/>
          <p:cNvPicPr/>
          <p:nvPr/>
        </p:nvPicPr>
        <p:blipFill>
          <a:blip r:embed="rId1"/>
          <a:stretch/>
        </p:blipFill>
        <p:spPr>
          <a:xfrm>
            <a:off x="-252360" y="3284640"/>
            <a:ext cx="9577440" cy="3573360"/>
          </a:xfrm>
          <a:prstGeom prst="rect">
            <a:avLst/>
          </a:prstGeom>
          <a:ln w="0">
            <a:noFill/>
          </a:ln>
        </p:spPr>
      </p:pic>
      <p:pic>
        <p:nvPicPr>
          <p:cNvPr id="279" name="Kalimba.mp3" descr=""/>
          <p:cNvPicPr/>
          <p:nvPr/>
        </p:nvPicPr>
        <p:blipFill>
          <a:blip r:embed="rId2"/>
          <a:stretch/>
        </p:blipFill>
        <p:spPr>
          <a:xfrm>
            <a:off x="-3637080" y="9810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80" name="Ivan_Petrov_Krauze_-_P.I._CHaykovskiy_Blagoslovlyayu_vas_lesa_(get-tune.net).mp3" descr=""/>
          <p:cNvPicPr/>
          <p:nvPr/>
        </p:nvPicPr>
        <p:blipFill>
          <a:blip r:embed="rId3"/>
          <a:stretch/>
        </p:blipFill>
        <p:spPr>
          <a:xfrm>
            <a:off x="428940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50602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445680"/>
            <a:ext cx="2660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иография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7640" y="907560"/>
            <a:ext cx="3562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ётр Ильич Чайковский родился 7 мая 1840 году и умер 6 ноября 1893 г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н обучался в Императорском училищ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по оконча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которого получил чин титулярного советника и стал работать в Министерстве юстиции.                            Всемирную славу Чайковскому принесли  балеты «Лебединое озеро», «Щелкунчик», «Спящая красавицы» и оперы «Евгений Онегин», «Пиковая дама», «Орлеанская дева» и друг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2" descr="C:\Users\Админ\AppData\Local\Microsoft\Windows\Temporary Internet Files\Content.IE5\LNRO3TRX\MM900303453[1].gif"/>
          <p:cNvPicPr/>
          <p:nvPr/>
        </p:nvPicPr>
        <p:blipFill>
          <a:blip r:embed="rId1"/>
          <a:stretch/>
        </p:blipFill>
        <p:spPr>
          <a:xfrm>
            <a:off x="3851280" y="1197000"/>
            <a:ext cx="468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ётр Ильич Чайков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Объект 3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8360" cy="4608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Админ\AppData\Local\Microsoft\Windows\Temporary Internet Files\Content.IE5\LNRO3TRX\MM900283002[1].gif"/>
          <p:cNvPicPr/>
          <p:nvPr/>
        </p:nvPicPr>
        <p:blipFill>
          <a:blip r:embed="rId2"/>
          <a:stretch/>
        </p:blipFill>
        <p:spPr>
          <a:xfrm>
            <a:off x="-757080" y="2924280"/>
            <a:ext cx="288108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9800" y="1387080"/>
            <a:ext cx="34812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чное Петра Ильича Чайковск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09800" y="2499840"/>
            <a:ext cx="34812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Пётр Ильич Чайковский очень любил осень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он говорил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«Чудесное время года когда и не жарко и не холодно, когда кружат листья разных цветов и когда проходят дожди в воздухи такой свежий что не описать». Он очень любил погулять по осеннему парку. Ещё он очень любил детей и всё врем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когда он приезжал на свою дачу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то сразу садился за рояль в беседке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и его музыка была слышна везд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огда все дети к нему сбегались и слушал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2" descr="C:\Users\Админ\AppData\Local\Microsoft\Windows\Temporary Internet Files\Content.IE5\Q9I9N8AU\MM900284163[1].gif"/>
          <p:cNvPicPr/>
          <p:nvPr/>
        </p:nvPicPr>
        <p:blipFill>
          <a:blip r:embed="rId1"/>
          <a:stretch/>
        </p:blipFill>
        <p:spPr>
          <a:xfrm>
            <a:off x="4011480" y="907920"/>
            <a:ext cx="5148360" cy="468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мпозито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1" name="Объект 3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348120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должае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9800" y="1483920"/>
            <a:ext cx="348120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В 1885 году он становится директором отделения российского музыкального общества в Москве. В 1893 году Чайковский удостоился званием Почётного доктора. 16 октября 1893 года состоялся последний концерт композитора, он дирижировал Шестой симфон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4" name="Picture 2" descr="C:\Users\Админ\AppData\Local\Microsoft\Windows\Temporary Internet Files\Content.IE5\RGY7TMVE\MM900188333[1].gif"/>
          <p:cNvPicPr/>
          <p:nvPr/>
        </p:nvPicPr>
        <p:blipFill>
          <a:blip r:embed="rId1"/>
          <a:stretch/>
        </p:blipFill>
        <p:spPr>
          <a:xfrm>
            <a:off x="5003640" y="1916280"/>
            <a:ext cx="3097440" cy="2290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79640" y="3213000"/>
            <a:ext cx="61214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мерть Петра Ильича Чайковск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99640" y="4869000"/>
            <a:ext cx="711684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9000"/>
                </a:solidFill>
                <a:latin typeface="Verdana"/>
              </a:rPr>
              <a:t>6 ноября 1893 года в Санкт-Петербурге скончался от холеры. Величайший музыкант, композитор, педагог оставил после себя 10 опер, 76 </a:t>
            </a:r>
            <a:r>
              <a:rPr b="1" lang="en-US" sz="2000" spc="-1" strike="noStrike">
                <a:solidFill>
                  <a:srgbClr val="ff9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9000"/>
                </a:solidFill>
                <a:latin typeface="Verdana"/>
              </a:rPr>
              <a:t>пусов, 3 балета и 4 сюит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7" name="Picture 2" descr="C:\Users\Админ\AppData\Local\Microsoft\Windows\Temporary Internet Files\Content.IE5\Q9I9N8AU\MM900315817[1].gif"/>
          <p:cNvPicPr/>
          <p:nvPr/>
        </p:nvPicPr>
        <p:blipFill>
          <a:blip r:embed="rId1"/>
          <a:stretch/>
        </p:blipFill>
        <p:spPr>
          <a:xfrm>
            <a:off x="3203640" y="696960"/>
            <a:ext cx="396072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1:11:32Z</dcterms:created>
  <dc:creator>Васильева Лиана Витальевна</dc:creator>
  <dc:description/>
  <dc:language>en-US</dc:language>
  <cp:lastModifiedBy>Школа</cp:lastModifiedBy>
  <dcterms:modified xsi:type="dcterms:W3CDTF">2013-04-13T18:11:28Z</dcterms:modified>
  <cp:revision>13</cp:revision>
  <dc:subject/>
  <dc:title>Пётр Ильич Чайковский</dc:title>
</cp:coreProperties>
</file>