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E96F-8F54-4FC9-84E6-E0C27047D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228-01AA-4914-A361-A81A16033F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DBB-0BBD-4458-AACB-CCD85CCD99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ем похожи эти письма? Каков тон, настроение адресан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зрослев, Дмитрий хотел бросить такую учебу, но отец его удержал. Неудивительно, что потом юноша сам решил определить свою будущую профессию и поступил в Медико-хирургическую академию в Петербурге (187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937-A7EE-48A6-8572-0EDD2486FC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ыла ли у вас, ребята, когда-нибудь «окрыляющая радость своей силы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газетная работа отнимает много времени. Дмитрий, не сдав экзамены за 4 курс академии, уходит и поступает на юридический факультет. Оттуда его исключают за неуплату взно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ателя подстерегает новый удар судьбы: первый роман не печатают, рукопись возвращают. Дмитрий уезжает из Петербурга, на родину. Что ободрит ег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808D-6A5C-4EDD-8D28-48A24E2787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метьте, как изменился тон писем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и годы Мамин-Сибиряк пробует писать, подрабатывая в газе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E1F4-5ED5-4712-B8E1-69F5EC8210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авайте и мы с вами  припомним, кому родная земля, природа помог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3E8D-88CD-4023-8BCD-41D001E2C5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кой «рецепт» от душевных ран был у Дмитрия Наркисович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кором времени в семье случается горе – умирает отец. Дмитрий, чтобы кормить младших братьев и сестер, вынужден был работать учителем в богатых семь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к вы себе представляете эту работ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4DF3-2353-423D-890A-80941514EB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мысли о литературной работе не покидают его. Однако, столичные газеты рукописей не принимаю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друг – удач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B51-5743-41E4-8C69-7948A3618A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колько лет прошло до признания таланта писател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AF1-EB29-426F-99FE-46583EB8BC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80-е годы писатель много путешествует по Уралу: узнает жизнь. Побывал он и у нас, в Касл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38F-4254-4A3F-963D-B99BD9BDFF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бята, а вы узнали, какое это озер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B1C6-B937-4412-AA5B-3980692AA0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 какие впечатления сохранились у вас после экскурсии в цех художественного литья? Подходит ли авторское описание к современным рабочим зав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каждой поездки у Мамина-Сибиряка появлялись новые произ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белая полоса в жизни писателя вновь меняется с черной: умирает при родах жена Мар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26F-7E14-47BE-9CC8-698A3B947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C89-0D12-49F1-BEB6-E406CADC21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то может сделать человек с такими мысл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то же остановило Дмитрия Наркисовича от страшного шага? (литература и любовь к дочк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уже знаете, что Аленушка была очень болезненным ребенком. Сидя по ночам у ее кроватки, отец сочинял сказ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FC5-53BA-47B3-8096-436CF0696C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ленушкины сказки» - это моя любимая книжка – ее писала сама любовь, и, поэтому она переживет все остальное», - говорил Дмитрий Наркисови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одвиг отцовства» – так написали в одной книге о Мамине-Сибиряке. Согласны ли вы с этим определ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е с Аленушкой Дмитрий Наркисович часто ездил в Ял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 какими писателями он мог там встречаться? /С Чеховым, Буниным, Горьким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D14-2D3A-4863-A5B4-5236A8D838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се ли у нас такие, как предполагает А.П.Чех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 в рассказах Мамина-Сибиря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как отзывается о своих уральских рассказах сам писат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3B9A-540B-45A0-A58B-677888AA90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то в этих словах: личная гордость или другое чувств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последних годах жизни размышлять всегда грустно. О  последних годах жизни Мамина-Сибиряка говорить особенно тяжел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сильно болел, почти никуда не выход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7CFF-7401-45D5-9D3B-03B031A6F9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р он 14 ноября 1912 года. По завещанию был похоронен в Александро-Невской лавре. Дочь пережила отца всего на два года. На их могилах позже установили памятн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ким вы его представляе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уральская скала, которую он так любил, два бюста из гранита, а сверху надпись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1695-DF30-4049-979C-983CFFD2B5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Что вас удивило? Были ли похожие детские впечатления у других знакомых нам авто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отца Митя услышал слова, ставшие его жизненным девизом: «Знание – сила!» Любовь к книге он сохранил на всю жизнь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1F23-39C3-452C-B2D0-640669F222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му близки эти сло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 лет Митя поступил в школу, в Висиме. А после их с братом решили отправить в Екатеринбург, в духовную шко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4621-435C-45BA-8488-DCF9A14D60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чему эта холодная женщина плакала? Действительно ли она такая, какой мы ее себе представили в начал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Экзамен в духовную школу, который принимал у Мити батюшка, мальчик в отличие от брата провалил… Случайно ли эт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тя с радостью возвращается в свой любимый мир, в свой Висим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A01-D1F5-42EA-8E7D-D3F91E6E20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F29E-41E8-49AA-9DA4-EF987F3188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617F-8265-451E-984F-91514DDCB6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го вам напоминает образ этого дьячка? /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раса из рассказа «Приемыш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Чем они похожи? Можно предположить, что это и есть прототип гер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года в родных местах пролетели быстро. Митя все-таки поступает в духовную шко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к вы ее себе представляете? Чему там могли учить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E89B-6DE9-4F1A-846B-3595EB1F45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ы, городская школа встретила Митю неприветливо: на первой же перемене его избили просто за то, что он «квартирный». Учителя заставляли заучивать детей огромные тексты. Вечерами в каждом углу мальчики зубрили уроки. По ночам в спальнях раздавались всхлипы и ст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8 году Дмитрия отправили в новое учебное заведение – Пермскую духовную семинар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A1F-3315-4B5D-BD6B-AED9E8E7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9E1-F0C6-464B-8287-2D2C6B7A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C77-83F6-430C-976E-B7BC1A5F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ED0-43CD-4B96-862E-DC308252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641-96A0-44CD-83DA-4EE8E98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08A-0F65-4F84-AD23-A9BB653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E68-1615-4F99-95A8-D94A2698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898-9C3E-4181-B116-5535B867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AB5-22B7-42C9-8FC9-DBFCF19C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8B8-7254-42F4-8544-CB289F2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92A-8CDB-44DC-9030-939FEBD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B89-211F-4A2B-B56C-9D89DE9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0352-2D04-4474-9AD3-CCA69AF197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«Певец  Урала»</a:t>
            </a:r>
            <a:br>
              <a:rPr sz="54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/О жизни и творчестве Д.Н. Мамина-Сибиряка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Подготови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МОУ «Каслинская СОШ №27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Честнокова Т.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http://www.mamin-sibiryak.ru/components/com_datsogallery/sub_wm.php?src=/var/www/pisatelold/data/www/mamin-sibiryak.ru/components/com_datsogallery/img_pictures/mamin7_20090706_1267709081.jpg"/>
          <p:cNvPicPr/>
          <p:nvPr/>
        </p:nvPicPr>
        <p:blipFill>
          <a:blip r:embed="rId1"/>
          <a:stretch/>
        </p:blipFill>
        <p:spPr>
          <a:xfrm>
            <a:off x="3708360" y="476280"/>
            <a:ext cx="1871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Святые отцы выкапывают рухляд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икуда негодную и заставляют нас 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учивать как что-то путное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/письмо 1868 г.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Первые газетные строки! Сколько 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этом простом деле скрытой молод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оэзии, какое пробужд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самостоятельной деятельност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какая окрыляющая радость сво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силы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из более поздних воспоминаний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С утра лекции, днем /обязательно!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литературная работа /да! да! над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родолжать роман/, вечером библиотек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а тут еще студенты звали на сходку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письмо 1872 г.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Родина – наша вторая мать! А так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Родина, как Урал, тем паче. Припомн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наших богатырей, которые, падая 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ырую землю, получали удесятеренну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илу. Это глубоко верная мысль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/1883 г., брату Владимиру в Москву/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«Когда мне делается грустно, я уношусь мыслью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родные зеленые горы, мне начинает казаться, ч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и небо там выше и яснее, и люди такие добрые,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сам я делаюсь лучше. Да, я опять хожу по эт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горам, поднимаюсь на каменистые кручи, опускаю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в глубокие лога, подолгу сижу около горных  ключик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дышу чудным горным воздухом, напоен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ароматами горных трав и цветов, и без конц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слушаю, что шепчет столетний лес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Душа болит от сознания, что пропадаю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лы и время на дурацкой неблагодар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боте с разными купеческими сынкам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/ июнь 1881 г., брату Владимиру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Володька, ликуй! Только что получ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исьмо от самого Салтыкова о том, чт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мой очерк «Золотуха» охотно прин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редакцией и будет помещен в од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из ближайших книжек с платой по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рублей за лист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30 декабря 1882 г., брату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Милая мама! Ты можешь себ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редставить мою радость. Десять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самого упорного и настойчивого тру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начинают освещаться первы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успеха, который дорог именно сейчас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из письма  к матери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И вот он едет. Впереди синей полос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ветится горное озеро. За ним все выше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выше поднимаются Вишневые горы, буд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вырастают на глазах. К самому завод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дорога шла верст десять по берегу озер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«В тот же день Дмитрий Наркисович отправи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осматривать известное на весь ми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художественное литье. Фабрика носила сле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начавшегося разрушения. Видно было, что здес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недавно кипела работа. В громадном фабричн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корпусе больше сотни рабочих возились око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только что отлитых вещей… Рабочие были в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как на подбор: видный рослый народ. Прият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было посмотреть, как работа горела в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проворных руках…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эпизодами жизни уральского писателя, отразившимися в его творче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умение готовиться к выразительному чтению /обдумывать содержание, представлять изображаемую картину, осмыслять исполнительскую задачу/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мение различать эмоциональное состояние человека по его письменной речи, размышлять над причинами, вызвавшими подобное состоя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интерес к осмыслению авторской позиции, особенностям его видения мир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У меня одна мысль о Марусе и я, вероятн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ойду на ней с ума. Бывают дни, когда мн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елается просто страшно. Мыс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утаются, а сердце сосет могиль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ска. Хожу гулять, чтобы гром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говаривать с Марусей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/сестре Елизавете/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В окно заглянула большая лу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В постели Аленушка. Дремлет. Боль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-Аленушка, дочка, усни, засыпа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Родная моя, баю-баюшки, ба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Смотри-ка, смотри: у кроватки твоей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Петух-забияка да вор Вороб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Вот Мишка подходит, вот Заяц-храб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О них тебе сказку расскажет оте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Аленушка дремлет тиха и блед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А ночь бесконечна, и сказка длинн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/Л. Преображ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«Аленушкины сказки»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«Аленушка дала мне и «Детские тени», и дет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рассказы. Я услышу ее детский лепет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почувствую себя хорошо-хорошо. Ведь в 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моя молодость, моя любовь, последнее, д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чего стоит жить. Если бы эта капель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понимала, что она везет на себе целу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детскую литературу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/А.А. Давыдовой, лето 1894 г.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«Больше всего нравится в здешних местах м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Мамин-Сибиряк, описывающий Ур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Читая его книги, попадаешь в общество эт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крепышей – сильных, цепких, устойчивых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и как-то весело станов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Там, на Урал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должно быть все такие: сколько бы их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толкли, а они все зерно, а не мук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/Чехов А.П., из письма сестре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http://www.mamin-sibiryak.ru/components/com_datsogallery/sub_wm.php?src=/var/www/pisatelold/data/www/mamin-sibiryak.ru/components/com_datsogallery/img_pictures/mamin9_20090706_2094939488.jpg"/>
          <p:cNvPicPr/>
          <p:nvPr/>
        </p:nvPicPr>
        <p:blipFill>
          <a:blip r:embed="rId2"/>
          <a:stretch/>
        </p:blipFill>
        <p:spPr>
          <a:xfrm>
            <a:off x="684360" y="3141720"/>
            <a:ext cx="21715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Читайте мои уральские рассказы. Э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лучшее, что у меня есть. Вырос там, впита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в себя. А то пишу я также роман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Знаете, такие большие, длинные… Но сво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рассказы об Урале я больше люблю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/профессору Ф.Д. Батюшкову, в беседе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Лавочник, лет сорок  честно торговавш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одной улице, становится уважаем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цом…Старый доктор – то же сам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харку, прослужившую много лет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дном доме, уважают и чтут. 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рый писа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оперный певец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терявший голос…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://www.mamin-sibiryak.ru/components/com_datsogallery/sub_wm.php?src=/var/www/pisatelold/data/www/mamin-sibiryak.ru/components/com_datsogallery/img_pictures/mamin6_20090706_1051939659.jpg"/>
          <p:cNvPicPr/>
          <p:nvPr/>
        </p:nvPicPr>
        <p:blipFill>
          <a:blip r:embed="rId2"/>
          <a:stretch/>
        </p:blipFill>
        <p:spPr>
          <a:xfrm>
            <a:off x="826920" y="2924280"/>
            <a:ext cx="21607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 flipH="1">
            <a:off x="899280" y="620640"/>
            <a:ext cx="7696440" cy="5715000"/>
          </a:xfrm>
          <a:prstGeom prst="bevel">
            <a:avLst>
              <a:gd name="adj" fmla="val 1059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Жить тысячью жизн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трад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 радоваться тысяч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ердец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т гд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стоящая жизнь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стоящее счасть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.Н. Мамин-Сибиря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памятник Д.Н. Мамин-Сибиряк"/>
          <p:cNvPicPr/>
          <p:nvPr/>
        </p:nvPicPr>
        <p:blipFill>
          <a:blip r:embed="rId2"/>
          <a:stretch/>
        </p:blipFill>
        <p:spPr>
          <a:xfrm>
            <a:off x="1547640" y="1268280"/>
            <a:ext cx="2381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«Шкатулка откровений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Письмо писате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3068280"/>
            <a:ext cx="7772760" cy="2478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0760">
            <a:solidFill>
              <a:srgbClr val="008080"/>
            </a:solidFill>
            <a:round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Здравствуйте,……. Дмитрий Наркисович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Я прочитал(а) Ваши ………..произведения: 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/впечатления, отзыв о прочитанном, диалог с автором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На сегодняшнем уроке 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/впечатления, мысли, чувства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Фамилия, имя адреса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Файл:Dmitry Narkisovich Mamin-Sibiryak.jpg"/>
          <p:cNvPicPr/>
          <p:nvPr/>
        </p:nvPicPr>
        <p:blipFill>
          <a:blip r:embed="rId2"/>
          <a:stretch/>
        </p:blipFill>
        <p:spPr>
          <a:xfrm>
            <a:off x="1195560" y="-152280"/>
            <a:ext cx="2912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педагог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й материал можно использовать в начальной школе в урочное и внеуроч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е занятия учащиеся самостоятельно готовятся к выразительному чтению пис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ем под руководством учителя организуется чтение и обсуждение воспоминаний писа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апе рефлексии детям предлагается написать свое письмо-отзыв в Шкатулку Откров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робный конспект занятия можно найти в приложении к программе по литературному краеведению на уроках чтения в начальной школе «Самоцветное слово Урала» /автор: Честнокова Т.П./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«Если возможны хорошие священники, то м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тец был одним  из них… Мой отец был сам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спокойным человеком, какого  мне приходило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встречать. От него отходила какая-то си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на чувствовалась окружающими… М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никогда не ласкала нас с братом. Я не слыхива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т нее более нежного обращения, кром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быкновенного Мити, ни в минуту радости, ни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минуту гнев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«Книга – это живая нить, котор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выводит из детской комнаты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соединяет с остальным миром, э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весенний луч, который заставля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пробуждаться дремлющие си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детской души и вызывает ро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брошенных на эту почву семян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Рано утром к дому подкатила плетен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ец привязал на задок багаж и сел с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я не крепился, но все же не м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держать слез. Коля плакал навзры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зле дома стояла мать и утирал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лезы. И покуда видно было ее, мы вс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глядывались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…И вот я снова в родном гнезде. К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ветлый сон, пролетели два года. Целы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днями я пропадал тогда в лесу с Кос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Рябовым и дьячком Матвеич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Молчаливый при людях, Матвеи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тановился совсем другим человеком в лес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Он до самозабвения любил природ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Здесь только раскрывалась его прост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и чистая душ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Идем мы лесом – старик приводит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порядок буйную горную растительнос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тут сухое дерево упало и придави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молодую поросль, там снегом искриви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побеги, там скотина полом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У Матвеича были сотни знаком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деревьев, которым он спас жиз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Он заходил навестить сво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воспитанников и любовался им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762120" y="838080"/>
            <a:ext cx="7924680" cy="5334120"/>
          </a:xfrm>
          <a:prstGeom prst="foldedCorner">
            <a:avLst>
              <a:gd name="adj" fmla="val 1752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«Больше всего старика волновали хищн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порубки на его любимой осиновой го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8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Дерево-то не сумели по-настоящ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выбрать и срубили его не по-настоя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Выхватили одну середку, а остальное буд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зря гнить в лесу да другим мешать. Ежели б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дерево умело говорить, когда его рубят, что 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тогда было? Ведь оно не мертвое, а живое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«Екатеринбургское училище не дал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чего моему уму, я в нем н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читал ни одной книги 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должении 2-х лет и н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иобрел никаких знаний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письмо 1870 г.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6:19:09Z</dcterms:created>
  <dc:creator>TEST</dc:creator>
  <dc:description/>
  <dc:language>en-US</dc:language>
  <cp:lastModifiedBy>User</cp:lastModifiedBy>
  <dcterms:modified xsi:type="dcterms:W3CDTF">2013-04-13T17:35:19Z</dcterms:modified>
  <cp:revision>39</cp:revision>
  <dc:subject/>
  <dc:title>«Певец  Урала» /О жизни и творчестве Д.Н. Мамина-Сибиряка/</dc:title>
</cp:coreProperties>
</file>