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02DE-BB3C-470B-B30C-9982F969C8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4C31-9C62-4D20-A7E2-4EF8CA4C17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CC9E-FADA-4EE7-9B3C-F279852B7E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Чем похожи эти письма? Каков тон, настроение адресант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зрослев, Дмитрий хотел бросить такую учебу, но отец его удержал. Неудивительно, что потом юноша сам решил определить свою будущую профессию и поступил в Медико-хирургическую академию в Петербурге (187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B8A1-13B6-468A-93A0-FC8B532CCA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ыла ли у вас, ребята, когда-нибудь «окрыляющая радость своей силы»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ако, газетная работа отнимает много времени. Дмитрий, не сдав экзамены за 4 курс академии, уходит и поступает на юридический факультет. Оттуда его исключают за неуплату взно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ателя подстерегает новый удар судьбы: первый роман не печатают, рукопись возвращают. Дмитрий уезжает из Петербурга, на родину. Что ободрит ег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A63A-F9BF-4FB8-803A-B17DE316DF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метьте, как изменился тон писем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и годы Мамин-Сибиряк пробует писать, подрабатывая в газе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9342-C9CD-4BEE-8B91-D8FE8AE8CB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Давайте и мы с вами  припомним, кому родная земля, природа помогал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A03B-C4ED-4263-86E1-B8915E8761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кой «рецепт» от душевных ран был у Дмитрия Наркисович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кором времени в семье случается горе – умирает отец. Дмитрий, чтобы кормить младших братьев и сестер, вынужден был работать учителем в богатых семь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к вы себе представляете эту работ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6DBB-43AF-440F-97B3-C996595FAE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мысли о литературной работе не покидают его. Однако, столичные газеты рукописей не принимаю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друг – удач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B9D3-2F37-48F0-8D79-05A4320C3F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колько лет прошло до признания таланта писател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8BC-CED1-4AC4-AED4-C4073F2177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80-е годы писатель много путешествует по Уралу: узнает жизнь. Побывал он и у нас, в Касл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8737-83DE-4DC2-AA34-AEBA92A78C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бята, а вы узнали, какое это озер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A4A0-8AA5-4DE3-A566-A43BF2325A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 какие впечатления сохранились у вас после экскурсии в цех художественного литья? Подходит ли авторское описание к современным рабочим завод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 каждой поездки у Мамина-Сибиряка появлялись новые произ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 белая полоса в жизни писателя вновь меняется с черной: умирает при родах жена Мар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37F4-E096-49C4-B2F4-4C7FE393DC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F36C-C761-4896-A25B-EA2ACC9D7C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Что может сделать человек с такими мыслям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Что же остановило Дмитрия Наркисовича от страшного шага? (литература и любовь к дочк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 уже знаете, что Аленушка была очень болезненным ребенком. Сидя по ночам у ее кроватки, отец сочинял сказ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79B6-9FEA-40E2-B8DC-5826009001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Аленушкины сказки» - это моя любимая книжка – ее писала сама любовь, и, поэтому она переживет все остальное», - говорил Дмитрий Наркисови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одвиг отцовства» – так написали в одной книге о Мамине-Сибиряке. Согласны ли вы с этим определение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месте с Аленушкой Дмитрий Наркисович часто ездил в Ял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 какими писателями он мог там встречаться? /С Чеховым, Буниным, Горьким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A6BC-68A9-43CB-B717-B3DD80085C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се ли у нас такие, как предполагает А.П.Чех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А в рассказах Мамина-Сибиря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как отзывается о своих уральских рассказах сам писат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CF2D-D9C9-4254-81ED-0B71A274BD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Что в этих словах: личная гордость или другое чувств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последних годах жизни размышлять всегда грустно. О  последних годах жизни Мамина-Сибиряка говорить особенно тяжел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сильно болел, почти никуда не выход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A2EC-537C-4E44-93D6-13AA8A6E9D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р он 14 ноября 1912 года. По завещанию был похоронен в Александро-Невской лавре. Дочь пережила отца всего на два года. На их могилах позже установили памятни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аким вы его представляет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уральская скала, которую он так любил, два бюста из гранита, а сверху надпись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28E-ECC5-4EE7-8EB1-AEB3557AF4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Что вас удивило? Были ли похожие детские впечатления у других знакомых нам автор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отца Митя услышал слова, ставшие его жизненным девизом: «Знание – сила!» Любовь к книге он сохранил на всю жизнь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F7FD-647F-434F-8790-7C676CF274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му близки эти слов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7 лет Митя поступил в школу, в Висиме. А после их с братом решили отправить в Екатеринбург, в духовную шко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1029-D254-43DE-9F31-94BB242F4B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чему эта холодная женщина плакала? Действительно ли она такая, какой мы ее себе представили в начал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Экзамен в духовную школу, который принимал у Мити батюшка, мальчик в отличие от брата провалил… Случайно ли это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тя с радостью возвращается в свой любимый мир, в свой Висим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B1A1-ABF0-40D9-9AD5-B9DD755142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5748-FDF6-4E7C-BEA1-6CF874868A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BD72-C4F5-41EA-8733-5509FA1529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го вам напоминает образ этого дьячка? /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араса из рассказа «Приемыш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Чем они похожи? Можно предположить, что это и есть прототип гер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года в родных местах пролетели быстро. Митя все-таки поступает в духовную шко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ак вы ее себе представляете? Чему там могли учить детей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AD7A-4892-4652-A12A-212E3DE1B3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ы, городская школа встретила Митю неприветливо: на первой же перемене его избили просто за то, что он «квартирный». Учителя заставляли заучивать детей огромные тексты. Вечерами в каждом углу мальчики зубрили уроки. По ночам в спальнях раздавались всхлипы и ст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868 году Дмитрия отправили в новое учебное заведение – Пермскую духовную семинар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E47-098C-4130-8158-AB367FC1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921-B423-40E2-ACDE-760C149B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34F-BB1E-4733-8FC6-9CD7055A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D26-1587-482F-987B-05D1119B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616-FF3E-4982-834E-1EB20D8F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106-F917-40FC-B30F-7AAC417D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FCF-BA2D-48F7-ACC7-FBAEF0AE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12C-EAD7-4729-8903-EBD8121B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422-3469-48E1-BF3C-6CD668B3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AE0-BE05-4508-BA25-373CB757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126-EFAD-45C3-9AB2-B8046781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8FA-6F59-480E-A6C0-9ED38F7A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0E33-39D3-47AE-85AF-458CE8D45F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«Певец  Урала»</a:t>
            </a:r>
            <a:br>
              <a:rPr sz="5400"/>
            </a:b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/О жизни и творчестве Д.Н. Мамина-Сибиряка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Times New Roman"/>
              </a:rPr>
              <a:t>Подготовил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Times New Roman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Times New Roman"/>
              </a:rPr>
              <a:t>МОУ «Каслинская СОШ №27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80"/>
                </a:solidFill>
                <a:latin typeface="Times New Roman"/>
              </a:rPr>
              <a:t>Честнокова Т.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http://www.mamin-sibiryak.ru/components/com_datsogallery/sub_wm.php?src=/var/www/pisatelold/data/www/mamin-sibiryak.ru/components/com_datsogallery/img_pictures/mamin7_20090706_1267709081.jpg"/>
          <p:cNvPicPr/>
          <p:nvPr/>
        </p:nvPicPr>
        <p:blipFill>
          <a:blip r:embed="rId1"/>
          <a:stretch/>
        </p:blipFill>
        <p:spPr>
          <a:xfrm>
            <a:off x="3708360" y="476280"/>
            <a:ext cx="1871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Святые отцы выкапывают рухляд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икуда негодную и заставляют нас 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учивать как что-то путное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/письмо 1868 г.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«Первые газетные строки! Сколько 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этом простом деле скрытой молод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поэзии, какое пробужде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самостоятельной деятельност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какая окрыляющая радость сво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силы!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/из более поздних воспоминаний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«С утра лекции, днем /обязательно!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литературная работа /да! да! над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продолжать роман/, вечером библиотек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а тут еще студенты звали на сходку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/письмо 1872 г.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«Родина – наша вторая мать! А так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Родина, как Урал, тем паче. Припомн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наших богатырей, которые, падая н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сырую землю, получали удесятеренну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силу. Это глубоко верная мысль!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/1883 г., брату Владимиру в Москву/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«Когда мне делается грустно, я уношусь мыслью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родные зеленые горы, мне начинает казаться, ч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и небо там выше и яснее, и люди такие добрые,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сам я делаюсь лучше. Да, я опять хожу по эт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горам, поднимаюсь на каменистые кручи, опускаю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в глубокие лога, подолгу сижу около горных  ключик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дышу чудным горным воздухом, напоенны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ароматами горных трав и цветов, и без конц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слушаю, что шепчет столетний лес…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Душа болит от сознания, что пропадаю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илы и время на дурацкой неблагодар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боте с разными купеческими сынкам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/ июнь 1881 г., брату Владимиру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«Володька, ликуй! Только что получи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письмо от самого Салтыкова о том, что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мой очерк «Золотуха» охотно приня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редакцией и будет помещен в од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из ближайших книжек с платой по 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рублей за лист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/30 декабря 1882 г., брату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«Милая мама! Ты можешь себ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представить мою радость. Десять 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самого упорного и настойчивого тру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начинают освещаться первыми луч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успеха, который дорог именно сейчас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Monotype Corsiva"/>
              </a:rPr>
              <a:t>/из письма  к матери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«И вот он едет. Впереди синей полос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светится горное озеро. За ним все выше 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выше поднимаются Вишневые горы, буд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вырастают на глазах. К самому завод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дорога шла верст десять по берегу озера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«В тот же день Дмитрий Наркисович отправил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осматривать известное на весь ми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художественное литье. Фабрика носила след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начавшегося разрушения. Видно было, что здес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недавно кипела работа. В громадном фабричн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корпусе больше сотни рабочих возились око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только что отлитых вещей… Рабочие были в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как на подбор: видный рослый народ. Прият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было посмотреть, как работа горела в 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проворных руках…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накомить учащихся с эпизодами жизни уральского писателя, отразившимися в его творче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ть умение готовиться к выразительному чтению /обдумывать содержание, представлять изображаемую картину, осмыслять исполнительскую задачу/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умение различать эмоциональное состояние человека по его письменной речи, размышлять над причинами, вызвавшими подобное состояни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изировать интерес к осмыслению авторской позиции, особенностям его видения мира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У меня одна мысль о Марусе и я, вероятно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ойду на ней с ума. Бывают дни, когда мн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делается просто страшно. Мысл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утаются, а сердце сосет могильна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ска. Хожу гулять, чтобы громк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разговаривать с Марусей…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/сестре Елизавете/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В окно заглянула большая лу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В постели Аленушка. Дремлет. Боль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-Аленушка, дочка, усни, засыпа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Родная моя, баю-баюшки, ба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Смотри-ка, смотри: у кроватки твоей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Петух-забияка да вор Вороб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Вот Мишка подходит, вот Заяц-храбре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О них тебе сказку расскажет отец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Аленушка дремлет тиха и блед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А ночь бесконечна, и сказка длинна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/Л. Преображен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Monotype Corsiva"/>
              </a:rPr>
              <a:t>«Аленушкины сказки»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«Аленушка дала мне и «Детские тени», и дет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рассказы. Я услышу ее детский лепет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почувствую себя хорошо-хорошо. Ведь в н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моя молодость, моя любовь, последнее, д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чего стоит жить. Если бы эта капель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понимала, что она везет на себе целу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детскую литературу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Monotype Corsiva"/>
              </a:rPr>
              <a:t>/А.А. Давыдовой, лето 1894 г.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«Больше всего нравится в здешних местах м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Мамин-Сибиряк, описывающий Ура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Читая его книги, попадаешь в общество эт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крепышей – сильных, цепких, устойчивых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и как-то весело станов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Там, на Урал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должно быть все такие: сколько бы их 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толкли, а они все зерно, а не мук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/Чехов А.П., из письма сестре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http://www.mamin-sibiryak.ru/components/com_datsogallery/sub_wm.php?src=/var/www/pisatelold/data/www/mamin-sibiryak.ru/components/com_datsogallery/img_pictures/mamin9_20090706_2094939488.jpg"/>
          <p:cNvPicPr/>
          <p:nvPr/>
        </p:nvPicPr>
        <p:blipFill>
          <a:blip r:embed="rId2"/>
          <a:stretch/>
        </p:blipFill>
        <p:spPr>
          <a:xfrm>
            <a:off x="684360" y="3141720"/>
            <a:ext cx="21715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«Читайте мои уральские рассказы. Э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лучшее, что у меня есть. Вырос там, впита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в себя. А то пишу я также роман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Знаете, такие большие, длинные… Но сво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рассказы об Урале я больше люблю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/профессору Ф.Д. Батюшкову, в беседе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Лавочник, лет сорок  честно торговавш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одной улице, становится уважаемы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цом…Старый доктор – то же само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ухарку, прослужившую много лет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дном доме, уважают и чтут. 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арый писател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к оперный певец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терявший голос…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http://www.mamin-sibiryak.ru/components/com_datsogallery/sub_wm.php?src=/var/www/pisatelold/data/www/mamin-sibiryak.ru/components/com_datsogallery/img_pictures/mamin6_20090706_1051939659.jpg"/>
          <p:cNvPicPr/>
          <p:nvPr/>
        </p:nvPicPr>
        <p:blipFill>
          <a:blip r:embed="rId2"/>
          <a:stretch/>
        </p:blipFill>
        <p:spPr>
          <a:xfrm>
            <a:off x="826920" y="2924280"/>
            <a:ext cx="216072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2"/>
          <p:cNvSpPr/>
          <p:nvPr/>
        </p:nvSpPr>
        <p:spPr>
          <a:xfrm flipH="1">
            <a:off x="899280" y="620640"/>
            <a:ext cx="7696440" cy="5715000"/>
          </a:xfrm>
          <a:prstGeom prst="bevel">
            <a:avLst>
              <a:gd name="adj" fmla="val 1059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«Жить тысячью жизне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трад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и радоваться тысяч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ердец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от гд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стоящая жизнь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стоящее счасть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Д.Н. Мамин-Сибиря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памятник Д.Н. Мамин-Сибиряк"/>
          <p:cNvPicPr/>
          <p:nvPr/>
        </p:nvPicPr>
        <p:blipFill>
          <a:blip r:embed="rId2"/>
          <a:stretch/>
        </p:blipFill>
        <p:spPr>
          <a:xfrm>
            <a:off x="1547640" y="1268280"/>
            <a:ext cx="23814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333399"/>
                </a:solidFill>
                <a:latin typeface="Times New Roman"/>
              </a:rPr>
              <a:t>«Шкатулка откровений»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Monotype Corsiva"/>
              </a:rPr>
              <a:t>Письмо писател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3068280"/>
            <a:ext cx="7772760" cy="2478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0760">
            <a:solidFill>
              <a:srgbClr val="008080"/>
            </a:solidFill>
            <a:round/>
          </a:ln>
        </p:spPr>
        <p:txBody>
          <a:bodyPr anchor="t">
            <a:normAutofit fontScale="73000"/>
          </a:bodyPr>
          <a:p>
            <a:pPr marL="250200" indent="-250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Здравствуйте,……. Дмитрий Наркисович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Я прочитал(а) Ваши ………..произведения: 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/впечатления, отзыв о прочитанном, диалог с автором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На сегодняшнем уроке 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/впечатления, мысли, чувства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Monotype Corsiva"/>
              </a:rPr>
              <a:t>Фамилия, имя адреса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Файл:Dmitry Narkisovich Mamin-Sibiryak.jpg"/>
          <p:cNvPicPr/>
          <p:nvPr/>
        </p:nvPicPr>
        <p:blipFill>
          <a:blip r:embed="rId2"/>
          <a:stretch/>
        </p:blipFill>
        <p:spPr>
          <a:xfrm>
            <a:off x="1195560" y="-152280"/>
            <a:ext cx="29127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0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1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комендации педагога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й материал можно использовать в начальной школе в урочное и внеуроч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начале занятия учащиеся самостоятельно готовятся к выразительному чтению пис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ем под руководством учителя организуется чтение и обсуждение воспоминаний писа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тапе рефлексии детям предлагается написать свое письмо-отзыв в Шкатулку Открове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робный конспект занятия можно найти в приложении к программе по литературному краеведению на уроках чтения в начальной школе «Самоцветное слово Урала» /автор: Честнокова Т.П./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«Если возможны хорошие священники, то м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отец был одним  из них… Мой отец был сам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спокойным человеком, какого  мне приходило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встречать. От него отходила какая-то си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Она чувствовалась окружающими… М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никогда не ласкала нас с братом. Я не слыхива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от нее более нежного обращения, кром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обыкновенного Мити, ни в минуту радости, ни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Monotype Corsiva"/>
              </a:rPr>
              <a:t>минуту гнев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«Книга – это живая нить, котор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выводит из детской комнаты 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соединяет с остальным миром, эт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весенний луч, который заставля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пробуждаться дремлющие си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детской души и вызывает рос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8080"/>
                </a:solidFill>
                <a:latin typeface="Monotype Corsiva"/>
              </a:rPr>
              <a:t>брошенных на эту почву семян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«Рано утром к дому подкатила плетен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тец привязал на задок багаж и сел са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ак я не крепился, но все же не мо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держать слез. Коля плакал навзры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зле дома стояла мать и утирал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слезы. И покуда видно было ее, мы вс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глядывались…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«…И вот я снова в родном гнезде. Ка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светлый сон, пролетели два года. Целы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днями я пропадал тогда в лесу с Кост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Рябовым и дьячком Матвеич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Молчаливый при людях, Матвеич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становился совсем другим человеком в лес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Он до самозабвения любил природ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Здесь только раскрывалась его прост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и чистая душа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80"/>
                </a:solidFill>
                <a:latin typeface="Monotype Corsiva"/>
              </a:rPr>
              <a:t>«</a:t>
            </a: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Идем мы лесом – старик приводит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порядок буйную горную растительнос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тут сухое дерево упало и придавил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молодую поросль, там снегом искривил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побеги, там скотина полома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У Матвеича были сотни знакомы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деревьев, которым он спас жизн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Он заходил навестить сво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воспитанников и любовался им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762120" y="838080"/>
            <a:ext cx="7924680" cy="5334120"/>
          </a:xfrm>
          <a:prstGeom prst="foldedCorner">
            <a:avLst>
              <a:gd name="adj" fmla="val 1752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«Больше всего старика волновали хищн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порубки на его любимой осиновой го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808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Дерево-то не сумели по-настояще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выбрать и срубили его не по-настоящ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Выхватили одну середку, а остальное буд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зря гнить в лесу да другим мешать. Ежели б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дерево умело говорить, когда его рубят, что б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Monotype Corsiva"/>
              </a:rPr>
              <a:t>тогда было? Ведь оно не мертвое, а живое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685800" y="762120"/>
            <a:ext cx="7924680" cy="5333760"/>
          </a:xfrm>
          <a:prstGeom prst="foldedCorner">
            <a:avLst>
              <a:gd name="adj" fmla="val 19337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«Екатеринбургское училище не дал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ничего моему уму, я в нем н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читал ни одной книги 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одолжении 2-х лет и н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риобрел никаких знаний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/письмо 1870 г.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06:19:09Z</dcterms:created>
  <dc:creator>TEST</dc:creator>
  <dc:description/>
  <dc:language>en-US</dc:language>
  <cp:lastModifiedBy>User</cp:lastModifiedBy>
  <dcterms:modified xsi:type="dcterms:W3CDTF">2013-04-13T17:35:19Z</dcterms:modified>
  <cp:revision>39</cp:revision>
  <dc:subject/>
  <dc:title>«Певец  Урала» /О жизни и творчестве Д.Н. Мамина-Сибиряка/</dc:title>
</cp:coreProperties>
</file>