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4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8BA-81A3-409A-8F29-85D399D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5F17-5670-4366-994F-6A7EA88C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21A2-314D-4B76-AEBE-716CBF18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951-D571-4C6B-938F-4D6029C0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74D-FDD7-4EFE-A820-BA1A69EF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206-6A49-4B40-973E-106CA720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B0C-4BD5-4BB4-BEDF-F848EF9F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B30-30F0-450C-ACA5-E1995ADF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18E-95CE-44F1-A2E4-23A6BAB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847-738F-44D2-93DB-4D225848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19-88AC-4B53-A18D-80AC6BD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32A-60DA-40B5-84F6-7290A03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9496-CE97-4897-B4CF-C39022A83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57200" y="380880"/>
            <a:ext cx="74674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Азбу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фразеологизм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438280" y="4303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ыполнила Кочеткова Крист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ученица 1 «а» класса МБОУ «Поселковская СШ №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9"/>
          <p:cNvSpPr txBox="1"/>
          <p:nvPr/>
        </p:nvSpPr>
        <p:spPr>
          <a:xfrm>
            <a:off x="152280" y="228600"/>
            <a:ext cx="155592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1600200" y="457200"/>
            <a:ext cx="7162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омать дров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52280" y="1219320"/>
            <a:ext cx="8686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акое дрова, все известно, а вот «наломать» - означало в старину «заготовить», «приготовить». Сейчас фразеологический оборот «наломать дров» - значит – наделать глупостей по незнанию, повредив тем самым какому-нибудь делу или самому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Ученик Иван П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Наломал немало 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Хоть в лесу ни разу не был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Он боялся ком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Где ж дровишки отыск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Загляни к нему в тетрад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Там такое написал о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ожет ногу черт слом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Ри000"/>
          <p:cNvPicPr/>
          <p:nvPr/>
        </p:nvPicPr>
        <p:blipFill>
          <a:blip r:embed="rId1"/>
          <a:stretch/>
        </p:blipFill>
        <p:spPr>
          <a:xfrm>
            <a:off x="5562720" y="3200400"/>
            <a:ext cx="327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 такое горшок всем известно, а вершок- старинная русская мера длины, равная 4,5 см. Выражение буквально означает, что – выше горшка всего два вершка, то есть – очень маленький. Говорится шутливо или с пренебрежением; как правило о детях, когда хотят подчеркнуть, что они не только малы ещё ростом, но и ум их не вел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Я совсем уже большой-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Мне вчера пошел шестой!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Не услышу я  смешка: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«От горшка ты два вершка!»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533520" y="304920"/>
            <a:ext cx="8076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 горшка два верш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7" descr="24M5"/>
          <p:cNvPicPr/>
          <p:nvPr/>
        </p:nvPicPr>
        <p:blipFill>
          <a:blip r:embed="rId1"/>
          <a:stretch/>
        </p:blipFill>
        <p:spPr>
          <a:xfrm>
            <a:off x="5867280" y="3581280"/>
            <a:ext cx="30481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304920" y="304920"/>
            <a:ext cx="8610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исать как курица лапой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32367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ворится о том, кто пишет небрежно, некрасиво и неразборчи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57200" y="464832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Маленький Петя был высмеян пап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«Что же ты пишешь как курица лапой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Пискнул обиженно бедный ребен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2f9d"/>
                </a:solidFill>
                <a:latin typeface="Arial"/>
              </a:rPr>
              <a:t>«Я ведь не курица, только цыпленок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Рисхххх"/>
          <p:cNvPicPr/>
          <p:nvPr/>
        </p:nvPicPr>
        <p:blipFill>
          <a:blip r:embed="rId1"/>
          <a:stretch/>
        </p:blipFill>
        <p:spPr>
          <a:xfrm>
            <a:off x="4343400" y="1752480"/>
            <a:ext cx="2057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304920" y="0"/>
            <a:ext cx="8458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азводить тары-бар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28600" y="1244880"/>
            <a:ext cx="7848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ары-бары – пустые разговоры, болтовня. Вспомните просторечные слова «тараторить», «тарабанить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Разводить тары-бары»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начит болтать пустяки, заниматься пустым разговор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Две подружки, две Там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Разводили тары-б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Что за тары? Что за бар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Не поймет никак родня. Эти тары, эти ба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Arial"/>
              </a:rPr>
              <a:t>Это просто болтов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KISS5"/>
          <p:cNvPicPr/>
          <p:nvPr/>
        </p:nvPicPr>
        <p:blipFill>
          <a:blip r:embed="rId1"/>
          <a:stretch/>
        </p:blipFill>
        <p:spPr>
          <a:xfrm>
            <a:off x="6477120" y="48006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олк, как известно, зверь зубастый и страшный. Смотреть волком - смотреть недружелюбно, угрюм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Ну кто же мне все объясн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Чтоб смог понять я толк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Зайчишка этот зверь на ви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А </a:t>
            </a:r>
            <a:r>
              <a:rPr b="1" i="1" lang="ru-RU" sz="3200" spc="-1" strike="noStrike">
                <a:solidFill>
                  <a:srgbClr val="cc00ff"/>
                </a:solidFill>
                <a:latin typeface="Arial"/>
              </a:rPr>
              <a:t>смотрит</a:t>
            </a: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 – серым</a:t>
            </a:r>
            <a:r>
              <a:rPr b="1" i="1" lang="ru-RU" sz="3200" spc="-1" strike="noStrike">
                <a:solidFill>
                  <a:srgbClr val="cc00ff"/>
                </a:solidFill>
                <a:latin typeface="Arial"/>
              </a:rPr>
              <a:t> волком</a:t>
            </a:r>
            <a:r>
              <a:rPr b="0" i="1" lang="ru-RU" sz="3200" spc="-1" strike="noStrike">
                <a:solidFill>
                  <a:srgbClr val="cc00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609480" y="457200"/>
            <a:ext cx="8229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Смотреть волком</a:t>
            </a:r>
            <a:endParaRPr b="0" lang="en-US" sz="1800" spc="1" strike="noStrike">
              <a:ln w="3240">
                <a:solidFill>
                  <a:srgbClr val="ff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98" name="Picture 5" descr="chihuahuat"/>
          <p:cNvPicPr/>
          <p:nvPr/>
        </p:nvPicPr>
        <p:blipFill>
          <a:blip r:embed="rId1"/>
          <a:stretch/>
        </p:blipFill>
        <p:spPr>
          <a:xfrm>
            <a:off x="6400800" y="3200400"/>
            <a:ext cx="2514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09480" y="1894680"/>
            <a:ext cx="8182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да в русском фольклоре – символ покоя, неторопливости и тишины. Трава, в данном случае, - символ незаметности и незначительности.  «Тише воды, ниже травы» говорят обычно о робком, скромном, тихом, незаметном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Тише воды, ниже трав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Что это такое? Сны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533520" y="0"/>
            <a:ext cx="8076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ише воды,ниже травы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1" name="Picture 6" descr="OWLS"/>
          <p:cNvPicPr/>
          <p:nvPr/>
        </p:nvPicPr>
        <p:blipFill>
          <a:blip r:embed="rId1"/>
          <a:stretch/>
        </p:blipFill>
        <p:spPr>
          <a:xfrm>
            <a:off x="3124080" y="5334120"/>
            <a:ext cx="31626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ька- овощ с сильным острым вкусом и запахом. Редька издавна была на Руси повседневным кушаньем, особенно часто ели редьку в пост. А посты на Руси длились больше 200 дней в году. За это время редька успевала надоедать вс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 Хуже горькой редьки»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жасно сильно надоесть, опротив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- А почему, скажи, не вп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Идет ученье Петь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- А для него любой у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Хуже горькой редь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457200" y="0"/>
            <a:ext cx="8458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Хуже горькой редь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pic>
        <p:nvPicPr>
          <p:cNvPr id="104" name="Picture 6" descr="Рk"/>
          <p:cNvPicPr/>
          <p:nvPr/>
        </p:nvPicPr>
        <p:blipFill>
          <a:blip r:embed="rId1"/>
          <a:stretch/>
        </p:blipFill>
        <p:spPr>
          <a:xfrm>
            <a:off x="5181480" y="3962520"/>
            <a:ext cx="373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09480" y="1632600"/>
            <a:ext cx="7925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ешки, хоть  лесные, хоть грецкие- приходится «щелкать», чтобы достать ядрышко. Работа эта легкая, почти всегда успешная и дающая немедленный приятны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Щелкать как орешки»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значит легко справляться с каким-либо делом, без особых затруднений решать какую-либо проблему или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Я пример любой реша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Вычитаю, умножаю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А задачки все, без спеш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00"/>
                </a:solidFill>
                <a:latin typeface="Arial"/>
              </a:rPr>
              <a:t>Перещелкал как оре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533520" y="380880"/>
            <a:ext cx="80769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Щелкать как орешки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6" descr="hh"/>
          <p:cNvPicPr/>
          <p:nvPr/>
        </p:nvPicPr>
        <p:blipFill>
          <a:blip r:embed="rId3"/>
          <a:stretch/>
        </p:blipFill>
        <p:spPr>
          <a:xfrm>
            <a:off x="209520" y="3276720"/>
            <a:ext cx="276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1295280" y="1600200"/>
            <a:ext cx="70866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нец 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914400" y="838080"/>
            <a:ext cx="73152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жать без оглядк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370240"/>
            <a:ext cx="90043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 Бежать без оглядки» - быстро, не оглядываясь бежать, спасаясь от 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-Ты чего ревешь, Евс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-Я ходил дразнить гус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А они мне в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Исщипали пя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Думал, что спасенья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Бежал без огля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симмммммм"/>
          <p:cNvPicPr/>
          <p:nvPr/>
        </p:nvPicPr>
        <p:blipFill>
          <a:blip r:embed="rId1"/>
          <a:stretch/>
        </p:blipFill>
        <p:spPr>
          <a:xfrm>
            <a:off x="6629400" y="3581280"/>
            <a:ext cx="2057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304920" y="0"/>
            <a:ext cx="904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295280" y="304920"/>
            <a:ext cx="7467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шать лапшу на уш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-177840" y="-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57200" y="669600"/>
            <a:ext cx="7848720" cy="64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ворить какую-нибудь нелепицу, ерунду, бессмысленность, обманывать кого-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Сорока лесом про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В берлоге мишку увид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И ну над бурым стрекот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«Проснись, вставай,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скорей </a:t>
            </a:r>
            <a:r>
              <a:rPr b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бежать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Бочонки меда там на вет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Кругом развешаны салфет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Ни пчелки, ни иголки близ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И все висит так низко, низк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А мишка буркнул ей в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«Там ничего такого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Не вешай на уши лапшу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3366ff"/>
                </a:solidFill>
                <a:latin typeface="Arial"/>
                <a:ea typeface="Times New Roman"/>
              </a:rPr>
              <a:t>Не то тебя я укушу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DISCO"/>
          <p:cNvPicPr/>
          <p:nvPr/>
        </p:nvPicPr>
        <p:blipFill>
          <a:blip r:embed="rId5"/>
          <a:stretch/>
        </p:blipFill>
        <p:spPr>
          <a:xfrm>
            <a:off x="1828800" y="3276720"/>
            <a:ext cx="27525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Рисунор1"/>
          <p:cNvPicPr/>
          <p:nvPr/>
        </p:nvPicPr>
        <p:blipFill>
          <a:blip r:embed="rId6"/>
          <a:stretch/>
        </p:blipFill>
        <p:spPr>
          <a:xfrm>
            <a:off x="198360" y="3809880"/>
            <a:ext cx="2087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9"/>
          <p:cNvSpPr txBox="1"/>
          <p:nvPr/>
        </p:nvSpPr>
        <p:spPr>
          <a:xfrm>
            <a:off x="838080" y="380880"/>
            <a:ext cx="952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40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1676520" y="0"/>
            <a:ext cx="6933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аза разбежались</a:t>
            </a:r>
            <a:endParaRPr b="0" lang="en-US" sz="40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76320" y="2178720"/>
            <a:ext cx="90676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Глаза разбежались»- так говорится, когда человек не может сосредоточиться на чем-либо от разнообразия впечатлений, не может выбрать что-нибудь о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Что купить: конфеты, книж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Вот сидят на полках ми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Может, взять сачок и мячик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Он по полу быстро скач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Вот мышонок, вот коз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Разбегаются глаз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Рисунок3"/>
          <p:cNvPicPr/>
          <p:nvPr/>
        </p:nvPicPr>
        <p:blipFill>
          <a:blip r:embed="rId1"/>
          <a:stretch/>
        </p:blipFill>
        <p:spPr>
          <a:xfrm>
            <a:off x="3962520" y="1676520"/>
            <a:ext cx="857160" cy="866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Рисунок3"/>
          <p:cNvPicPr/>
          <p:nvPr/>
        </p:nvPicPr>
        <p:blipFill>
          <a:blip r:embed="rId2"/>
          <a:stretch/>
        </p:blipFill>
        <p:spPr>
          <a:xfrm>
            <a:off x="6553080" y="1676520"/>
            <a:ext cx="857520" cy="86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6"/>
          <p:cNvSpPr txBox="1"/>
          <p:nvPr/>
        </p:nvSpPr>
        <p:spPr>
          <a:xfrm>
            <a:off x="2362320" y="914400"/>
            <a:ext cx="838080" cy="85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cap="rnd" w="936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Arial"/>
              </a:rPr>
              <a:t>Д</a:t>
            </a:r>
            <a:endParaRPr b="1" i="1" lang="en-US" sz="2000" spc="1" strike="noStrike">
              <a:ln cap="rnd" w="936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0" name="WordArt 5"/>
          <p:cNvSpPr txBox="1"/>
          <p:nvPr/>
        </p:nvSpPr>
        <p:spPr>
          <a:xfrm>
            <a:off x="3733920" y="609480"/>
            <a:ext cx="5029200" cy="82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Arial"/>
              </a:rPr>
              <a:t>овести </a:t>
            </a:r>
            <a:endParaRPr b="0" lang="en-US" sz="20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609480" y="1143000"/>
            <a:ext cx="85345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cap="rnd" w="9360">
                  <a:solidFill>
                    <a:srgbClr val="ff99cc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Times New Roman"/>
              </a:rPr>
              <a:t>до белого каления</a:t>
            </a:r>
            <a:endParaRPr b="0" lang="en-US" sz="2000" spc="1" strike="noStrike">
              <a:ln cap="rnd" w="9360">
                <a:solidFill>
                  <a:srgbClr val="ff99cc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-2417760" y="6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066680" y="2449800"/>
            <a:ext cx="77724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ение-закалка металла нагреванием, при этом металл сначала делается красным, а при очень высокой температуре- б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ить до белого каления»- приводить в состояние гнева и полной потери самообл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 маме я сказал: «Пр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Так трудно без варень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Ребенка можно </a:t>
            </a:r>
            <a:r>
              <a:rPr b="1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ове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До белого каления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k"/>
          <p:cNvPicPr/>
          <p:nvPr/>
        </p:nvPicPr>
        <p:blipFill>
          <a:blip r:embed="rId1"/>
          <a:stretch/>
        </p:blipFill>
        <p:spPr>
          <a:xfrm>
            <a:off x="6705720" y="4648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914400" y="228600"/>
            <a:ext cx="11620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prstDash val="sysDot"/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</a:t>
            </a:r>
            <a:endParaRPr b="1" i="1" lang="en-US" sz="1800" spc="1" strike="noStrike">
              <a:ln w="9360">
                <a:solidFill>
                  <a:srgbClr val="ff99cc"/>
                </a:solidFill>
                <a:prstDash val="sysDot"/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286000" y="380880"/>
            <a:ext cx="6324480" cy="11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prstDash val="sysDot"/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зеваться</a:t>
            </a:r>
            <a:endParaRPr b="0" lang="en-US" sz="1800" spc="1" strike="noStrike">
              <a:ln w="9360">
                <a:solidFill>
                  <a:srgbClr val="ff99cc"/>
                </a:solidFill>
                <a:prstDash val="sysDot"/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2367000" y="5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28600" y="1614960"/>
            <a:ext cx="86914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нач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зеваться»- значит, отвлечься от чего-либо, пропустить; когда человек невнимателен, ему часто говорят: «Не зевай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Чудесный красный шар в руке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Бегу скорей домой.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Вдруг сзади кто-то мне кричит: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«Эй, эй,  дружок, постой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Давай-ка вместе мы играть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Я - ветерок - шалун,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А если будешь ты зевать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Я в небеса могу умчать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Твой шарик – попрыгун!»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PARTY2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-109800"/>
            <a:ext cx="830592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i="1" lang="ru-RU" sz="5400" spc="-1" strike="noStrike">
                <a:solidFill>
                  <a:srgbClr val="006600"/>
                </a:solidFill>
                <a:latin typeface="Arial"/>
              </a:rPr>
              <a:t>грать в кошки-мыш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Кошки-мышки»- это всем известная игра.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а кошки - поймать мышку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зеологизм  «играть в кошки-мышки»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начит хитрить, обманывать, скрывать что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В ужасном бес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Карандаши и книж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ни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 играют в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прят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А может, в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кошки-мышки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jk"/>
          <p:cNvPicPr/>
          <p:nvPr/>
        </p:nvPicPr>
        <p:blipFill>
          <a:blip r:embed="rId1"/>
          <a:stretch/>
        </p:blipFill>
        <p:spPr>
          <a:xfrm>
            <a:off x="5181480" y="3886200"/>
            <a:ext cx="36576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2819520" y="533520"/>
            <a:ext cx="54864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евать носом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1752480" y="228600"/>
            <a:ext cx="12477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ourier New"/>
              </a:rPr>
              <a:t>К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348300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-3258360" y="2250720"/>
            <a:ext cx="102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80880" y="2172960"/>
            <a:ext cx="84582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Franklin Gothic Medium Cond"/>
                <a:ea typeface="Times New Roman"/>
              </a:rPr>
              <a:t>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Клонить голову, очень хотеть спать. Выражение возникло на основе сходства клюющей птицы и человека, задремавшего в сидячем поло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Franklin Gothic Heavy"/>
                <a:ea typeface="Times New Roman"/>
              </a:rPr>
              <a:t>Вышла на небо лу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Franklin Gothic Heavy"/>
                <a:ea typeface="Times New Roman"/>
              </a:rPr>
              <a:t>Ночь за окнами тем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Franklin Gothic Heavy"/>
                <a:ea typeface="Times New Roman"/>
              </a:rPr>
              <a:t>Стали носом все клева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Franklin Gothic Heavy"/>
                <a:ea typeface="Times New Roman"/>
              </a:rPr>
              <a:t>Не пора ли засыпат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WORM7"/>
          <p:cNvPicPr/>
          <p:nvPr/>
        </p:nvPicPr>
        <p:blipFill>
          <a:blip r:embed="rId1"/>
          <a:stretch/>
        </p:blipFill>
        <p:spPr>
          <a:xfrm>
            <a:off x="685800" y="4105440"/>
            <a:ext cx="28195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Медведь на ухо наступил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едведь - очень крупный зверь, и вряд ли посчастливится тому, кому он наступит на ухо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Медведь на ухо наступил»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значит, кто-то совершенно лишен музыкального слуха, не умее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ть, или поет громко, но фальшиво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ак люблю я пе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Только нету слух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Говорят: «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аступил на ухо!»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ааааааааааар"/>
          <p:cNvPicPr/>
          <p:nvPr/>
        </p:nvPicPr>
        <p:blipFill>
          <a:blip r:embed="rId1"/>
          <a:stretch/>
        </p:blipFill>
        <p:spPr>
          <a:xfrm>
            <a:off x="6019920" y="4038480"/>
            <a:ext cx="2361960" cy="1981440"/>
          </a:xfrm>
          <a:prstGeom prst="rect">
            <a:avLst/>
          </a:prstGeom>
          <a:ln w="0">
            <a:noFill/>
          </a:ln>
        </p:spPr>
      </p:pic>
      <p:pic>
        <p:nvPicPr>
          <p:cNvPr id="81" name="Рев медведя.mp3" descr=""/>
          <p:cNvPicPr/>
          <p:nvPr/>
        </p:nvPicPr>
        <p:blipFill>
          <a:blip r:embed="rId2"/>
          <a:stretch/>
        </p:blipFill>
        <p:spPr>
          <a:xfrm>
            <a:off x="65530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79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3T16:41:5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