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F71-BC96-4F16-A758-ACC196A0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4F6-4A7D-44CA-A0DE-0A9719A5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830-E22D-4E90-8724-04FAAF5F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11E-BD6E-4B5C-BFD8-A86D9F97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BBE-F4D5-4246-930D-0C844000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0AB-EA95-450C-8D55-FB0A6634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6A5-D38B-4CCF-9055-7BECCDBE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970-C42F-46A6-A1E2-8F61C689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CE6-1816-424D-BFC4-EFDC0ACA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9C3-9F53-4D0E-9A76-B82E6FC8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982-96C8-4776-BC17-E10E5538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A6E-51BE-4E18-8975-4D31FB8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B7B6-086F-4EAC-A16C-7BDA012E4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57200" y="380880"/>
            <a:ext cx="74674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Азбу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фразеологиз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438280" y="43038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ыполнила Кочеткова Крист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ченица 1 «а» класса МБОУ «Поселковская СШ 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9"/>
          <p:cNvSpPr txBox="1"/>
          <p:nvPr/>
        </p:nvSpPr>
        <p:spPr>
          <a:xfrm>
            <a:off x="152280" y="228600"/>
            <a:ext cx="155592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1600200" y="457200"/>
            <a:ext cx="7162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омать др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52280" y="1219320"/>
            <a:ext cx="8686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акое дрова, все известно, а вот «наломать» - означало в старину «заготовить», «приготовить». Сейчас фразеологический оборот «наломать дров» - значит – наделать глупостей по незнанию, повредив тем самым какому-нибудь делу или самому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еник Иван П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аломал немало 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оть в лесу ни разу не бы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н боялся ком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 ж дровишки отыск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гляни к нему в тетрад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ам такое написал о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ногу черт слом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Ри000"/>
          <p:cNvPicPr/>
          <p:nvPr/>
        </p:nvPicPr>
        <p:blipFill>
          <a:blip r:embed="rId1"/>
          <a:stretch/>
        </p:blipFill>
        <p:spPr>
          <a:xfrm>
            <a:off x="5562720" y="320040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акое горшок всем известно, а вершок- старинная русская мера длины, равная 4,5 см. Выражение буквально означает, что – выше горшка всего два вершка, то есть – очень маленький. Говорится шутливо или с пренебрежением; как правило о детях, когда хотят подчеркнуть, что они не только малы ещё ростом, но и ум их не вел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Я совсем уже большой-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Мне вчера пошел шестой!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Не услышу я  смешка: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«От горшка ты два вершка!»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533520" y="304920"/>
            <a:ext cx="8076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горшка два вер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7" descr="24M5"/>
          <p:cNvPicPr/>
          <p:nvPr/>
        </p:nvPicPr>
        <p:blipFill>
          <a:blip r:embed="rId1"/>
          <a:stretch/>
        </p:blipFill>
        <p:spPr>
          <a:xfrm>
            <a:off x="5867280" y="3581280"/>
            <a:ext cx="30481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304920" y="304920"/>
            <a:ext cx="8610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сать как курица лапо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32367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ворится о том, кто пишет небрежно, некрасиво и неразборч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7200" y="46483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2f9d"/>
                </a:solidFill>
                <a:latin typeface="Arial"/>
              </a:rPr>
              <a:t>Маленький Петя был высмеян пап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2f9d"/>
                </a:solidFill>
                <a:latin typeface="Arial"/>
              </a:rPr>
              <a:t>«Что же ты пишешь как курица лапой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2f9d"/>
                </a:solidFill>
                <a:latin typeface="Arial"/>
              </a:rPr>
              <a:t>Пискнул обиженно бедный ребе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2f9d"/>
                </a:solidFill>
                <a:latin typeface="Arial"/>
              </a:rPr>
              <a:t>«Я ведь не курица, только цыпленок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Рисхххх"/>
          <p:cNvPicPr/>
          <p:nvPr/>
        </p:nvPicPr>
        <p:blipFill>
          <a:blip r:embed="rId1"/>
          <a:stretch/>
        </p:blipFill>
        <p:spPr>
          <a:xfrm>
            <a:off x="4343400" y="1752480"/>
            <a:ext cx="2057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304920" y="0"/>
            <a:ext cx="8458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водить тары-ба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28600" y="1244880"/>
            <a:ext cx="7848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ры-бары – пустые разговоры, болтовня. Вспомните просторечные слова «тараторить», «тарабанить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Разводить тары-бары»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начит болтать пустяки, заниматься пустым разгово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Две подружки, две Там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Разводили тары-б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Что за тары? Что за ба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Не поймет никак родня. Эти тары, эти ба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Это просто болтов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KISS5"/>
          <p:cNvPicPr/>
          <p:nvPr/>
        </p:nvPicPr>
        <p:blipFill>
          <a:blip r:embed="rId1"/>
          <a:stretch/>
        </p:blipFill>
        <p:spPr>
          <a:xfrm>
            <a:off x="6477120" y="48006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лк, как известно, зверь зубастый и страшный. Смотреть волком - смотреть недружелюбно, угрюм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Ну кто же мне все объясн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Чтоб смог понять я толк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Зайчишка этот зверь на ви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А </a:t>
            </a:r>
            <a:r>
              <a:rPr b="1" i="1" lang="ru-RU" sz="3200" spc="-1" strike="noStrike">
                <a:solidFill>
                  <a:srgbClr val="cc00ff"/>
                </a:solidFill>
                <a:latin typeface="Arial"/>
              </a:rPr>
              <a:t>смотрит</a:t>
            </a: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 – серым</a:t>
            </a:r>
            <a:r>
              <a:rPr b="1" i="1" lang="ru-RU" sz="3200" spc="-1" strike="noStrike">
                <a:solidFill>
                  <a:srgbClr val="cc00ff"/>
                </a:solidFill>
                <a:latin typeface="Arial"/>
              </a:rPr>
              <a:t> волком</a:t>
            </a: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609480" y="457200"/>
            <a:ext cx="8229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мотреть волком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98" name="Picture 5" descr="chihuahuat"/>
          <p:cNvPicPr/>
          <p:nvPr/>
        </p:nvPicPr>
        <p:blipFill>
          <a:blip r:embed="rId1"/>
          <a:stretch/>
        </p:blipFill>
        <p:spPr>
          <a:xfrm>
            <a:off x="6400800" y="3200400"/>
            <a:ext cx="2514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609480" y="1894680"/>
            <a:ext cx="8182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да в русском фольклоре – символ покоя, неторопливости и тишины. Трава, в данном случае, - символ незаметности и незначительности.  «Тише воды, ниже травы» говорят обычно о робком, скромном, тихом, незаметном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Тише воды, ниже трав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Что это такое? Сн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533520" y="0"/>
            <a:ext cx="8076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ише воды,ниже травы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1" name="Picture 6" descr="OWLS"/>
          <p:cNvPicPr/>
          <p:nvPr/>
        </p:nvPicPr>
        <p:blipFill>
          <a:blip r:embed="rId1"/>
          <a:stretch/>
        </p:blipFill>
        <p:spPr>
          <a:xfrm>
            <a:off x="3124080" y="5334120"/>
            <a:ext cx="31626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ька- овощ с сильным острым вкусом и запахом. Редька издавна была на Руси повседневным кушаньем, особенно часто ели редьку в пост. А посты на Руси длились больше 200 дней в году. За это время редька успевала надоедать вс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 Хуже горькой редьки»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жасно сильно надоесть, опротив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- А почему, скажи, не вп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Идет ученье Петь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- А для него любо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Хуже горькой редь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457200" y="0"/>
            <a:ext cx="8458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Хуже горькой ред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Picture 6" descr="Рk"/>
          <p:cNvPicPr/>
          <p:nvPr/>
        </p:nvPicPr>
        <p:blipFill>
          <a:blip r:embed="rId1"/>
          <a:stretch/>
        </p:blipFill>
        <p:spPr>
          <a:xfrm>
            <a:off x="5181480" y="3962520"/>
            <a:ext cx="3733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09480" y="1632600"/>
            <a:ext cx="7925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ешки, хоть  лесные, хоть грецкие- приходится «щелкать», чтобы достать ядрышко. Работа эта легкая, почти всегда успешная и дающая немедленный приятны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Щелкать как орешки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значит легко справляться с каким-либо делом, без особых затруднений решать какую-либо проблему или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Я пример любой реша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Вычитаю, умнож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А задачки все, без спеш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Перещелкал как оре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533520" y="380880"/>
            <a:ext cx="80769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елкать как орешки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Picture 6" descr="hh"/>
          <p:cNvPicPr/>
          <p:nvPr/>
        </p:nvPicPr>
        <p:blipFill>
          <a:blip r:embed="rId3"/>
          <a:stretch/>
        </p:blipFill>
        <p:spPr>
          <a:xfrm>
            <a:off x="209520" y="3276720"/>
            <a:ext cx="276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1295280" y="1600200"/>
            <a:ext cx="70866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 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914400" y="838080"/>
            <a:ext cx="73152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жать без оглядк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370240"/>
            <a:ext cx="90043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 Бежать без оглядки» - быстро, не оглядываясь бежать, спасаясь от 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-Ты чего ревешь, Евс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-Я ходил дразнить гус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А они мне в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Исщипали пя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Думал, что спасенья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Бежал без огляд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симмммммм"/>
          <p:cNvPicPr/>
          <p:nvPr/>
        </p:nvPicPr>
        <p:blipFill>
          <a:blip r:embed="rId1"/>
          <a:stretch/>
        </p:blipFill>
        <p:spPr>
          <a:xfrm>
            <a:off x="6629400" y="3581280"/>
            <a:ext cx="2057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304920" y="0"/>
            <a:ext cx="9046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295280" y="304920"/>
            <a:ext cx="7467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шать лапшу на уш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-177840" y="-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57200" y="669600"/>
            <a:ext cx="7848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ворить какую-нибудь нелепицу, ерунду, бессмысленность, обманывать кого-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Сорока лесом про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В берлоге мишку увид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И ну над бурым стрекот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«Проснись, вставай,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скорей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бежа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Бочонки меда там на вет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Кругом развешаны салфет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Ни пчелки, ни иголки близ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И все висит так низко, низ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А мишка буркнул ей в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«Там ничего такого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Не вешай на уши лапшу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Не то тебя я укушу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DISCO"/>
          <p:cNvPicPr/>
          <p:nvPr/>
        </p:nvPicPr>
        <p:blipFill>
          <a:blip r:embed="rId5"/>
          <a:stretch/>
        </p:blipFill>
        <p:spPr>
          <a:xfrm>
            <a:off x="1828800" y="3276720"/>
            <a:ext cx="27525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Рисунор1"/>
          <p:cNvPicPr/>
          <p:nvPr/>
        </p:nvPicPr>
        <p:blipFill>
          <a:blip r:embed="rId6"/>
          <a:stretch/>
        </p:blipFill>
        <p:spPr>
          <a:xfrm>
            <a:off x="198360" y="3809880"/>
            <a:ext cx="2087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9"/>
          <p:cNvSpPr txBox="1"/>
          <p:nvPr/>
        </p:nvSpPr>
        <p:spPr>
          <a:xfrm>
            <a:off x="838080" y="380880"/>
            <a:ext cx="952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0" lang="en-US" sz="4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676520" y="0"/>
            <a:ext cx="6933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аза разбежались</a:t>
            </a:r>
            <a:endParaRPr b="0" lang="en-US" sz="40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76320" y="2178720"/>
            <a:ext cx="90676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Глаза разбежались»- так говорится, когда человек не может сосредоточиться на чем-либо от разнообразия впечатлений, не может выбрать что-нибудь 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Что купить: конфеты, книж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Вот сидят на полках ми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Может, взять сачок и мячи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Он по полу быстро скач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Вот мышонок, вот коз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Разбегаются глаз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Рисунок3"/>
          <p:cNvPicPr/>
          <p:nvPr/>
        </p:nvPicPr>
        <p:blipFill>
          <a:blip r:embed="rId1"/>
          <a:stretch/>
        </p:blipFill>
        <p:spPr>
          <a:xfrm>
            <a:off x="3962520" y="1676520"/>
            <a:ext cx="857160" cy="86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Рисунок3"/>
          <p:cNvPicPr/>
          <p:nvPr/>
        </p:nvPicPr>
        <p:blipFill>
          <a:blip r:embed="rId2"/>
          <a:stretch/>
        </p:blipFill>
        <p:spPr>
          <a:xfrm>
            <a:off x="6553080" y="1676520"/>
            <a:ext cx="8575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6"/>
          <p:cNvSpPr txBox="1"/>
          <p:nvPr/>
        </p:nvSpPr>
        <p:spPr>
          <a:xfrm>
            <a:off x="2362320" y="914400"/>
            <a:ext cx="83808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cap="rnd" w="936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Arial"/>
              </a:rPr>
              <a:t>Д</a:t>
            </a:r>
            <a:endParaRPr b="1" i="1" lang="en-US" sz="2000" spc="1" strike="noStrike">
              <a:ln cap="rnd" w="936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3733920" y="609480"/>
            <a:ext cx="5029200" cy="8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Arial"/>
              </a:rPr>
              <a:t>овести </a:t>
            </a:r>
            <a:endParaRPr b="0" lang="en-US" sz="20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609480" y="1143000"/>
            <a:ext cx="8534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rnd" w="936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Times New Roman"/>
              </a:rPr>
              <a:t>до белого каления</a:t>
            </a:r>
            <a:endParaRPr b="0" lang="en-US" sz="2000" spc="1" strike="noStrike">
              <a:ln cap="rnd" w="936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-241776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066680" y="2449800"/>
            <a:ext cx="77724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ение-закалка металла нагреванием, при этом металл сначала делается красным, а при очень высокой температуре- б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ить до белого каления»- приводить в состояние гнева и полной потери самообл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 маме я сказал: «Пр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Так трудно без варень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Ребенка можно </a:t>
            </a:r>
            <a:r>
              <a:rPr b="1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ове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о белого каления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ik"/>
          <p:cNvPicPr/>
          <p:nvPr/>
        </p:nvPicPr>
        <p:blipFill>
          <a:blip r:embed="rId1"/>
          <a:stretch/>
        </p:blipFill>
        <p:spPr>
          <a:xfrm>
            <a:off x="6705720" y="46483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914400" y="228600"/>
            <a:ext cx="11620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prstDash val="sysDot"/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</a:t>
            </a:r>
            <a:endParaRPr b="1" i="1" lang="en-US" sz="1800" spc="1" strike="noStrike">
              <a:ln w="9360">
                <a:solidFill>
                  <a:srgbClr val="ff99cc"/>
                </a:solidFill>
                <a:prstDash val="sysDot"/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2286000" y="380880"/>
            <a:ext cx="632448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prstDash val="sysDot"/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зеваться</a:t>
            </a:r>
            <a:endParaRPr b="0" lang="en-US" sz="1800" spc="1" strike="noStrike">
              <a:ln w="9360">
                <a:solidFill>
                  <a:srgbClr val="ff99cc"/>
                </a:solidFill>
                <a:prstDash val="sysDot"/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367000" y="5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614960"/>
            <a:ext cx="8691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Зазеваться»- значит, отвлечься от чего-либо, пропустить; когда человек невнимателен, ему часто говорят: «Не зева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Чудесный красный шар в руке,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Бегу скорей домой.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Вдруг сзади кто-то мне кричит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«Эй, эй,  дружок, постой,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Давай-ка вместе мы играть,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Я - ветерок - шалун,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А если будешь ты зевать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Я в небеса могу умчать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Твой шарик – попрыгун!»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PARTY2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-109800"/>
            <a:ext cx="8305920" cy="68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i="1" lang="ru-RU" sz="5400" spc="-1" strike="noStrike">
                <a:solidFill>
                  <a:srgbClr val="006600"/>
                </a:solidFill>
                <a:latin typeface="Arial"/>
              </a:rPr>
              <a:t>грать в кошки-мыш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Кошки-мышки»- это всем известная игра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а кошки - поймать мышку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зеологизм  «играть в кошки-мышки»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начит хитрить, обманывать, скрывать что-л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 ужасном бес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Карандаши и книж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Они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играют в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пря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А может, в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кошки-мышки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jk"/>
          <p:cNvPicPr/>
          <p:nvPr/>
        </p:nvPicPr>
        <p:blipFill>
          <a:blip r:embed="rId1"/>
          <a:stretch/>
        </p:blipFill>
        <p:spPr>
          <a:xfrm>
            <a:off x="5181480" y="3886200"/>
            <a:ext cx="36576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819520" y="533520"/>
            <a:ext cx="5486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вать носо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752480" y="228600"/>
            <a:ext cx="1247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urier New"/>
              </a:rPr>
              <a:t>К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-348300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-3258360" y="2250720"/>
            <a:ext cx="102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80880" y="2172960"/>
            <a:ext cx="84582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Franklin Gothic Medium Cond"/>
                <a:ea typeface="Times New Roman"/>
              </a:rPr>
              <a:t>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Клонить голову, очень хотеть спать. Выражение возникло на основе сходства клюющей птицы и человека, задремавшего в сидячем поло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Franklin Gothic Heavy"/>
                <a:ea typeface="Times New Roman"/>
              </a:rPr>
              <a:t>Вышла на небо лу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Franklin Gothic Heavy"/>
                <a:ea typeface="Times New Roman"/>
              </a:rPr>
              <a:t>Ночь за окнами тем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Franklin Gothic Heavy"/>
                <a:ea typeface="Times New Roman"/>
              </a:rPr>
              <a:t>Стали носом все клев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Franklin Gothic Heavy"/>
                <a:ea typeface="Times New Roman"/>
              </a:rPr>
              <a:t>Не пора ли засыпать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WORM7"/>
          <p:cNvPicPr/>
          <p:nvPr/>
        </p:nvPicPr>
        <p:blipFill>
          <a:blip r:embed="rId1"/>
          <a:stretch/>
        </p:blipFill>
        <p:spPr>
          <a:xfrm>
            <a:off x="685800" y="4105440"/>
            <a:ext cx="28195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Медведь на ухо наступил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дведь - очень крупный зверь, и вряд ли посчастливится тому, кому он наступит на ухо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Медведь на ухо наступил»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значит, кто-то совершенно лишен музыкального слуха, не уме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ть, или поет громко, но фальшиво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ак люблю я пе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Только нету слух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Говорят: «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ступил на ухо!»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ааааааааааар"/>
          <p:cNvPicPr/>
          <p:nvPr/>
        </p:nvPicPr>
        <p:blipFill>
          <a:blip r:embed="rId1"/>
          <a:stretch/>
        </p:blipFill>
        <p:spPr>
          <a:xfrm>
            <a:off x="6019920" y="4038480"/>
            <a:ext cx="2361960" cy="1981440"/>
          </a:xfrm>
          <a:prstGeom prst="rect">
            <a:avLst/>
          </a:prstGeom>
          <a:ln w="0">
            <a:noFill/>
          </a:ln>
        </p:spPr>
      </p:pic>
      <p:pic>
        <p:nvPicPr>
          <p:cNvPr id="81" name="Рев медведя.mp3" descr=""/>
          <p:cNvPicPr/>
          <p:nvPr/>
        </p:nvPicPr>
        <p:blipFill>
          <a:blip r:embed="rId2"/>
          <a:stretch/>
        </p:blipFill>
        <p:spPr>
          <a:xfrm>
            <a:off x="65530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79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3T16:41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