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2F2A-984F-48E8-A6A5-F122D607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EFCF-6FAA-44C3-A5BF-5F9D0FB6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81BB-F43D-4543-9F63-2CA3A9EE3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8EFA-303E-4782-B780-9EDEF07A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4A65-DE12-422B-A4A2-ED295151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0A23-E84D-4BDD-8D1D-19FEDD82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5792-A95C-437C-8C31-5B533D90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7986-4871-4D61-909B-3DACDBEC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7B0F-9BF8-4C33-BED0-4676971C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E90E-EABF-467A-898F-6D86A6B4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D33A-033E-48EE-A0CD-FBFAA4D0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BA4D-E2C7-40AD-AF04-A3BCFB0A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3BBB-5F6D-4826-87B9-D93E3C8CD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hyperlink" Target="http://www.rgo.ru/wp-content/uploads/2011/03/810.jpg" TargetMode="External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6381360"/>
            <a:ext cx="640080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e69d"/>
                </a:solidFill>
                <a:latin typeface="Arial"/>
              </a:rPr>
              <a:t>Подготовила: Ваганова Н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137440" cy="2308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195640" y="2637000"/>
            <a:ext cx="4281480" cy="32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говор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прельские ручьи землю буд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прель с водою — май с траво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де в апреле река, там в июле лужица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крый апрель — хорошая паш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вый апрельский дождь воза золота сто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апреле земля пре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ние облака в апреле — к теплу и дожд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апреле появляются первые весенние цве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прельский цветок ломает снеж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прель начинается при снеге, а кончается при зел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92720" y="115920"/>
            <a:ext cx="295128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35384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прель приносит тепло, хотя холодные ночи для него — обычное дело. Случаются и резкие похолодания, но ненадолго: весна берет св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14800" y="189000"/>
            <a:ext cx="47512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8785440" cy="568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059280" y="654696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Arial"/>
              </a:rPr>
              <a:t>ФИЗ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УЛЬТ</a:t>
            </a: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МИ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УТ</a:t>
            </a: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858920" y="191628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ст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летела Ласт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тридевять земель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вращайся, Ласточ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дворе апр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вращайся, Ласточ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не од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с тобою, Ласточ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етит Весна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орис Заход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514760" cy="4608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775960" y="6381720"/>
            <a:ext cx="3387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7f1d4"/>
                </a:solidFill>
                <a:latin typeface="Arial"/>
              </a:rPr>
              <a:t>Подготовила: Ваганова Н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7620120" cy="5086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916360" y="623736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867280" y="4400640"/>
            <a:ext cx="300060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мет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8000" y="907920"/>
            <a:ext cx="4968720" cy="58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ерхность снега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чале апр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ероховатая - к урожа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апреле сыро – к хорош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шне и грибному ле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прельская талая вода идет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сные ночи – к благоприят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годе во время уборки хлеб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начале месяца больш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лив – к хорошему урожа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оза в начале апреля –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плому лету и урожа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рех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онце апреля ид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плые дожди - к урож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43280" y="620640"/>
            <a:ext cx="4321440" cy="5761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132000" y="6546960"/>
            <a:ext cx="18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284720" y="333000"/>
            <a:ext cx="475128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яны и проталины начинают покрываться первой зеленью, и все чаще по утрам проглядывает ясное солнышко. Весна все настойчивее вступает в свои права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364280" cy="6553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716360" y="3443400"/>
            <a:ext cx="424836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вери весной линяют, меняют свою теплую зимнюю шубку на более легкую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332000" y="1197000"/>
            <a:ext cx="6696000" cy="4630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82960" y="5877000"/>
            <a:ext cx="665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сы, волки, рыси и другие звери готовятся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ёплым денька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32000" y="260280"/>
            <a:ext cx="36003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ступил апрель – месяц контрастов, когда яркое солнышко сменяется моросящим дождем, когда начинается капель, но в лесу еще лежит снег (и может лежать до самого мая), когда из-под снега уже пробивается зеленая травка, цветут подснежники, а иногда снова начинается снегопа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753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йчик меняет свою белую шубку на серую, белочка – серую шубку меняет на рыжую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4105080" cy="3755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643280" y="2637000"/>
            <a:ext cx="4248360" cy="40654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84360" y="623736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0360" y="183240"/>
            <a:ext cx="469008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вед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 нужды и без тревог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ал медведь в своей берлог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ал всю зиму до весн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 наверно, видел сн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друг проснулся косолапы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ышит, каплет 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т беда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емноте пошарил лап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скочил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гом вода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спешил медведь наруж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ливает не до сна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лез он и видит : луж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ет снег..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шла весна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адонщи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43280" y="1413000"/>
            <a:ext cx="43704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4149720"/>
            <a:ext cx="3529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033800" cy="4010040"/>
          </a:xfrm>
          <a:prstGeom prst="rect">
            <a:avLst/>
          </a:prstGeom>
          <a:ln w="0">
            <a:noFill/>
          </a:ln>
        </p:spPr>
      </p:pic>
      <p:sp>
        <p:nvSpPr>
          <p:cNvPr id="118" name="">
            <a:hlinkClick r:id="rId3"/>
          </p:cNvPr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3924360" y="3081240"/>
            <a:ext cx="4248000" cy="3627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572000" y="115920"/>
            <a:ext cx="4395960" cy="3267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9280" y="6381720"/>
            <a:ext cx="18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4869000"/>
            <a:ext cx="8229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ю зиму спал не только медведь, но и еж. Еще с осени ежик зарылся в опавшие листья и проспал там все холода и метели. Но солнышко припекло, стало тепло – проснулся и е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619280" y="260280"/>
            <a:ext cx="6048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8713800" cy="58276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348000" y="6381720"/>
            <a:ext cx="18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432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прель! Апрел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прель! Апрель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дворе звенит капель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полям бегут ручьи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дорогах лужи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оро выйдут муравьи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ле зимней стужи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бирается медведь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возь густой валежник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ли птицы песни петь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расцвел подснеж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Самуил Марш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662360" y="189000"/>
            <a:ext cx="4224600" cy="6480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0920" y="4149720"/>
            <a:ext cx="207000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8642520" cy="6093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916360" y="645336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252360" y="1413000"/>
            <a:ext cx="496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сле половодь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шли дожди,                                                                           апрель теплеет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ю ночь — туман, а поутру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сенний воздух точно млеет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мягкой дымкою синеет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далёких просеках в бору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тихо дремлет бор зелёный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в серебре лесных озёр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щё стройней его колонны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щё свежее сосен кроны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нежных лиственниц узор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Иван Бу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457880" y="0"/>
            <a:ext cx="468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49780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4248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Апрель, апрель – на дворе звенит капель». На душе от одного слова "апрель" становится ясно и светло. Апрель в народе прозвали снегогоном. Именно в апреле на большей части России сходит снег, появляются первые подснежники и травк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апреля много и других  названий —Прилетень, Цветень и древнерусское Берез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84720" y="333360"/>
            <a:ext cx="469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64216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76720" y="1196640"/>
            <a:ext cx="3888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апре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вый солнечный денё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ует вешний вете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робьи развесели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эти тёплые час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сосульки прослези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повесили но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В. Ор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468648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260280"/>
            <a:ext cx="83628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50920" y="500040"/>
            <a:ext cx="8665920" cy="57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-360"/>
            <a:ext cx="8964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прель водою славен, будь то звонкая дневная капель от вырастающих за ночь сосулек или ручейки от тающего снега, или шум полноводных рек, вобравших в себя все весенние потоки с полей и лесов, или хороший апрельский дождь, или широкое половодье, затопившее луга, низины, огороды и часто подступающее под самые пороги дом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63240" y="6381720"/>
            <a:ext cx="3387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7f1d4"/>
                </a:solidFill>
                <a:latin typeface="Arial"/>
              </a:rPr>
              <a:t>Подготовила: Ваганова Н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332000" y="2708280"/>
            <a:ext cx="604836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216000" y="4436640"/>
            <a:ext cx="93600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арактерное апрельское явление на большей территории России — ледоход. Его ожидают с радостью, им любуются, но и опасаются, потому что иной раз заторы на реках, неравномерное таяние приводят к сильному затоплению, что наносит хозяйству заметный ущерб, задерживает посевную страду, отодвигает выгон скота на пастбища и п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692360" y="115920"/>
            <a:ext cx="583236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403280" y="189000"/>
            <a:ext cx="64803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5T12:27:56Z</dcterms:created>
  <dc:creator>Natali</dc:creator>
  <dc:description/>
  <dc:language>en-US</dc:language>
  <cp:lastModifiedBy>Natali</cp:lastModifiedBy>
  <dcterms:modified xsi:type="dcterms:W3CDTF">2013-04-13T16:49:40Z</dcterms:modified>
  <cp:revision>18</cp:revision>
  <dc:subject/>
  <dc:title>Слайд 1</dc:title>
</cp:coreProperties>
</file>