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ADB-05A2-493B-A583-6A793B7E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7E2-9CD2-46E9-9968-5FE3C110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CEE-8667-4883-8603-C1962916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376-36BB-43DD-8B7E-2EA3F8A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4E3-C285-45F8-8CA4-D27FC287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48A-056F-428E-8E21-3A35BFFF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BCC-388E-48DD-B6B7-12A2594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7B5-0E57-4B72-B10E-E847D341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ADF-AB93-4208-847B-6CF9322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F5D-7058-4427-9743-045EC1C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AA2-B0DA-438F-BCBE-296F6337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639-8E07-41BE-9ABD-1765F54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AC99-80B5-4A86-A450-ECC27BA6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hyperlink" Target="http://www.rgo.ru/wp-content/uploads/2011/03/810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638136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e69d"/>
                </a:solidFill>
                <a:latin typeface="Arial"/>
              </a:rPr>
              <a:t>Подготовила: Вага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37440" cy="230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428148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говор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ские ручьи землю бу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с водою — май с тра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в апреле река, там в июле лужиц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крый апрель — хорошая паш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апрельский дождь воза золота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преле земля пр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ие облака в апреле — к теплу и дожд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преле появляются первые весенние ц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ский цветок ломает сне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начинается при снеге, а кончается при зел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2720" y="115920"/>
            <a:ext cx="2951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353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приносит тепло, хотя холодные ночи для него — обычное дело. Случаются и резкие похолодания, но ненадолго: весна берет с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189000"/>
            <a:ext cx="4751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59280" y="65469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ФИ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ЛЬТ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М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УТ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58920" y="191628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тела 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тридевять земел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йся, Ласто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воре апр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йся, Ласто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е од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с тобою, Ласт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етит Вес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рис Заход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14760" cy="460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75960" y="6381720"/>
            <a:ext cx="3387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7f1d4"/>
                </a:solidFill>
                <a:latin typeface="Arial"/>
              </a:rPr>
              <a:t>Подготовила: Вага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0120" cy="508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16360" y="62373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67280" y="4400640"/>
            <a:ext cx="30006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496872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рхность снег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е апр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роховатая - к урож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преле сыр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шне и грибному л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ская талая вода иде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сные ночи – к благоприят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е во время уборки хле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месяца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в – к хорошему урож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оза в начале апреля –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му лету и урож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е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апреля и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е дожди - к урож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32144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2000" y="65469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4720" y="333000"/>
            <a:ext cx="47512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яны и проталины начинают покрываться первой зеленью, и все чаще по утрам проглядывает ясное солнышко. Весна все настойчивее вступает в свои прав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64280" cy="655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16360" y="34434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ери весной линяют, меняют свою теплую зимнюю шубку на более легкую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96000" cy="4630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2960" y="5877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ы, волки, рыси и другие звери готовятся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ёплым день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32000" y="260280"/>
            <a:ext cx="3600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упил апрель – месяц контрастов, когда яркое солнышко сменяется моросящим дождем, когда начинается капель, но в лесу еще лежит снег (и может лежать до самого мая), когда из-под снега уже пробивается зеленая травка, цветут подснежники, а иногда снова начинается снего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75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йчик меняет свою белую шубку на серую, белочка – серую шубку меняет на рыжу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05080" cy="375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2637000"/>
            <a:ext cx="4248360" cy="406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62373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0360" y="183240"/>
            <a:ext cx="46900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нужды и без тревог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л медведь в своей берлог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л всю зиму до вес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наверно, видел с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проснулся косолап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ышит, каплет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беда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мноте пошарил лап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скочи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вода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пешил медведь наруж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ает не до сна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лез он и видит : луж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ет снег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шла вес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донщ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370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033800" cy="40100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924360" y="3081240"/>
            <a:ext cx="4248000" cy="36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572000" y="115920"/>
            <a:ext cx="4395960" cy="326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638172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486900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ю зиму спал не только медведь, но и еж. Еще с осени ежик зарылся в опавшие листья и проспал там все холода и метели. Но солнышко припекло, стало тепло – проснулся и 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582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48000" y="638172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рель! Апр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! Апрель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воре звенит капел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олям бегут ручь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орогах луж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 выйдут муравь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зимней стуж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ирается медвед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возь густой валежник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и птицы песни пе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асцвел подсне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62360" y="189000"/>
            <a:ext cx="4224600" cy="64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070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642520" cy="609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16360" y="64533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252360" y="14130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половод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шли дожди,                                                                           апрель теплеет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ю ночь — туман, а поутр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сенний воздух точно млее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мягкой дымкою синее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далёких просеках в бор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ихо дремлет бор зелёны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 серебре лесных озёр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щё стройней его колонны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щё свежее сосен крон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жных лиственниц уз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ван Б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45788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97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4248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прель, апрель – на дворе звенит капель». На душе от одного слова "апрель" становится ясно и светло. Апрель в народе прозвали снегогоном. Именно в апреле на большей части России сходит снег, появляются первые подснежники и трав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апреля много и других  названий —Прилетень, Цветень и древнерусское Берез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720" y="1196640"/>
            <a:ext cx="3888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апр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солнечный де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ет вешний вете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робьи развесел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и тёплые ча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сосульки прослез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весили н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Ор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6864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500040"/>
            <a:ext cx="86659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водою славен, будь то звонкая дневная капель от вырастающих за ночь сосулек или ручейки от тающего снега, или шум полноводных рек, вобравших в себя все весенние потоки с полей и лесов, или хороший апрельский дождь, или широкое половодье, затопившее луга, низины, огороды и часто подступающее под самые пороги до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63240" y="6381720"/>
            <a:ext cx="3387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7f1d4"/>
                </a:solidFill>
                <a:latin typeface="Arial"/>
              </a:rPr>
              <a:t>Подготовила: Вага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60483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16000" y="4436640"/>
            <a:ext cx="9360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рактерное апрельское явление на большей территории России — ледоход. Его ожидают с радостью, им любуются, но и опасаются, потому что иной раз заторы на реках, неравномерное таяние приводят к сильному затоплению, что наносит хозяйству заметный ущерб, задерживает посевную страду, отодвигает выгон скота на пастбища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92360" y="115920"/>
            <a:ext cx="5832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2:27:56Z</dcterms:created>
  <dc:creator>Natali</dc:creator>
  <dc:description/>
  <dc:language>en-US</dc:language>
  <cp:lastModifiedBy>Natali</cp:lastModifiedBy>
  <dcterms:modified xsi:type="dcterms:W3CDTF">2013-04-13T16:49:40Z</dcterms:modified>
  <cp:revision>18</cp:revision>
  <dc:subject/>
  <dc:title>Слайд 1</dc:title>
</cp:coreProperties>
</file>