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48EBB-3527-4358-8819-8CC6E0D24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BC018-C8BE-49C2-B8F9-A28DE775B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103DE-4068-4AD4-ABA4-C4915FDCB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39B4C-9972-4190-BE04-BA544730A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7FCFE-7BF2-41B4-926E-1D2EA2108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AB1EB-77A4-4C19-99AC-CB7126D5D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29BD5-1730-4DF6-96F9-150B8E320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65952-AFEB-4E64-A9AE-43193EBB4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9F6B5-71D7-41ED-A804-A0D95B402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39910-D219-4099-A8EA-32DC974DE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E524F-DA5D-4C1D-8E76-114307359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E9E9D-B17A-4A63-AE3A-EFE472045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A8246-B093-45D6-8048-1D5DDFBE06A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223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Шыва варалани хамăрах инкек кÿре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067280" y="2997000"/>
            <a:ext cx="468144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Çĕ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ĕ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Шупашкар хулинч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8-м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ĕ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ш шкулт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ă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ваш 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ĕ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лхи в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ĕ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рентекен Григорьева В.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у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çă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урок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Глаголсене тупни, пĕлтерĕшне ăнлантарни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3284640"/>
            <a:ext cx="8229600" cy="357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Çут çанталăка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ан варал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хăвăн хыççăн çÿп-çап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ан хăвар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ркăмăшла кăмпасене тапса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ан ывăт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чĕр чунсемшĕн вĕсем сиплĕ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Çăла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ан сур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– хăвăнах ĕçмелле пулĕ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Çут çанталăка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ăнлан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унăн юлташĕ тата сыхлаканĕ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пул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Шыва яланах таса тытма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тăрăш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756720" cy="6907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86920" y="274680"/>
            <a:ext cx="820908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Çĕнĕ сăмахсем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-360" y="2133720"/>
            <a:ext cx="745164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нăç - закад, запа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ухăç – восход, вост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Шыв хĕрри – берег ре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Çÿпĕ-çапă – мусор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ăтранчăк мар – не мутна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ăрă шыв – прозрачная во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7408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илте тумалли ĕç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765000"/>
            <a:ext cx="914400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«Пĕчĕк юхан шыва тасатас тесен мĕн тумалла?» темăпа проект хатĕрлемелл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1T16:23:07Z</dcterms:created>
  <dc:creator>UserXP</dc:creator>
  <dc:description/>
  <dc:language>en-US</dc:language>
  <cp:lastModifiedBy>Admin</cp:lastModifiedBy>
  <dcterms:modified xsi:type="dcterms:W3CDTF">2013-04-13T08:11:02Z</dcterms:modified>
  <cp:revision>9</cp:revision>
  <dc:subject/>
  <dc:title>Шыва варалани хамăрах инкек кÿрет</dc:title>
</cp:coreProperties>
</file>