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DB2-A58C-4394-9887-72F0C258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FE3-D751-4D62-A8DC-68097DD4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F32-0BCF-4DFF-8EFF-1E79B468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401-CEB6-4E13-AD1F-6D4B7396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00C-F846-48D2-900F-50FCFAF1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BDE-F51C-45F3-8B11-053543A2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769-27C4-48AE-9553-6D08241F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63E-7B35-41ED-A363-1921F1F9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DED5-778E-449F-897C-ABA827E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B7F-CB83-48BE-9F88-94D93570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F0E-F75F-4D99-AD64-8D04A23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547-C9D5-4DA7-9377-EF9A2FD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35BB-DA66-4ACE-9B86-2E4601B5A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ыва варалани хамăрах инкек кÿр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7280" y="2997000"/>
            <a:ext cx="4681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Ç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Шупашкар хулин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8-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ш шкул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аш 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хи 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ĕ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ентекен Григорьева В.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ç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ро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лаголсене тупни, пĕлтерĕшне ăнлантарн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8464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Çут çанталă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варал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хăвăн хыççăн çÿп-çап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хăва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кăмăшла кăмпасене тап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ыв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чĕр чунсемшĕн вĕсем сипл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Çă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н су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ăвăнах ĕçмелле пул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Çут çанталăк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ăнла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унăн юлташĕ тата сыхлаканĕ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у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ыва яланах таса тытм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ăрă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756720" cy="6907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8209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Çĕнĕ сăмахс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7451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ăç - закад, зап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хăç – восход, во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ыв хĕрри – берег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Çÿпĕ-çапă – мус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ăтранчăк мар – не мут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ăрă шыв – прозрачная в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лте тумалли ĕ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ĕчĕк юхан шыва тасатас тесен мĕн тумалла?» темăпа проект хатĕрлемел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6:23:07Z</dcterms:created>
  <dc:creator>UserXP</dc:creator>
  <dc:description/>
  <dc:language>en-US</dc:language>
  <cp:lastModifiedBy>Admin</cp:lastModifiedBy>
  <dcterms:modified xsi:type="dcterms:W3CDTF">2013-04-13T08:11:02Z</dcterms:modified>
  <cp:revision>9</cp:revision>
  <dc:subject/>
  <dc:title>Шыва варалани хамăрах инкек кÿрет</dc:title>
</cp:coreProperties>
</file>