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13E-9AC5-44BB-835B-FB692AAE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F41-1906-4417-AE4F-5E6B902E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3D8-ABCA-49F4-9E17-AB46390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FE6-A7F5-465C-B687-54DD6369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6C8-4CED-46F2-B400-D0D910D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D2E-4A00-452F-8D0A-B3E95182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518-6144-46B2-87E8-D4251403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A74-9E56-4E75-9D60-939F3FA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DE7-DC36-40F0-9607-71EC98D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61B-5C15-4698-9CB5-4336DE8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DBC-9A73-43B0-BE06-53DF366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1CE-FB21-4984-97CB-657C0E5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08C-75AE-4B04-98D9-3FBCC4E1A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kashina.ru/galery/VESNA%20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Весна в картина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623700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Составила:Ваганова Н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213000"/>
            <a:ext cx="3449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5848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оухов И. С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Ранняя весна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http://s58.radikal.ru/i161/0811/01/37d49be9b7c3.jpg"/>
          <p:cNvPicPr/>
          <p:nvPr/>
        </p:nvPicPr>
        <p:blipFill>
          <a:blip r:embed="rId1"/>
          <a:stretch/>
        </p:blipFill>
        <p:spPr>
          <a:xfrm>
            <a:off x="3840120" y="189000"/>
            <a:ext cx="5062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200" y="6218280"/>
            <a:ext cx="410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ский И. И. Весна. 191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045040"/>
            <a:ext cx="4321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врасов А.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няя весна. Оттепель. 1880-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65480" cy="51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Саврасов А.К. Ранняя весна"/>
          <p:cNvPicPr/>
          <p:nvPr/>
        </p:nvPicPr>
        <p:blipFill>
          <a:blip r:embed="rId2"/>
          <a:stretch/>
        </p:blipFill>
        <p:spPr>
          <a:xfrm>
            <a:off x="4665600" y="692280"/>
            <a:ext cx="4152960" cy="582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3440" y="2602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няя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6176880"/>
            <a:ext cx="84358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ерий Изумрудов Начало вес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Начало весны"/>
          <p:cNvPicPr/>
          <p:nvPr/>
        </p:nvPicPr>
        <p:blipFill>
          <a:blip r:embed="rId1"/>
          <a:stretch/>
        </p:blipFill>
        <p:spPr>
          <a:xfrm>
            <a:off x="1116000" y="189000"/>
            <a:ext cx="705636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0040" y="6307920"/>
            <a:ext cx="612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он К. Ф. Весна в Троицкой лавре. 19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5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13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ФИ</a:t>
            </a: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ЗК</a:t>
            </a: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УЛ</a:t>
            </a:r>
            <a:r>
              <a:rPr b="1" lang="en-US" sz="5400" spc="-1" strike="noStrike">
                <a:solidFill>
                  <a:srgbClr val="cc9900"/>
                </a:solidFill>
                <a:latin typeface="Arial"/>
              </a:rPr>
              <a:t>Ь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МИ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НУ</a:t>
            </a: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9120" y="6308280"/>
            <a:ext cx="519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нова Татьяна. Весенний этю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Весенние пейзажи"/>
          <p:cNvPicPr/>
          <p:nvPr/>
        </p:nvPicPr>
        <p:blipFill>
          <a:blip r:embed="rId1"/>
          <a:stretch/>
        </p:blipFill>
        <p:spPr>
          <a:xfrm>
            <a:off x="250920" y="404640"/>
            <a:ext cx="8638920" cy="5810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64720" y="623556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манов  Р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594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4400" y="6236280"/>
            <a:ext cx="76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юков И., Весенний пейзаж. Первые дни вес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5588280"/>
            <a:ext cx="316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робьёва О.П. М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живопись - пейзаж, купить картину Март"/>
          <p:cNvPicPr/>
          <p:nvPr/>
        </p:nvPicPr>
        <p:blipFill>
          <a:blip r:embed="rId1"/>
          <a:stretch/>
        </p:blipFill>
        <p:spPr>
          <a:xfrm>
            <a:off x="179280" y="189000"/>
            <a:ext cx="424656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Весна"/>
          <p:cNvPicPr/>
          <p:nvPr/>
        </p:nvPicPr>
        <p:blipFill>
          <a:blip r:embed="rId2"/>
          <a:stretch/>
        </p:blipFill>
        <p:spPr>
          <a:xfrm>
            <a:off x="4595760" y="1268280"/>
            <a:ext cx="4338720" cy="539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25440" y="18720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бия Владими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жицкий К.Я. Повеяло в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Повеяло весной. 1910. Холст, масло. 81х109 см - Крыжицкий Константин Яковлевич"/>
          <p:cNvPicPr/>
          <p:nvPr/>
        </p:nvPicPr>
        <p:blipFill>
          <a:blip r:embed="rId1"/>
          <a:stretch/>
        </p:blipFill>
        <p:spPr>
          <a:xfrm>
            <a:off x="684360" y="260280"/>
            <a:ext cx="7705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7440" y="5865480"/>
            <a:ext cx="35596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дыгин Олег. Вес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Весна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5896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4160" y="62373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гей Белов.Природа Байкала.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360" y="6236280"/>
            <a:ext cx="45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стигнеев Андрей. "Март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51280" y="260280"/>
            <a:ext cx="303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 И.И Весна. Большая вода. 1897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34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4920" y="6127200"/>
            <a:ext cx="425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стодиев Б. М. Весна. 192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6093000"/>
            <a:ext cx="8218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гения Кашина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Весна, картина Евгении Кашиной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15920"/>
            <a:ext cx="72007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9240" y="61646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 Сергей Чаплы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Весна"/>
          <p:cNvPicPr/>
          <p:nvPr/>
        </p:nvPicPr>
        <p:blipFill>
          <a:blip r:embed="rId1"/>
          <a:stretch/>
        </p:blipFill>
        <p:spPr>
          <a:xfrm>
            <a:off x="179280" y="260280"/>
            <a:ext cx="869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640" y="6091920"/>
            <a:ext cx="56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гач Ю. П.Весна. Прохладно, 1976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Весна. Прохладно, 1976г. - Кугач Юрий Петрович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7440" y="62359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кшеев В. Н.Голубая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Картина Весенний пейзаж"/>
          <p:cNvPicPr/>
          <p:nvPr/>
        </p:nvPicPr>
        <p:blipFill>
          <a:blip r:embed="rId1"/>
          <a:stretch/>
        </p:blipFill>
        <p:spPr>
          <a:xfrm>
            <a:off x="971640" y="260280"/>
            <a:ext cx="7488000" cy="5464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6360" y="6020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енний пейзаж ГРАБАРЬ И. Э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92360" y="57340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ноградов С.А. Весна идет. 1911</a:t>
            </a:r>
            <a:br>
              <a:rPr sz="2400"/>
            </a:b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289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  И.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ущие ябло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http://i065.radikal.ru/0811/a9/be8439eef386.jpg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6560" y="115560"/>
            <a:ext cx="38642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ишкин И.И. Лес в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Шишкин И.И. Лес весной"/>
          <p:cNvPicPr/>
          <p:nvPr/>
        </p:nvPicPr>
        <p:blipFill>
          <a:blip r:embed="rId1"/>
          <a:stretch/>
        </p:blipFill>
        <p:spPr>
          <a:xfrm>
            <a:off x="179280" y="189000"/>
            <a:ext cx="47386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83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19280" y="6307560"/>
            <a:ext cx="50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. Александр Полу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6200" y="61657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батов К.И. Тор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Торжок - Горбатов Константин Иванович"/>
          <p:cNvPicPr/>
          <p:nvPr/>
        </p:nvPicPr>
        <p:blipFill>
          <a:blip r:embed="rId1"/>
          <a:stretch/>
        </p:blipFill>
        <p:spPr>
          <a:xfrm>
            <a:off x="108000" y="549360"/>
            <a:ext cx="88534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5738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6145920"/>
            <a:ext cx="7848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инджи А.И. Ранняя весна. 1890-1895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851360" cy="640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19640" y="403560"/>
            <a:ext cx="3552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ЯЛЫНИЦКИЙ-БИРУЛЯ В.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чале весн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3840" y="62362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  И.И.   В начале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http://s48.radikal.ru/i120/0811/3c/85143735d8f7.jpg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6032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ггольц Р.А. Оттепель в Гатчине. 18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Берггольц Р.А. Оттепель в Гатчине. 1897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52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врасов А.К. Грачи прилетели. 187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00600" y="189000"/>
            <a:ext cx="4976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36:15Z</dcterms:created>
  <dc:creator>User</dc:creator>
  <dc:description/>
  <dc:language>en-US</dc:language>
  <cp:lastModifiedBy>Natali</cp:lastModifiedBy>
  <dcterms:modified xsi:type="dcterms:W3CDTF">2013-04-13T17:46:58Z</dcterms:modified>
  <cp:revision>18</cp:revision>
  <dc:subject/>
  <dc:title>Весна в картинах художников</dc:title>
</cp:coreProperties>
</file>