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044-CC94-4922-B9C7-A5142F71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21CA-B798-453A-9D32-B9774F6E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4E7-984B-4117-B40B-00ADA653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700-F2A8-447F-B6EA-DE986D21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C18-783B-4870-897E-C38CD506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102-06F7-4630-9577-644B5551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E00-C36F-4516-BCF1-3112F3DA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EED2-9B02-4917-8847-303D35AB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C31-BC81-4FA2-97AF-908E9F65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8D1-049A-446E-8DA9-E925C0AB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76D-DD48-499D-8942-EED944B7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D99-B139-4682-8614-50DEE9EC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3185-0623-47C0-AF61-F6A40E1550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kashina.ru/galery/VESNA%20.jp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Весна в картинах художни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6237000"/>
            <a:ext cx="64008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Составила:Ваганова Н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213000"/>
            <a:ext cx="344952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58480"/>
            <a:ext cx="43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троухов И. С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Ранняя весна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http://s58.radikal.ru/i161/0811/01/37d49be9b7c3.jpg"/>
          <p:cNvPicPr/>
          <p:nvPr/>
        </p:nvPicPr>
        <p:blipFill>
          <a:blip r:embed="rId1"/>
          <a:stretch/>
        </p:blipFill>
        <p:spPr>
          <a:xfrm>
            <a:off x="3840120" y="189000"/>
            <a:ext cx="5062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4200" y="6218280"/>
            <a:ext cx="4106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одский И. И. Весна. 1914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8508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045040"/>
            <a:ext cx="43210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врасов А. 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нняя весна. Оттепель. 1880-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065480" cy="518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Саврасов А.К. Ранняя весна"/>
          <p:cNvPicPr/>
          <p:nvPr/>
        </p:nvPicPr>
        <p:blipFill>
          <a:blip r:embed="rId2"/>
          <a:stretch/>
        </p:blipFill>
        <p:spPr>
          <a:xfrm>
            <a:off x="4665600" y="692280"/>
            <a:ext cx="4152960" cy="5823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13440" y="26028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нняя ве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6176880"/>
            <a:ext cx="843588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лерий Изумрудов Начало весн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Начало весны"/>
          <p:cNvPicPr/>
          <p:nvPr/>
        </p:nvPicPr>
        <p:blipFill>
          <a:blip r:embed="rId1"/>
          <a:stretch/>
        </p:blipFill>
        <p:spPr>
          <a:xfrm>
            <a:off x="1116000" y="189000"/>
            <a:ext cx="705636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60040" y="6307920"/>
            <a:ext cx="612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он К. Ф. Весна в Троицкой лавре. 191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0580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8135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3333cc"/>
                </a:solidFill>
                <a:latin typeface="Arial"/>
              </a:rPr>
              <a:t>ФИ</a:t>
            </a:r>
            <a:r>
              <a:rPr b="1" lang="en-US" sz="5400" spc="-1" strike="noStrike">
                <a:solidFill>
                  <a:srgbClr val="669900"/>
                </a:solidFill>
                <a:latin typeface="Arial"/>
              </a:rPr>
              <a:t>ЗК</a:t>
            </a: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УЛ</a:t>
            </a:r>
            <a:r>
              <a:rPr b="1" lang="en-US" sz="5400" spc="-1" strike="noStrike">
                <a:solidFill>
                  <a:srgbClr val="cc9900"/>
                </a:solidFill>
                <a:latin typeface="Arial"/>
              </a:rPr>
              <a:t>ЬТ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МИ</a:t>
            </a: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НУ</a:t>
            </a:r>
            <a:r>
              <a:rPr b="1" lang="en-US" sz="5400" spc="-1" strike="noStrike">
                <a:solidFill>
                  <a:srgbClr val="663300"/>
                </a:solidFill>
                <a:latin typeface="Arial"/>
              </a:rPr>
              <a:t>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49120" y="6308280"/>
            <a:ext cx="519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рнова Татьяна. Весенний этю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Весенние пейзажи"/>
          <p:cNvPicPr/>
          <p:nvPr/>
        </p:nvPicPr>
        <p:blipFill>
          <a:blip r:embed="rId1"/>
          <a:stretch/>
        </p:blipFill>
        <p:spPr>
          <a:xfrm>
            <a:off x="250920" y="404640"/>
            <a:ext cx="8638920" cy="5810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564720" y="623556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манов  Ро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80360" cy="5948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24400" y="6236280"/>
            <a:ext cx="76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юков И., Весенний пейзаж. Первые дни вес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5588280"/>
            <a:ext cx="3168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робьёва О.П. М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живопись - пейзаж, купить картину Март"/>
          <p:cNvPicPr/>
          <p:nvPr/>
        </p:nvPicPr>
        <p:blipFill>
          <a:blip r:embed="rId1"/>
          <a:stretch/>
        </p:blipFill>
        <p:spPr>
          <a:xfrm>
            <a:off x="179280" y="189000"/>
            <a:ext cx="4246560" cy="568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Весна"/>
          <p:cNvPicPr/>
          <p:nvPr/>
        </p:nvPicPr>
        <p:blipFill>
          <a:blip r:embed="rId2"/>
          <a:stretch/>
        </p:blipFill>
        <p:spPr>
          <a:xfrm>
            <a:off x="4595760" y="1268280"/>
            <a:ext cx="4338720" cy="5391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25440" y="18720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бия Владимир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6165360"/>
            <a:ext cx="82296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жицкий К.Я. Повеяло вес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Повеяло весной. 1910. Холст, масло. 81х109 см - Крыжицкий Константин Яковлевич"/>
          <p:cNvPicPr/>
          <p:nvPr/>
        </p:nvPicPr>
        <p:blipFill>
          <a:blip r:embed="rId1"/>
          <a:stretch/>
        </p:blipFill>
        <p:spPr>
          <a:xfrm>
            <a:off x="684360" y="260280"/>
            <a:ext cx="77054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17440" y="5865480"/>
            <a:ext cx="355968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316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дыгин Олег. Весн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640720" cy="56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Весна"/>
          <p:cNvPicPr/>
          <p:nvPr/>
        </p:nvPicPr>
        <p:blipFill>
          <a:blip r:embed="rId1"/>
          <a:stretch/>
        </p:blipFill>
        <p:spPr>
          <a:xfrm>
            <a:off x="611280" y="260280"/>
            <a:ext cx="7921440" cy="5896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34160" y="623736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гей Белов.Природа Байкала.Ве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24360" y="6236280"/>
            <a:ext cx="45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стигнеев Андрей. "Март"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51280" y="260280"/>
            <a:ext cx="3035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витан И.И Весна. Большая вода. 1897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434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4920" y="6127200"/>
            <a:ext cx="4257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стодиев Б. М. Весна. 192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84836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6093000"/>
            <a:ext cx="82184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гения Кашина Ве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Весна, картина Евгении Кашиной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15920"/>
            <a:ext cx="720072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9240" y="616464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а Сергей Чаплыг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Весна"/>
          <p:cNvPicPr/>
          <p:nvPr/>
        </p:nvPicPr>
        <p:blipFill>
          <a:blip r:embed="rId1"/>
          <a:stretch/>
        </p:blipFill>
        <p:spPr>
          <a:xfrm>
            <a:off x="179280" y="260280"/>
            <a:ext cx="8696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35640" y="6091920"/>
            <a:ext cx="569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гач Ю. П.Весна. Прохладно, 1976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Весна. Прохладно, 1976г. - Кугач Юрий Петрович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97440" y="6235920"/>
            <a:ext cx="45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кшеев В. Н.Голубая ве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090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Картина Весенний пейзаж"/>
          <p:cNvPicPr/>
          <p:nvPr/>
        </p:nvPicPr>
        <p:blipFill>
          <a:blip r:embed="rId1"/>
          <a:stretch/>
        </p:blipFill>
        <p:spPr>
          <a:xfrm>
            <a:off x="971640" y="260280"/>
            <a:ext cx="7488000" cy="5464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36360" y="60202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енний пейзаж ГРАБАРЬ И. Э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92360" y="57340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-1576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"/>
            </a:br>
            <a:br>
              <a:rPr sz="800"/>
            </a:br>
            <a:br>
              <a:rPr sz="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ноградов С.А. Весна идет. 1911</a:t>
            </a:r>
            <a:br>
              <a:rPr sz="2400"/>
            </a:b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52894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витан  И.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ущие яблон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http://i065.radikal.ru/0811/a9/be8439eef386.jpg"/>
          <p:cNvPicPr/>
          <p:nvPr/>
        </p:nvPicPr>
        <p:blipFill>
          <a:blip r:embed="rId1"/>
          <a:stretch/>
        </p:blipFill>
        <p:spPr>
          <a:xfrm>
            <a:off x="468360" y="549360"/>
            <a:ext cx="82090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6560" y="115560"/>
            <a:ext cx="386424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ишкин И.И. Лес вес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Шишкин И.И. Лес весной"/>
          <p:cNvPicPr/>
          <p:nvPr/>
        </p:nvPicPr>
        <p:blipFill>
          <a:blip r:embed="rId1"/>
          <a:stretch/>
        </p:blipFill>
        <p:spPr>
          <a:xfrm>
            <a:off x="179280" y="189000"/>
            <a:ext cx="473868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834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619280" y="6307560"/>
            <a:ext cx="50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а. Александр Полун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26200" y="616572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рбатов К.И. Тор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Торжок - Горбатов Константин Иванович"/>
          <p:cNvPicPr/>
          <p:nvPr/>
        </p:nvPicPr>
        <p:blipFill>
          <a:blip r:embed="rId1"/>
          <a:stretch/>
        </p:blipFill>
        <p:spPr>
          <a:xfrm>
            <a:off x="108000" y="549360"/>
            <a:ext cx="885348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7080" cy="5738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6145920"/>
            <a:ext cx="7848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уинджи А.И. Ранняя весна. 1890-1895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851360" cy="6408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19640" y="403560"/>
            <a:ext cx="3552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ЯЛЫНИЦКИЙ-БИРУЛЯ В. 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начале весн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3840" y="623628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витан  И.И.   В начале м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http://s48.radikal.ru/i120/0811/3c/85143735d8f7.jpg"/>
          <p:cNvPicPr/>
          <p:nvPr/>
        </p:nvPicPr>
        <p:blipFill>
          <a:blip r:embed="rId1"/>
          <a:stretch/>
        </p:blipFill>
        <p:spPr>
          <a:xfrm>
            <a:off x="611280" y="260280"/>
            <a:ext cx="784836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6032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ггольц Р.А. Оттепель в Гатчине. 18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Берггольц Р.А. Оттепель в Гатчине. 1897"/>
          <p:cNvPicPr/>
          <p:nvPr/>
        </p:nvPicPr>
        <p:blipFill>
          <a:blip r:embed="rId1"/>
          <a:stretch/>
        </p:blipFill>
        <p:spPr>
          <a:xfrm>
            <a:off x="755640" y="260280"/>
            <a:ext cx="7920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352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врасов А.К. Грачи прилетели. 1871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00600" y="189000"/>
            <a:ext cx="4976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5:36:15Z</dcterms:created>
  <dc:creator>User</dc:creator>
  <dc:description/>
  <dc:language>en-US</dc:language>
  <cp:lastModifiedBy>Natali</cp:lastModifiedBy>
  <dcterms:modified xsi:type="dcterms:W3CDTF">2013-04-13T17:46:58Z</dcterms:modified>
  <cp:revision>18</cp:revision>
  <dc:subject/>
  <dc:title>Весна в картинах художников</dc:title>
</cp:coreProperties>
</file>