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EB1-9DBB-4E20-ABC1-D11ED972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7AC-72F8-426D-8730-138773E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6DC37-212B-4747-8005-616CD3EB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B19FB-5640-4A47-B243-9217A571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736E1-5C16-4935-BD30-FE509B90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A939B-124F-44E1-93E7-BF4544F2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B3EDD-6D43-4A1A-82F7-26B7878C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22C9D-6A1F-4A99-A4B9-4818F7F1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28312-44BD-44E3-9CD2-E55B1389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5694A-755F-41F1-A8FA-0B9266D9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8A324-AE5B-458C-A79E-F2753A11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10C90-3BA4-4771-9E58-093DAA94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FEBE-228C-4411-8E95-492D5245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D07DC-067B-4E66-835E-E42D8061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A224C-FD3B-481B-ADB3-76C64060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B02B5-CFFD-471F-B468-B7CF50A9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64F78-0C04-4D2F-9865-A63478FF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29B39-9162-476F-B552-3B4850D2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5FB48-86EE-4439-AC5E-364681F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2DDDD-BF32-44F0-847D-B64EA7C6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CEFC2-1421-4D89-81A8-F3BD13C3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83F61-76DB-474E-AC69-753CED46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E3965-2B0B-4685-983F-D100AF8B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79C-D5AD-46CF-BF8B-73E84540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73DEC-4C30-414C-A26A-BD9D974D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30DE5-CB26-4E31-A3F8-45AE5D96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915C1-E6C6-4C4D-8168-39847038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FCB49-7185-4AB0-B102-ABA8EFC9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13F6F-0433-4212-BD7C-69EB6C76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CB03C-3A25-4C0A-A727-922E708C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8D916-E8C0-4ECD-959D-45922087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BD6CD-D6BF-4154-97CC-69B38D84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32304-D8B4-4538-B288-6A2030FC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AC31B-EE01-4E69-9673-289067F5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4EB99-37EA-46E0-B77B-56A78042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26A29-57D8-44AF-8B7E-AADBA397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2EC1D-0F1B-40FC-A4FF-E19793D8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192CC-BA94-4A7C-9049-33CAB936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11B70-2F6D-4C4F-B4DD-D35BF33F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CD27C-4417-42DC-A546-668265D9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6FBCC-AD3B-44B5-B172-E43749E0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091D2-5755-4AA6-811F-4FA8CEA9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218CB-68FC-4758-B06A-2BBA88D9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43C92-5B90-426A-80BD-ACBCAB85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CD202-BA21-4C23-BEA5-3D84837C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31F2F-3882-449A-815A-D577F60D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8C65D-B264-49F8-ADBB-7B0CCBB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CCCE8-83CD-42CB-BA96-62032731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3E160-F79E-4FD1-8F83-FE98F684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BBFA4-4CF3-4CFE-902A-8A092F75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A225E-9CD6-40B0-B9C4-CB096FAB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C67FA-0BD3-407D-AA80-94505324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3C943-F9F0-47BF-86D4-36B0973B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D7A4C-AFB4-4B78-9D8F-2EAF21E1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44BB0-E56E-4835-83F8-2328B153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4AC2A6-5EF8-48E6-8D75-97BBB80D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0AA9C-7B9D-4759-8415-3EB81A40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1ED6C-4CA6-4994-BFBB-1418E712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51E11-E058-42E7-9882-CFBA235F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A40AF-8461-4EE9-A8EA-6905AAAF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D4E01-B958-4677-AEA8-22B0B358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92051-02E8-4084-8C19-C0716903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15BB2-019B-4AC2-A95A-E3DDC5DC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30569-A5E0-4D36-B5FB-781C3F97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B7346-E6F1-46D7-99E8-8CFC15C8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334D84-06AF-48DD-B4C7-BE1EAE33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68B22-DAFF-4D9A-8E8C-137D0941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E1B58-CA09-4D07-9986-2754203B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9550B-438C-45E5-87CC-DC5897B9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C961B-29DA-4E79-B965-B629DB9A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86112-347E-42D2-AAFB-126AF7AA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A8EFD-2C73-4B8D-84F3-478D9C8D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47CCDA-C276-4E14-88D4-28F52A1F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F3490-1F5D-4651-A457-ABDA36F9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DE49F-7E55-4D02-A2CF-348DE2D5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5A6B4-CC63-4E5B-BC7C-AD7DAE65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90EA62-8779-4954-9261-2FC42E7C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5977AF-08D6-4F70-86A2-C470D19C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ED6F0-8823-47E0-9090-BE1D8EC7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CAEAC-2CB4-4ABC-A000-643E11F2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5F86E2-F4A4-4A3D-8119-6DD373EA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082E4-8009-4E5F-9594-40C020E7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D3D94-2918-41CB-AA8A-CF22BC88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169DE-015F-4464-9ABD-1F615471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B30ED4-0231-4E7C-8988-ABE1E843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91382-CDCB-4C5B-A863-5609620B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E1EA95-241C-4EF7-8060-98F9E6CD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9FD1E-93A9-44A8-A108-FD1970D2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8113B-9952-49AF-A1D7-1F07CA1C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0EB5B-B3E8-4487-B99A-7C87DE8D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C92ECA-484A-452F-8EA5-D352D265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D96DE-7C2A-48E0-A286-7B2947D8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9304BC-9910-423D-9099-49F86660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65E452-C622-4B58-8F68-F0390231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D3373-F2A8-4B0B-9A2F-5441702A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AA257-40E1-4AD2-8970-322B42C3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538B5A-CBB6-4B94-BAA8-2440B0E0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4A925-93DD-4E33-8435-CE79E567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BC038-0DF8-4D83-94E5-20D9988C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418EF-60CE-482C-B257-90630968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5A906-97AA-45A8-B7F6-B5A215FB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4A003-8681-4C74-921C-5393796A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CC371-87E6-4CED-AEE5-AE781D55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52C48A-D6E4-48C5-9BB1-0C905742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8402BD-C070-4AA6-B46B-A78F8E4D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B5929-FDBA-478E-8A30-8C892BCB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D3D80B-FB51-4170-AFF7-2F7BD11F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916BB-4DEF-4081-A5B4-D3B93B4F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EC000-19BF-4E84-8467-BE82704D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FBF94-6BF4-48C0-B04A-ECDEA920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F94F9-E804-43B5-9D9B-6B6ECBE0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186F-2CF4-43B4-8634-6B3A1146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67B3E-60F5-447A-9EC1-206F8FDB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6F66D9-ADDA-482C-A25F-2709B6B0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FF852-26B0-4F4D-BD52-F02DBF65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1C7FD-166F-421F-A6E8-E2FF0FE8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F6F5D-6A49-4FF3-9913-033BF7FE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402CE7-F739-4F2B-AF7E-1F6559AE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19E2D4-2CB0-4E99-BF44-965E48CA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D4D2BA-0BC6-4B9D-AD12-93560CB0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1382A9-0478-4F21-9F8C-AEC1FB6C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26DEDE-9014-4502-976A-1FDD7E16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E4B743-4CD9-4AA0-9944-40EE7AF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B5DA1-3333-4AEB-AE5E-58FA90E8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9D7321-F344-4968-9621-65A6682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68F7D-3B75-4473-BEF5-C33EB482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EA3ACD-14B4-40BB-BD83-F49D6824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D1C8CC-F7F3-4D2B-8863-77C4345E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F5A79D-4C1C-49B3-A26D-E39DA85D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475FD-AB06-488A-A1B5-9A009EEA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131CC-D72B-4BA9-97CD-7DEC0606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DD803F-772F-4A7F-BAD9-8CC3C89C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A9E65-AD93-4EF1-A4A1-8AFC0926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D54CAA-AC4E-4E8B-BF78-BBD9EBF9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D8576-5799-4EF1-BBDD-5532DC14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B3DE74-1D6C-4C89-802B-F01CB75D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9B275-36B2-4DE9-A8D9-08443D94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DE0F6C-8CBD-49A9-8304-CFEE4130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23E549-66B3-443F-BF31-7F17D665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ED4B39-206C-4A71-B939-393812E4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84695C-1751-4F3E-97DD-AB614167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77A466-5632-4288-AB19-079432DB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2747CC-A275-4072-8BF1-96795265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98F982-3830-4CE8-AA4E-3A96F87A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7F3A47-385B-4BDB-9198-9B4D8548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E2889-0AF0-4FD2-BE8A-22DDC1B1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09BE4F-3AAE-4DC0-B747-CB6F59C1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81721-9F19-480A-A2D0-201FE756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1A726B-A25C-4015-A410-E3D55410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7A34AD-207C-42F2-9DBB-785B905A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61F954-4A22-4D46-A25F-FE2C3F13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B09541-22E9-49E2-9F86-5B2A255A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3677DC-0097-4E4F-9547-CADD6165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7EC62-28D4-4E75-AF36-9B242D5F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605C5-1043-476A-BCE0-C0C737B4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04958-9081-422C-81AC-EA38F93F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C6CB9-D7C6-4F0B-92F5-2EFAD0DB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E4AE3-BF1B-4C9E-8502-611EF6D2C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0C4C06-3B4A-4D0E-BA48-98114B23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14722C-4474-4AE6-9588-9E6C8063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2D1E4A-59DA-4274-A759-E999E629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29D915-19E3-493A-98C6-A7E6549C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07DCD-1D22-4F40-AC35-DCFDE30F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B344D4-2290-4FDC-9300-F9B79640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760764-7814-47A7-9BB7-D7CD6FA5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99611D-8CC8-45BB-BF52-BA3DB2DB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655CD7-AD58-4B25-8694-72C58F3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E282-9C7A-41DF-AE35-65E8F186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336A2-8E40-49C2-A3E1-E00AF1C5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F189FE-0C61-4887-9569-3A342C8F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1E76E-0623-418A-B7DF-A5F07BE8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F8DB89-A362-4CD7-BFCD-A4989CC1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0406C2-CF30-4582-9A89-1A1307A5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B85E85-774B-4BCB-A628-4B7778AD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0FE61B-5AAA-4728-B2E3-1D83B170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EC3313-7B94-4F53-8D7A-155B344F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F51256-89C2-4FE7-83C9-6B179449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F2F9A8-C432-4D59-9A18-79FCD2B7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B32A-E990-42B7-A1BE-10DDD1A9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4E72C0-69C4-4E5B-A74D-87FF260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EC0A9A-638E-486E-98C2-E6B6C041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ABB36D-475B-4CB9-B075-C352C132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513BEB-7FF0-4FAD-A623-9411F503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489E5F-6C6E-4BBF-B1AA-CA48A562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CB05CC-254E-44CD-81FC-8EB7BE00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79C310-2A11-411D-A525-F23D3D3A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AE4F31-F585-44CA-ADAB-5F404078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FE5649-85DE-4970-B8BF-D3D66312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632903-47D3-4820-BC13-693EBD92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CBFA-3DC5-45B0-B46E-0EE27699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6BA539-267D-4527-A3A6-271CC94C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D0C058-52D6-48DE-AD0A-36C9DA80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F11D23-E917-475F-AE2F-09F3D3DF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DBCD0A-88F0-42B9-B53F-A2B3951D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EB6D2D-8A0C-4C0B-84DB-75CED06D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69770B-20EB-49C5-A277-5EC93B0E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64BFE5-7594-4426-AFF0-812A5A72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436610-DE36-435E-A803-9F81E36D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807137-D076-40C5-AB63-96790FE2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97ED71-B399-4DFB-B758-017E0A98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BD6F-F323-46DF-9D1D-0966E49B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335802-DAB6-4FD7-8259-73D624C5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539169-E443-4EAF-B779-97874AC6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190F8F-23C6-4686-A9A4-13637FD6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59400C-D6FB-422F-ABA0-589BA092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D9FDE2-E376-48EF-B2F6-C1B7492E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A89196-1580-4F0C-AC02-8987834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F5BFB9-1BA5-4530-BA59-3AD5A1B2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479DEE-81D8-4631-879C-14F0DA7E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F7EB72-AE13-44BE-B1E7-F33682B8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849260-09C9-44E8-B0DC-8D7D5F54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678B-3CDB-4ED8-A8B0-23185297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125B98-750E-440A-98D2-0F553715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EC281E-FCDE-4AFA-B529-79BDA201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BB92C2-54AF-47AB-AF43-A354878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D47C29-EA5C-4BC9-A929-2A7E26AE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C5B907-A7D9-434F-B57A-FDD46FE3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9BD003-72A9-4E4A-B601-A8E8C992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3DF6FF-4FB6-4837-9F6E-E1C6609F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DDAE79-2FD2-47D2-9E87-13A906A8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04318C-4A15-4B9E-AF79-9C84E51D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859DFD-153F-4C8B-AFAD-9A97B38C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4D3-3D32-447A-9FD9-32EECFF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060D-EE7C-4180-83F9-5F8298C1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15BCF8-00A7-46C3-A2C1-ED6EB826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655E-44CF-4042-98A2-8041C1DF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1527-4E48-4887-99D5-9BF20F2D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7C56-E032-4DB6-A1F6-A44E3FE4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E347-C15C-4F4C-8F20-7C122D07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7E03-B34F-4429-A66E-58910B55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460AA-4A04-415E-B981-000226CD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26A34-441E-4B81-BEE9-94101182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77EF-49FA-482F-B898-A393D1F7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E228-7CED-488C-BAE8-ED853F98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022-19CA-4DC8-A387-5DA8BECC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265A-518F-403C-9EB9-2CACB986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2C820-25DF-452C-A976-1A91B947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3320E-AD5F-47F4-8104-F653B8E8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4FE88-33D6-4282-9827-44CE4A8F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CF25-273F-4097-8EBB-5322F3CD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68FD6-3110-426D-A759-6AA97200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CCB6C-0F78-4E5A-8816-B1AFDB7B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12DCE-3864-4A31-A7D2-40362A18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3850-D95A-4EF9-8423-233E38E1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CEFC7-A1E3-43F9-874D-00E263C2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98A-D08D-4BD1-8D0B-4805FBCA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791D5-B488-47E2-8DD3-66538F09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31C0B-BC50-4072-9E2E-985B068F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9853C-A4D0-4516-AEFE-7F32AA31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5ACA7-F0E7-48F4-AC85-5301BB20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CD742-0AD1-4634-B4A1-5158C8DB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34A7E-18AE-475A-8B93-E54F0E90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B3177-C94E-41C8-975E-05C71E8C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1C33-36A9-4786-AE4E-C98CC32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511DF-EE55-495D-9D49-6DC40BB6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0DD66-0140-4976-8A42-561FF2C0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B14D-D6AA-4889-99BD-0DAE3965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08F6-EB7A-446D-A300-89836A8D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CD681-A247-4C6B-8C45-0E82B08D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CA4D2-803D-42C5-B8C8-5535C437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D294D-EF2E-4D3B-835A-F6CAA89E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F4485-A248-4C3E-989F-DDF8132B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9A4D7-A9D0-492B-8A8A-28C20B39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C68E2-CC3E-41B9-9671-708BBB86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C6378-E0B5-42E9-9A06-1FF3FFF1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2DA63-DF03-4E29-A446-3B013A56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6BEC6-7C9B-478C-99C8-5A8F55EB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981-1533-4DD3-BDDB-4263E0CD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45E23-9525-454E-9B98-1099ED48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EC454-F179-4A94-B502-6AC8EB1E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67898-06EF-43E6-B73B-933038D7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8CBB7-DF0B-4F34-8E23-2CD840CC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38A72-79E8-4C07-828C-B3BD7E13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F6308-A2EE-42C1-A343-1A12D7A8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1A7E7-5A76-4034-A04C-B4D30AA8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99684-7761-49D4-B65F-51EBA9D0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C71AA-D5CE-4BD1-845F-CFEEA190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94760-E915-4ED6-B8EE-EE0A6337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0E2-D718-4315-A059-68027F77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E5997-9776-420E-A803-C0BD54B7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DD7A3-EEBD-43D8-8151-7B987C35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A24F4-AABD-4132-B367-BE4D2871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6CF00-79CE-4E80-B426-AEA57302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1A3B1-271B-48D2-ABF2-C3DFC412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C8D0A-6736-4A46-9F24-20BF8581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2E6C0-67F1-4C4E-804C-69BE382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4E7BF-BDF3-4004-95D1-D33FE8A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2F7F2-DFC2-4BC1-AF95-71726116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88F77-227B-41F0-BE00-2E4B9966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20AE-7479-4680-A642-8302490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5E55C-599D-4E30-93FA-073600EA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3C4C8-1A58-4A32-B4EB-86E6B1C0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84E02-9F57-45A7-BD41-66969F9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BA64A-E4D9-429F-A455-40B1FB2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54A5C-7584-41F1-BF63-DBB02721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23957-5739-49B3-8B1E-D7C6ACC4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05CA7-2EF4-4703-8B87-A9F4E850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11503-F137-4CD5-9CC5-033AFB0A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9F511-7BA2-46C5-B87C-2EE22F30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DF26A-5E71-446F-91A3-90741B95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40EE-34AC-4221-ABAA-B0DF53D15AD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0FCB-9DE2-4B3F-87D5-086B9FB45D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6E03-4285-49A7-BAFD-DDCB97FCE1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2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EE0E-B6D9-4484-AAAC-372D2643EE2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70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1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2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7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74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5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6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7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8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9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0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1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2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3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4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5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6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687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8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9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0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1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2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3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9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9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70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41D6-7FAD-4705-B6A0-FAC961116A3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4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4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5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754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5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E4CE-5985-477F-9FC2-4ECB471304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8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9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0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1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2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3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4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5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6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7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8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9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0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1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2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3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4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5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6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7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8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9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0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1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2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3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4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5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6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7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8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29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0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1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2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3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3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5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0CDF-F837-4293-B67E-BC545C2B1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dt" idx="4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211E-0439-4650-8B3E-29C98C3A4B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2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F4EA-AC35-4848-9CD4-0C98081355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69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970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1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2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3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4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5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6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7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8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9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0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1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2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83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DA20-50AB-48EA-B6E0-22D8BF2B65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26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7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8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9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0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1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2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3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4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5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6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7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8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9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0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38A6-171F-4257-980C-EA5C4A45C3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9A37-403A-43CA-BD19-504AF991A0E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83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4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5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6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7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8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9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0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1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2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3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4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5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6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7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188D-E8EB-4268-8002-CB01E544EAF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140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141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2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3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4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5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6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7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8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9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0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1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2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3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54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155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6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7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8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9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0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1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2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3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4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5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6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7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8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9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0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1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2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3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4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5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6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7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8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9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0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1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2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3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4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5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6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7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8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9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0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1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2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3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4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5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6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7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8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9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0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1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2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3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4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5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6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7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8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9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0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1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2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3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4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5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6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7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8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9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0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1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2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3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4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5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6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7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8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9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0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1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2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3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4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5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6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7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8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9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0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1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2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3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4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5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6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7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8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9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0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1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2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3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4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5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6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7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8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59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0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1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2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3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4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5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6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7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8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69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0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1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2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3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4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5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6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7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8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79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0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1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2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3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4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5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6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7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8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9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6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02DA-FF62-402B-812C-C9BD0FAB9DC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2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3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4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5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6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7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AEF9-2420-44BE-B802-AF6FC4F45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38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8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9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FA31-E4C2-444F-8D26-819FA77147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9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40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1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42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7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7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7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0A93-D17D-4AAF-BDB5-64F0280128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4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485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486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87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88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89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0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1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2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3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4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5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6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7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98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499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500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1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2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3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4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5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6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7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8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09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0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1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2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3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4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5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6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7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8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19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0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1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2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3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4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5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6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7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8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29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0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1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2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3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4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5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6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7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8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39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0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1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2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3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4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5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6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7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8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49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0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1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2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3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4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5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6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7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8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59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0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1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2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3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4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5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6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7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8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69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0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1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2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3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4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5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6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7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8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79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0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1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2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3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4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5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6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7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8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89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0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1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2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3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4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5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6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7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8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9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0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1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2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3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4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5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6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7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8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9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0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1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2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3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4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5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6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7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8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9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0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1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2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3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4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5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6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7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8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9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0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1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2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3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34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dt" idx="7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C1BC-B9A4-462E-82E0-A292D797962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8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2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3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9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0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1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2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3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4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25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2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3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4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908-418F-4034-B748-1EC6530C79A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8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2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2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DCBC-1B21-4BCF-970A-2F8EB8D2F4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5949-540D-4AD6-9097-04402C6AE6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0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0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6A08-4525-442F-8A1A-91113CF54F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17DD-66DF-4D57-9369-71E4856A6E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0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2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3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5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6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7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8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80CB-25D3-41AE-A431-9D9519E6136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7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483F-345A-410E-B9A8-A8EE0E78A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«Бардовские песни»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ладимиру Высоцкому посвящается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 учитель музыки МОБУ «Есеновичская СОШ»  Булганина О.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Владимир Высоцки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мер 25июля 1980года. Его могила круглый год усыпана живыми цвет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6045120" y="1828800"/>
            <a:ext cx="264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го именем называют лучшие сорта цветов, труднодоступные горные перевалы, улицы. Работники Крымской астрофизической обсерватории назвали малую планету «Владвысоцкий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3" name="Picture 4" descr=""/>
          <p:cNvPicPr/>
          <p:nvPr/>
        </p:nvPicPr>
        <p:blipFill>
          <a:blip r:embed="rId1"/>
          <a:stretch/>
        </p:blipFill>
        <p:spPr>
          <a:xfrm rot="21415800">
            <a:off x="685800" y="1676160"/>
            <a:ext cx="4944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адимир Семёнович Высоцк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одился 25января 1938 года в Москве. С 1947 года жил в Германии. В 1949 году вернулся в Москв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0" name="Picture 18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3887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Владимир Высоцкий студент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2 г.- МИ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3" name="Picture 9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505320" cy="4565520"/>
          </a:xfrm>
          <a:prstGeom prst="rect">
            <a:avLst/>
          </a:prstGeom>
          <a:ln w="0">
            <a:noFill/>
          </a:ln>
        </p:spPr>
      </p:pic>
      <p:sp>
        <p:nvSpPr>
          <p:cNvPr id="1684" name="Text Box 10"/>
          <p:cNvSpPr/>
          <p:nvPr/>
        </p:nvSpPr>
        <p:spPr>
          <a:xfrm>
            <a:off x="5851440" y="3008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5" name="Text Box 12"/>
          <p:cNvSpPr/>
          <p:nvPr/>
        </p:nvSpPr>
        <p:spPr>
          <a:xfrm>
            <a:off x="443880" y="117936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62 год - МИСИ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6" name="Picture 13" descr=""/>
          <p:cNvPicPr/>
          <p:nvPr/>
        </p:nvPicPr>
        <p:blipFill>
          <a:blip r:embed="rId3"/>
          <a:stretch/>
        </p:blipFill>
        <p:spPr>
          <a:xfrm>
            <a:off x="4419720" y="1143000"/>
            <a:ext cx="4419360" cy="5483160"/>
          </a:xfrm>
          <a:prstGeom prst="rect">
            <a:avLst/>
          </a:prstGeom>
          <a:ln w="0">
            <a:noFill/>
          </a:ln>
        </p:spPr>
      </p:pic>
      <p:sp>
        <p:nvSpPr>
          <p:cNvPr id="1687" name="Text Box 14"/>
          <p:cNvSpPr/>
          <p:nvPr/>
        </p:nvSpPr>
        <p:spPr>
          <a:xfrm>
            <a:off x="594720" y="636120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65 год – школа- студия МХАТ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ольшая любов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краду, если кража тебе по душе,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ря ли я столько сил разбазарил?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глашайся хотя бы на рай в шалаш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сли терем с дворцом кто-то заня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11734920" y="4594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1" name="Picture 12" descr=""/>
          <p:cNvPicPr/>
          <p:nvPr/>
        </p:nvPicPr>
        <p:blipFill>
          <a:blip r:embed="rId5"/>
          <a:stretch/>
        </p:blipFill>
        <p:spPr>
          <a:xfrm>
            <a:off x="4191120" y="1295280"/>
            <a:ext cx="4572000" cy="5562720"/>
          </a:xfrm>
          <a:prstGeom prst="rect">
            <a:avLst/>
          </a:prstGeom>
          <a:ln w="0">
            <a:noFill/>
          </a:ln>
        </p:spPr>
      </p:pic>
      <p:sp>
        <p:nvSpPr>
          <p:cNvPr id="1692" name="Text Box 14"/>
          <p:cNvSpPr/>
          <p:nvPr/>
        </p:nvSpPr>
        <p:spPr>
          <a:xfrm>
            <a:off x="304920" y="57564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ладимир Высоцкий и Марина Влад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ервое концертное выступление 1965год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5" name="Picture 4" descr=""/>
          <p:cNvPicPr/>
          <p:nvPr/>
        </p:nvPicPr>
        <p:blipFill>
          <a:blip r:embed="rId1"/>
          <a:stretch/>
        </p:blipFill>
        <p:spPr>
          <a:xfrm rot="21132000">
            <a:off x="457200" y="1600200"/>
            <a:ext cx="3733920" cy="458460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5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697" name="Text Box 6"/>
          <p:cNvSpPr/>
          <p:nvPr/>
        </p:nvSpPr>
        <p:spPr>
          <a:xfrm>
            <a:off x="4191120" y="1523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следнее выступление 16 июля 1980год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50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ебют в кино состоялся в 1959 год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ысоцкий снимался у А.Столпера, И.Хейфица,М.Швейцера, К.Муратовой, А.Митта, С.Говорухин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0" name="Picture 10" descr=""/>
          <p:cNvPicPr/>
          <p:nvPr/>
        </p:nvPicPr>
        <p:blipFill>
          <a:blip r:embed="rId1"/>
          <a:stretch/>
        </p:blipFill>
        <p:spPr>
          <a:xfrm>
            <a:off x="4943520" y="1828800"/>
            <a:ext cx="40482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Соплеменники, окажите честь- зачеркните «был», напишите «есть».     П. Вегин.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ладимиру Высоцкому не суждено было узнать о своих наградах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з Международного кинофестиваля в Италии, специальный приз 9 Всесоюз-ного фестиваля телефильмов в Ерева-н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87 год –Государственная премия СССР(посмертно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атр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025880" y="1904760"/>
            <a:ext cx="4819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вая роль Высоцкого- Московский театр драмы и комедии на Таганке. Далее роли в спектаклях по произведениям А.Вознесенского, В.Маяковского, Б.Брехта, С.Есенина, А.Чехова, Ф.Достоевск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5" name="Picture 4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4496040"/>
          </a:xfrm>
          <a:prstGeom prst="rect">
            <a:avLst/>
          </a:prstGeom>
          <a:ln w="0">
            <a:noFill/>
          </a:ln>
        </p:spPr>
      </p:pic>
      <p:sp>
        <p:nvSpPr>
          <p:cNvPr id="1706" name="Text Box 7"/>
          <p:cNvSpPr/>
          <p:nvPr/>
        </p:nvSpPr>
        <p:spPr>
          <a:xfrm>
            <a:off x="1081440" y="579132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ектакль « Вишнёвый сад» 1972 год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«Гамлет» -лучшая рол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3048120" y="1599840"/>
            <a:ext cx="266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76год-первая премия на Белградском интернациональном фестивал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77год-высшая премия французской кри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80год-первая премия на международном фестивале «Варшавские встречи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9" name="Picture 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048120" cy="4910040"/>
          </a:xfrm>
          <a:prstGeom prst="rect">
            <a:avLst/>
          </a:prstGeom>
          <a:ln w="0">
            <a:noFill/>
          </a:ln>
        </p:spPr>
      </p:pic>
      <p:pic>
        <p:nvPicPr>
          <p:cNvPr id="1710" name="Picture 5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3429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4:59:56Z</dcterms:created>
  <dc:creator>Ольга</dc:creator>
  <dc:description/>
  <dc:language>en-US</dc:language>
  <cp:lastModifiedBy>дед сад</cp:lastModifiedBy>
  <dcterms:modified xsi:type="dcterms:W3CDTF">2013-04-12T05:05:5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