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76F8-B458-42C2-8419-C6F99C4AB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E850-BD73-462F-BABF-FB20C7D04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A7F7BD-849A-4FF6-A359-9C6866B07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16B4E4-54E8-4265-B1D4-49E0808F8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292775-A8D8-402C-A6AA-05A15CE0C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C8F9E1-2CCD-405F-94C7-42E7F0B1C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982EB0-8E94-4EAA-9D1F-272E54AA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5FA36F-8B4A-404E-9503-68E7FEC7A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EBABF5-8F08-40AC-84BC-41FE67C6B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A337FC-825C-44EA-81F6-909520E51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5E1647-00F6-4F7C-B788-8DFA3BCB0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4590BA-31DE-4272-BF05-927C5AB7D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10D4-8EA3-4361-A2A7-8E8BDE520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B81754-C3ED-4B85-A860-F65413AFE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60CDF8-0A54-441A-8153-1ACA6923C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69CB6C-B0F9-4D38-BEAC-555FAFC48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72BEE1-9711-4BD3-B9EB-4667DC2D1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99136C-877A-43F0-9C1C-5DCE09E6E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0BD084-3402-49D2-899A-F4BC5F492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125084-F519-4028-A2DC-AD46B372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5A50BC-ADA0-47C2-A88E-D92974D4D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7F9637-D27D-4D30-8C97-BEB7FFCEC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7388A8-343B-41F8-9287-2BFB5CBB3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C6B9-AE47-462F-9D1A-81C7DA590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744EC1-008C-48EC-8C16-A657367F2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E7C9B3-3CB4-4CB7-BC09-0F1D9ED3A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329991-C406-44F1-8356-F40449650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81CA63-EAAD-4A6F-8B5E-673DA0C6E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03F6A0-04E9-40A0-9682-5F61B90BB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151437-B629-4018-AD95-672BE32DC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D36EBC-B91B-422B-A9D3-F0DB4496B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86C968-5CCF-4BBF-8C70-00C9F5E6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FCF86B-9582-4365-A71A-AE0DB032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A444B1-E5ED-42B3-BDBA-F0F51BDA8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C88ABF-B80F-4EAB-9387-E383D904F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CBDD10-B757-4D00-9A7E-D3FF34E99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5AD088-F8E9-4A05-AFF2-7AEA5614E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4F9D3A-1C1A-4DB6-B8F1-4BEE3FD0D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E25E14-552A-4671-B7FB-3156FA9E3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C1FE8F-4331-4ECE-A59D-45223DE17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214200-79E7-406E-A6D5-6FBCEE5C2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F72609-E139-4D52-864C-453E47097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4ACC9F-A333-48E2-B60F-65A53708B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6E9825-6BC0-4E11-8D09-6B99B4C3F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76A689-7F60-41D7-940A-5192028A7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A39654-E62B-4ABF-9B30-E9415D852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269EF4-492A-4D2A-9D86-7FF3E89CE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867150-9C26-4DBF-97D2-928B84F53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323F1C-7208-4D8C-A297-2B61A9A0F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F76510-87E3-40A0-AA22-8A2C78090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6EF46E-60D1-4356-8D79-1DE81E244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314968-9AC1-4F33-9D8E-7A89A656B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448C95-BF36-4102-B46F-F63CC7BC5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905609-0562-423D-AC02-F0AF8E7E5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0D9F3A-28B9-4AFB-B719-BDEC0842A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4D5ED5-47BB-4792-B657-19829910F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D61FF8-9C4D-4749-8CB6-9ECA61D6D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84CA8B-0F20-4332-B33B-B07577B91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F33B33-8F66-4013-95EE-CE51F3F2F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FB0DBC-79A6-454C-988A-6D57720B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7F80DC-7311-495E-B369-68E4B61A3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376346-73FB-4B58-90C6-ECC9BC0A0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D4E710-DC08-40BB-BCC2-D2AE2F76D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F287FB-5332-40CB-89F6-3143F7395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358C19-9BF6-43ED-9843-39CD8C013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3689C4-D713-422E-A950-77464453D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E1DC09-C447-4D22-938D-76D1AA097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A4B661-A3A7-48A2-838A-853C75B54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F17527-B266-4A4C-9135-413F91685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31ADAA-8EBF-4E11-A85B-1E98F31CB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D5E4A9-2103-49EE-BDEB-35D8256F5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91B8B5-A1AB-49BE-83D8-9282044C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E2A277-EBE7-4237-9F26-01C10A3B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2EDC30-9F19-4C28-A4F7-0C9EE41C0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926B6C-15CE-44CA-BC8A-646A5F381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B9E4C6-782B-44E7-8326-1C85C959A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1A0123-8CC3-44C9-A7C4-E673EAF2D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7668E2-06AE-4C8E-A548-767C76C8F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0B4CB9-01E9-4CB8-B131-B90E8C41E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F03FEC-874A-4CF0-AF30-6AC5B8CDC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2CE56D-4CBA-422E-9E34-26E65C990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3FAA7C-3355-4281-BC96-A834DCC7F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C3EEFE-EB7F-4263-9C26-6BD41CD2E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5CFFEC-AF8E-43EE-B770-84F9E6B74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7EEFC4-B0D9-4BED-957B-34DB72C0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C82EDD-CDA2-4187-AF54-DA3B99115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573AB5-6555-4D87-8113-77340EC0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7DFE33-1825-466D-B154-B93E3C4AB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2C4286-2F59-4977-88D7-546C008E3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FAAF54-6292-41C7-8BD2-278B2E1B7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C6BACC-D719-440B-BDBC-D33EE38F9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CBCBCD-9E79-4508-9C01-D84CBDB74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291A25-1FC6-4F3C-A8F1-95F25D55A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9015D5-FC70-41CB-BE64-E305FBE06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510B8A-0672-4979-9C61-B4B861244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38C593-8478-4AC1-8797-EB98CEA79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A07FB4-7442-4BF6-97BA-7CD33DA81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7775A9-171A-4EB3-9FA7-BED246C0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BD75E0-C3A0-4D75-80CE-B769E89A7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7CD76C-D897-421F-A964-DC7BABD9D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72DC92-FBEC-46C1-A0CF-50756C94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FC8911-5586-4428-B188-F4E073588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F6C0CA-3170-421A-B97D-5DE9FB98A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E268CF-84DA-4127-8185-3605DC4AF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B73F7D-FBED-4B91-AB5B-661333F3D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595D4F-19EE-495E-8DDB-D22EEEF2B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69E2D1-2AA3-4812-9B2D-FC11BEE18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63CA9A-F232-4BDF-BB26-68F4B6ABF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534B33-8769-49F3-B42F-BEC005D90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03250B-84CF-432F-A1C7-4B75A6FE5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00DEEC-DA39-4503-AFBB-4150B2B08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8E4B-B76C-4A28-8790-015D3BC3A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05FCC6-A152-4ACE-A2D2-B25AE0B2B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C51FAF-F238-4C73-A134-F367D4B0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1659DD-3D45-461D-9B31-0D5D8C90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8666BA-E6BB-4D4D-A790-D776BA8EF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79F61E-D98B-42CA-8D82-F27B4DF3F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1E9DEB-CEC3-4901-BD5A-7A8172B1C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770863-A959-49E9-BC0D-DC2458224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E8745E-DAEE-466A-8D7B-30114AE21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C1D741-D79C-4156-B6D2-CFE7F83BA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BB2639-06FA-4788-815D-33120AF06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50ADB2-2533-4B3B-9AFC-34194E786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B82799-2B83-4E92-8071-EA3497C3C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BFB1B4-79DE-418F-97D1-85BC4F82D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493B5C-3528-46C3-A2A1-F8D28C150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EDC9DD-BC14-4D71-B8B0-D2727A26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72749A-ED46-40EA-A40B-58A2A3B7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C0815B-BE7D-4EBD-B5C8-DDB9984F2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3B3CC6-8C7A-4FAA-8F87-5C4846493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B1FF0C-03D6-43C7-B324-4AB48F428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E2A529-D578-4BB6-AF62-A447C4E0A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700B18-D80E-45BB-B918-3688EAA72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EC4907-AFE5-4623-B8E5-9CBEE40F8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D3BDAD-0B09-4D7E-9ACB-EA3418DB1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1F081D-AC0B-4CD8-851B-6FD9645A1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95FBA7-996D-4CD9-AE53-B0367D322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99C3C1-B54F-47C9-B283-7A3F6DE6A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024933-4F5B-42D0-9416-659BC3BE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C30872-138D-41E7-9E61-17BAAF32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44AF86-A3A1-459A-80D8-40A49FE6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780806-D451-43EA-BB1D-DCF642A0C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C1DED4-E957-4F13-B7EB-EC0697505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2139F0-5131-4B64-9353-B4493398A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32FA40-C1FA-49F2-A407-9F6A03971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27623A-C3BA-4280-A03E-DF57E4D54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2EC258-1B33-4CE8-9939-CEBAA007B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E00E3F-37C6-4B4A-B2F9-92C0239EA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287EE9-3DD4-4770-9DD9-98F738EED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C75637-6BBC-4835-A81A-FD6EB588B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5489CC-1D13-4DCB-8CE2-DCE1B646C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C2F23B-8F77-4332-B75F-E8D6EADE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665070-FB04-495C-B15D-16239B00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DFF567-89FF-4700-8132-658B7CB07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1F5A32-31FB-4FAD-8E36-5325C3F2E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91DBB9-0673-49A1-AC76-904CA186A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80DB11-5CD5-49E1-A921-668DCBB9B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900E35-9CAC-40AE-8F6F-BF864E7BD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B4A293-4290-4D48-ADF6-4599771B1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CDCA9E-2F60-42C7-83DB-8D47B90D0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2760B9-D72C-4590-8CEE-6BCEBAC8A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BA2354-0924-4262-BCA9-AA681D812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C490ED-EBBA-4BD9-8E04-43CDBD2A6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09CE8A-B398-44FD-9372-4780F57B9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346919-ECC1-4746-9D25-9B9C5689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2A3293-0A2D-4E69-AFF8-D2C8A57E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8CC9D0-95F3-4A60-B0F5-38952C459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F3158-2291-4E4C-AE0B-C52A1A980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FAEA38-67E9-4C9F-AB49-FC15A0B82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3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5D6D03-C547-4E00-A9D5-570F5909A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8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9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0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911E49-3D0E-4B02-A13D-DD4AE0DF6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5ADD7B5-49CE-46A3-867F-5B854C52D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03B9463-9D9C-4B46-9550-0D1CC49CC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B6C3B7F-F495-42A9-B2FC-7D8BCB37F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119A837-89DB-445D-B426-08DAA5517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42AC901-5AE5-4E0D-9834-5B2716E90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5317163-FA6D-4466-ACCD-2D5618B45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C2D7C2C-24F4-4F7E-9205-A20984BD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90767-87DF-44A1-A56E-F71303CE7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9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AE219C3-8327-4E77-9400-19D870744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04AC519-4C7E-4914-BF29-A90DE85C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A58B80E-16DF-45F2-80AD-23A32BFB8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1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80C1076-F461-483C-AA2F-551D41DC2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4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5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6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7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8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B7B401C-1769-42FF-8883-6F9B12EDA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1BA9917-5567-4CB2-A166-AF3A27F97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FCA25A3-68CB-47F4-B394-D2EAE646F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D63D4D6-B169-40C8-A2EF-2992B41D2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66A4B6D-D0B2-48CE-A225-5AE0E4938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B3744FC-8589-4EE3-9F8A-01A96E7E4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EDA2B-329B-4EFF-9A07-5B01C6894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CEC6496-924E-48DF-966C-7D84297D3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31917D8-22F8-4BAD-A336-8861C20D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7143C96-55B4-4546-A438-B7F999983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DC6A422-2F97-4F10-BAA5-01932F4EE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7BCEFC3-B4CF-4356-A678-A151135ED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1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C0C2003-3E42-4E84-8FAE-C6F99412D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6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7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8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A269E72-9442-4978-BAA3-F3A8AEFD3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F97D6BD-A751-46FF-858C-44486F30C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610DC53-38FB-47A2-8B51-D56141F1F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E4A3E09-9461-40B5-B7ED-29C0AD738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FB126-857F-4205-927F-BFEFA5984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75E935E-64A1-4EB4-AE1A-F76611595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E317A8B-245D-44DA-A56C-F0EAFEE24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1DC894D-6F88-4463-8CD3-EABCDD893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43391C2-40B3-4AF4-B798-E023CD09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D5DF157-0C5E-4A9D-A78F-BD7C225A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1F60D4A-A195-41D8-A39B-430300CC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7E940C8-F929-48FC-991B-A76F7E819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6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717F5A6-FF36-4B55-AA9B-6D0F9187B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1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2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3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885A69D-2174-445C-BF37-5E8C6E3E8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059A838-0A69-4DF6-8B1E-EAC440042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90423-8BD7-4043-81A2-B08BE07F9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129A51F-9453-4A68-82A1-2CF3FA09E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84E0127-00EC-4654-A33F-9140C0E00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5E7F09C-67DB-4951-ADC5-95310A483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20AE327-462F-4EAA-84E8-0FD401DF8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770EECA-6483-4657-A569-C3E42EC17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23BBA78-43D1-40A2-B614-33E79598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9F7D21D-EC11-4BFD-BD8E-E85F6F33E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FE319E4-9356-4A82-A28F-208E1573C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1F28A6D-79B1-4C95-B5BD-E7ED16F72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8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0FEC4F9-D65D-455D-A723-A7235A757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599F-2FA1-416A-AEFB-382439E7F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9DB2D-BB2D-4B87-B8DA-99821B44A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3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4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5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8C43989-B379-4AD0-A78A-5FCDDD42F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5B840-48BD-4CD8-9870-B356F8153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64D71-633E-4CBB-9F9C-1FC73336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A434E-9041-4358-B50A-14C9A5C3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CB2E4-38C5-4AB8-AF29-71A223F10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98AB8-4DBC-4CE7-9E06-5F2D11923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E876E-9C1D-400E-8B41-021878C6F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F72B8-1692-4086-8A79-FA9365E0D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D7023-54EB-43CD-BCCA-467373AED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0294A-4969-4431-B276-203B88C8A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AB9E-5C42-4889-8AFF-7006B0983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1FD62-730B-4E93-95AB-B73CEF541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5D903-A45C-4E50-A845-22B486158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7D92E-6676-4F62-9A06-0E7634B0F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87679-8674-4968-9C84-1FAC6383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61E09-F819-4F35-AD74-70335283D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8068A-605D-4AF2-89F9-765D76F09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340FE-6953-4F1B-970F-8F2093C8D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77650-79AB-436F-A04E-FFDB04337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4862F-E055-4A55-A0A0-C4D3BC807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8BB42-3A11-406C-BB2D-491EFB574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BAF8-2323-4B41-866D-5EA10F574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98BA86-391E-4668-8C69-7AECC722B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F95A2-688E-4F23-9662-99000B121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9292F-10E8-4739-8760-8736FF20B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8DA79-7FD6-4DC7-A830-C54B79000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DAA24-A563-44AE-84F4-E542B9E73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0C9DA-F38C-47D8-8D1B-67CDC69F5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8BC9F-87BD-48AF-B8BB-AE74ECF2C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EFDFDF-2A9D-4251-894E-CF6790CB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7F5E6-627F-4F3A-8411-E50087E87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098F9-0D12-411F-85D2-7B53163F2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469C-99A1-4EB4-A23A-B5A04A2A7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07020-7764-4530-A23E-6ED824689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62994C-66C2-4682-91E1-8101202EB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C51313-E03A-408A-AE1F-51F37A7D8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53D5A1-53D6-46E4-9220-B9238335A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C9F99C-CA91-451C-AC91-0B5C78296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A45E0D-9762-44C6-961C-A48E7F0BF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6667A-2DC3-487B-8676-343494E2D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839B51-43FD-4A94-B493-21B988D2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28182C-8056-4FCC-8D76-89FBE7774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E8B2D7-2395-48BB-BD45-FF8F47B75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96C0-C34B-47AF-B23A-8C8FB7E0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A91277-1773-4D43-BCB5-B1B5BE6A5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C3FA80-9572-4F94-9D25-B928A40BB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8B32ED-3F0D-41D3-B52A-CA168A721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4A2978-BC39-4B37-9D2F-F3A771443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5CAFAF-A8D2-41F5-BAAE-EB7214DC1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A8093D-4745-4D3D-9E03-8469B581E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DE2237-9260-4BF9-837D-FDFBC7CF2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B6CBDF-A5B8-44D8-A9D1-10AFB68BC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34944A-BEBE-4C66-A17B-08ADCA969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0B7C70-2F50-45B7-A8FA-DE99B5A8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7FA9-A34E-4627-8D5A-022B3256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752E98-4AFF-4DCD-B50B-2CA294E5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2E40E2-2FAC-40C4-854E-07E99A6B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8834A1-3F32-4B70-A82A-81B6EE173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8B46BE-5C1E-48D4-9123-74300EF58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51CF72-41D7-4168-AF70-92F329022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9F44C9-773C-46D0-B079-A2F46D0D3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1BB85A-DBC5-40DA-A026-E6141BDEB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660C68-C7FD-4DCE-BAA6-1FE7417E0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4EBD4F-83F3-4032-B85B-B837AE16A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D22FC4-546E-4EEB-9D6C-7EAD5E5AE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9446-8257-46F9-9D00-4D819D9C6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FC876C-3C01-4CA7-8C67-EDD0615BF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1A60DA-16E6-436B-863F-0367A18F0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32287-5D26-4FC6-980B-79563F96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67EF5B-7386-4AE7-A9CE-2AADE707E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4B77E6-4760-4CB1-9127-365D52FAB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CC25EA-EA00-46ED-87CF-2544B8A6B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4DE202-2D93-420B-9AD0-39E9C8A92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E614EA-2290-4976-ADF8-A7688302F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EDE687-AC82-4CC4-961D-BD6F83BEA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1CA6C7-58D8-4BFD-9300-D95B14303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DB86A-FEC1-4B64-9CB6-9D531B6A3638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52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2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2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2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2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2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2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2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2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3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3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3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3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3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3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3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3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3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B98B8-AC4D-4A96-BB63-465D4996D6D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58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8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8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dt" idx="3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 type="ftr" idx="3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 type="sldNum" idx="3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930F8-4820-4E32-90A3-DAFDD5EC61B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5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626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27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0C684-1AB9-46A0-85FC-911F09DA4021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9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670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71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72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673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674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75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76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77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78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79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80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81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82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83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84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85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86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687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88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89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90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91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92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93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94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95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96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97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698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699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00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01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02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03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704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05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E1436-A5A6-423D-B076-34DB2C824463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7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748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749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50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51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52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53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754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55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 type="dt" idx="4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 type="ftr" idx="4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 type="sldNum" idx="4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F4235-1ECD-4425-9C71-627E88BB01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7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798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99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00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01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02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03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04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05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06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07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08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09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10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11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12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13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14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15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16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17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18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19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20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21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22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23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24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25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26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27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28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29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30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31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32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33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834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835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36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 type="dt" idx="4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C784D-81EA-4287-8DD9-93D60DA3A7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 type="dt" idx="46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2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92B3F-F41F-4FA8-8642-201F251537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92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2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2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2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2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2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2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A542C-8FC2-4FC7-9B00-1D9A71A51ED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969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970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71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72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73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74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75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76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77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78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79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80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81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82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983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0036B-1B32-4EC2-B07B-2562C2E72D1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5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26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27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28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29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30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31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32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33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34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35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36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37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38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39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40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 type="dt" idx="5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5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4C224-F005-4192-9646-C765E1BC177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5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6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7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8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9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0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1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2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3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4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5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6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7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8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9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0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1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2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3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4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5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623A4-B86F-47E4-B584-C4175FE27C3E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2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083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84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85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86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87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88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89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90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91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92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93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94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95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96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97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2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E199F-B03E-4FC5-B9FC-C40010F2580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9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140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141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42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43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44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45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46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47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48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49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50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51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52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53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1154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155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56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57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58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59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60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61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62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63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64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65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66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67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68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69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70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71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72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73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74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75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76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77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78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79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80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81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82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83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84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85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86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87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88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89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90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91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92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93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94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95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96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97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98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99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00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01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02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03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04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05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06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07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08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09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10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11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12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13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14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15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16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17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18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19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20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21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22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23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24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25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26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27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28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29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30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31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32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33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34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35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36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37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38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39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40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41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42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43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44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45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46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47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48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49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50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51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52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53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54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55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56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57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58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59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60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61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62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63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64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65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66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67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68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69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70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71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72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73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74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75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76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77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78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79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80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81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82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83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84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85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86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87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88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89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 type="dt" idx="61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4" name="PlaceHolder 5"/>
          <p:cNvSpPr>
            <a:spLocks noGrp="1"/>
          </p:cNvSpPr>
          <p:nvPr>
            <p:ph type="sldNum" idx="63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7A49B-9AE6-4E68-923E-E5230900D218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1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332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33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34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35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36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37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 type="dt" idx="6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 type="ftr" idx="6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2" name="PlaceHolder 5"/>
          <p:cNvSpPr>
            <a:spLocks noGrp="1"/>
          </p:cNvSpPr>
          <p:nvPr>
            <p:ph type="sldNum" idx="6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6A3C9-7A8D-4593-8CA7-285F8B4867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9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380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81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82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83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84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85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86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87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88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89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90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91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92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93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94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95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96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97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 type="dt" idx="6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1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2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03A43-32C8-4F65-B4F1-339C701CA2B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9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1440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41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42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 type="dt" idx="70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 type="ftr" idx="71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7" name="PlaceHolder 5"/>
          <p:cNvSpPr>
            <a:spLocks noGrp="1"/>
          </p:cNvSpPr>
          <p:nvPr>
            <p:ph type="sldNum" idx="72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9BAF9-C02E-44B6-B2F5-8659C4D341A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4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485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486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487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488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489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490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491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492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493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494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495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496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497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498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1499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500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01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02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03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04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05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06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07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08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09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10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11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12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13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14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15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16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17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18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19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20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21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22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23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24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25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26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27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28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29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30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31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32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33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34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35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36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37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38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39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40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41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42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43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44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45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46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47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48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49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50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51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52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53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54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55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56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57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58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59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60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61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62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63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64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65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66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67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68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69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70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71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72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73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74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75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76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77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78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79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80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81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82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83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84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85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86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87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88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89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90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91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92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93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94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95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96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97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98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99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600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601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602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603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604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605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606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607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608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609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610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611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612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613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614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615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616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617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618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619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620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621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622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623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624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625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626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627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628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629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630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631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632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633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634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 type="dt" idx="73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38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39" name="PlaceHolder 5"/>
          <p:cNvSpPr>
            <a:spLocks noGrp="1"/>
          </p:cNvSpPr>
          <p:nvPr>
            <p:ph type="sldNum" idx="75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9D4F1-8980-4AB1-A17D-4C622C0935E9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08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9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0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11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12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3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4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5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6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7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8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9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0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1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2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3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4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125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6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7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8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9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0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1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2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3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4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5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36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37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38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39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40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41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142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3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5B7A5-7996-4BF8-AD5A-0E14C86CFEAF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86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87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88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89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0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1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2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3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4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5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6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7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8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9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0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1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2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3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4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5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6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7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8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9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0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1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2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3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4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5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6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7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8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9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0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1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222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23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24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62C0A-4398-4ACD-A49F-FB2BF40CDC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3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DF804-F599-40EB-874C-51550DC18B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308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09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10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11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12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13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14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CDE6D-9246-4A97-BB8B-DE1EEAE8EB4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357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58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59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60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61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62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63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64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65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66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67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68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69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70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71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12BA2-16C8-44C4-8993-3EFFF0AE00F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414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15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16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17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18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19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20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21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22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23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24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25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26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27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28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9679F-4F38-4D1B-9655-6AA39E46CD7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7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7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7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7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7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7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7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7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479" name="PlaceHolder 1"/>
          <p:cNvSpPr>
            <a:spLocks noGrp="1"/>
          </p:cNvSpPr>
          <p:nvPr>
            <p:ph type="dt" idx="25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ftr" idx="26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5237A-BA43-4DC6-87C7-348C715FF7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Tahoma"/>
              </a:rPr>
              <a:t>«Бардовские песни»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Владимиру Высоцкому посвящается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полнила учитель музыки МОБУ «Есеновичская СОШ»  Булганина О.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Владимир Высоцкий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умер 25июля 1980года. Его могила круглый год усыпана живыми цветам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6045120" y="1828800"/>
            <a:ext cx="26416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го именем называют лучшие сорта цветов, труднодоступные горные перевалы, улицы. Работники Крымской астрофизической обсерватории назвали малую планету «Владвысоцкий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3" name="Picture 4" descr=""/>
          <p:cNvPicPr/>
          <p:nvPr/>
        </p:nvPicPr>
        <p:blipFill>
          <a:blip r:embed="rId1"/>
          <a:stretch/>
        </p:blipFill>
        <p:spPr>
          <a:xfrm rot="21415800">
            <a:off x="685800" y="1676160"/>
            <a:ext cx="49449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Владимир Семёнович Высоцкий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Родился 25января 1938 года в Москве. С 1947 года жил в Германии. В 1949 году вернулся в Москву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80" name="Picture 18" descr=""/>
          <p:cNvPicPr/>
          <p:nvPr/>
        </p:nvPicPr>
        <p:blipFill>
          <a:blip r:embed="rId1"/>
          <a:stretch/>
        </p:blipFill>
        <p:spPr>
          <a:xfrm>
            <a:off x="4419720" y="1676520"/>
            <a:ext cx="388764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Владимир Высоцкий студент…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62 г.- МИС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3" name="Picture 9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3505320" cy="4565520"/>
          </a:xfrm>
          <a:prstGeom prst="rect">
            <a:avLst/>
          </a:prstGeom>
          <a:ln w="0">
            <a:noFill/>
          </a:ln>
        </p:spPr>
      </p:pic>
      <p:sp>
        <p:nvSpPr>
          <p:cNvPr id="1684" name="Text Box 10"/>
          <p:cNvSpPr/>
          <p:nvPr/>
        </p:nvSpPr>
        <p:spPr>
          <a:xfrm>
            <a:off x="5851440" y="3008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5" name="Text Box 12"/>
          <p:cNvSpPr/>
          <p:nvPr/>
        </p:nvSpPr>
        <p:spPr>
          <a:xfrm>
            <a:off x="443880" y="1179360"/>
            <a:ext cx="198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62 год - МИСИ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86" name="Picture 13" descr=""/>
          <p:cNvPicPr/>
          <p:nvPr/>
        </p:nvPicPr>
        <p:blipFill>
          <a:blip r:embed="rId3"/>
          <a:stretch/>
        </p:blipFill>
        <p:spPr>
          <a:xfrm>
            <a:off x="4419720" y="1143000"/>
            <a:ext cx="4419360" cy="5483160"/>
          </a:xfrm>
          <a:prstGeom prst="rect">
            <a:avLst/>
          </a:prstGeom>
          <a:ln w="0">
            <a:noFill/>
          </a:ln>
        </p:spPr>
      </p:pic>
      <p:sp>
        <p:nvSpPr>
          <p:cNvPr id="1687" name="Text Box 14"/>
          <p:cNvSpPr/>
          <p:nvPr/>
        </p:nvSpPr>
        <p:spPr>
          <a:xfrm>
            <a:off x="594720" y="6361200"/>
            <a:ext cx="357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65 год – школа- студия МХАТ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Большая любовь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0370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краду, если кража тебе по душе,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ря ли я столько сил разбазарил?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глашайся хотя бы на рай в шалаш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сли терем с дворцом кто-то заня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0" name="PlaceHolder 3"/>
          <p:cNvSpPr>
            <a:spLocks noGrp="1"/>
          </p:cNvSpPr>
          <p:nvPr>
            <p:ph/>
          </p:nvPr>
        </p:nvSpPr>
        <p:spPr>
          <a:xfrm>
            <a:off x="11734920" y="45943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1" name="Picture 12" descr=""/>
          <p:cNvPicPr/>
          <p:nvPr/>
        </p:nvPicPr>
        <p:blipFill>
          <a:blip r:embed="rId5"/>
          <a:stretch/>
        </p:blipFill>
        <p:spPr>
          <a:xfrm>
            <a:off x="4191120" y="1295280"/>
            <a:ext cx="4572000" cy="5562720"/>
          </a:xfrm>
          <a:prstGeom prst="rect">
            <a:avLst/>
          </a:prstGeom>
          <a:ln w="0">
            <a:noFill/>
          </a:ln>
        </p:spPr>
      </p:pic>
      <p:sp>
        <p:nvSpPr>
          <p:cNvPr id="1692" name="Text Box 14"/>
          <p:cNvSpPr/>
          <p:nvPr/>
        </p:nvSpPr>
        <p:spPr>
          <a:xfrm>
            <a:off x="304920" y="575640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Владимир Высоцкий и Марина Влади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Первое концертное выступление 1965год.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5" name="Picture 4" descr=""/>
          <p:cNvPicPr/>
          <p:nvPr/>
        </p:nvPicPr>
        <p:blipFill>
          <a:blip r:embed="rId1"/>
          <a:stretch/>
        </p:blipFill>
        <p:spPr>
          <a:xfrm rot="21132000">
            <a:off x="457200" y="1600200"/>
            <a:ext cx="3733920" cy="4584600"/>
          </a:xfrm>
          <a:prstGeom prst="rect">
            <a:avLst/>
          </a:prstGeom>
          <a:ln w="0">
            <a:noFill/>
          </a:ln>
        </p:spPr>
      </p:pic>
      <p:pic>
        <p:nvPicPr>
          <p:cNvPr id="1696" name="Picture 5" descr=""/>
          <p:cNvPicPr/>
          <p:nvPr/>
        </p:nvPicPr>
        <p:blipFill>
          <a:blip r:embed="rId2"/>
          <a:stretch/>
        </p:blipFill>
        <p:spPr>
          <a:xfrm>
            <a:off x="4724280" y="2514600"/>
            <a:ext cx="4114800" cy="4114800"/>
          </a:xfrm>
          <a:prstGeom prst="rect">
            <a:avLst/>
          </a:prstGeom>
          <a:ln w="0">
            <a:noFill/>
          </a:ln>
        </p:spPr>
      </p:pic>
      <p:sp>
        <p:nvSpPr>
          <p:cNvPr id="1697" name="Text Box 6"/>
          <p:cNvSpPr/>
          <p:nvPr/>
        </p:nvSpPr>
        <p:spPr>
          <a:xfrm>
            <a:off x="4191120" y="152388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следнее выступление 16 июля 1980год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504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Дебют в кино состоялся в 1959 году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Высоцкий снимался у А.Столпера, И.Хейфица,М.Швейцера, К.Муратовой, А.Митта, С.Говорухина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00" name="Picture 10" descr=""/>
          <p:cNvPicPr/>
          <p:nvPr/>
        </p:nvPicPr>
        <p:blipFill>
          <a:blip r:embed="rId1"/>
          <a:stretch/>
        </p:blipFill>
        <p:spPr>
          <a:xfrm>
            <a:off x="4943520" y="1828800"/>
            <a:ext cx="40482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9efee"/>
                </a:solidFill>
                <a:latin typeface="Garamond"/>
              </a:rPr>
              <a:t>…</a:t>
            </a:r>
            <a:r>
              <a:rPr b="1" lang="ru-RU" sz="2000" spc="-1" strike="noStrike">
                <a:solidFill>
                  <a:srgbClr val="b9efee"/>
                </a:solidFill>
                <a:latin typeface="Garamond"/>
              </a:rPr>
              <a:t>Соплеменники, окажите честь- зачеркните «был», напишите «есть».     П. Вегин.</a:t>
            </a:r>
            <a:endParaRPr b="1" lang="en-US" sz="2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ладимиру Высоцкому не суждено было узнать о своих наградах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из Международного кинофестиваля в Италии, специальный приз 9 Всесоюз-ного фестиваля телефильмов в Ерева-н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987 год –Государственная премия СССР(посмертно)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Театр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025880" y="1904760"/>
            <a:ext cx="4819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ервая роль Высоцкого- Московский театр драмы и комедии на Таганке. Далее роли в спектаклях по произведениям А.Вознесенского, В.Маяковского, Б.Брехта, С.Есенина, А.Чехова, Ф.Достоевског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5" name="Picture 4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3505320" cy="4496040"/>
          </a:xfrm>
          <a:prstGeom prst="rect">
            <a:avLst/>
          </a:prstGeom>
          <a:ln w="0">
            <a:noFill/>
          </a:ln>
        </p:spPr>
      </p:pic>
      <p:sp>
        <p:nvSpPr>
          <p:cNvPr id="1706" name="Text Box 7"/>
          <p:cNvSpPr/>
          <p:nvPr/>
        </p:nvSpPr>
        <p:spPr>
          <a:xfrm>
            <a:off x="1081440" y="5791320"/>
            <a:ext cx="427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пектакль « Вишнёвый сад» 1972 год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«Гамлет» -лучшая роль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3048120" y="1599840"/>
            <a:ext cx="2665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976год-первая премия на Белградском интернациональном фестивал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977год-высшая премия французской критик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980год-первая премия на международном фестивале «Варшавские встречи»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9" name="Picture 4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3048120" cy="4910040"/>
          </a:xfrm>
          <a:prstGeom prst="rect">
            <a:avLst/>
          </a:prstGeom>
          <a:ln w="0">
            <a:noFill/>
          </a:ln>
        </p:spPr>
      </p:pic>
      <p:pic>
        <p:nvPicPr>
          <p:cNvPr id="1710" name="Picture 5" descr=""/>
          <p:cNvPicPr/>
          <p:nvPr/>
        </p:nvPicPr>
        <p:blipFill>
          <a:blip r:embed="rId2"/>
          <a:stretch/>
        </p:blipFill>
        <p:spPr>
          <a:xfrm>
            <a:off x="5486400" y="1752480"/>
            <a:ext cx="3429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6T14:59:56Z</dcterms:created>
  <dc:creator>Ольга</dc:creator>
  <dc:description/>
  <dc:language>en-US</dc:language>
  <cp:lastModifiedBy>дед сад</cp:lastModifiedBy>
  <dcterms:modified xsi:type="dcterms:W3CDTF">2013-04-12T05:05:54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