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D9C-00A6-4E26-B014-635B1E8C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8A4-2AA6-43F7-A8E2-460C27D5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A00-D778-4E59-AEF3-B915BA86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D6F-AB9C-4D3D-93DA-2EE0244F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226F-F0FD-40A3-8941-FA975346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8A7D-0F99-4940-93EC-9EEAE9DF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758D-7324-4BD5-8872-A65C31DF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DE8B-2435-4293-B29B-42405BB6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F8CB-C034-4702-B7C6-BACF3940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EBDA-36B2-4948-B2B2-99ABC680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8A8D-951D-4CA7-8016-294D4AF6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6F9-980E-4BFD-B01A-141FECDE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4D82-CF19-4A43-B25C-0A413931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5B95-0FA4-4336-ACAC-8FAFA38A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97B3-3A7D-42FC-B2EF-3B9BBD52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6348-5DCF-46CF-B3A4-3C3FECFE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1256-6FA5-439C-A8C7-340DA61C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79234-2B22-4C0D-8B45-7A3C9B9B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06179-ACE7-4E31-92D8-04CF41E8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28D9A-B9CD-4DA7-A9AB-B48E3452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88EEB-BB38-4239-9C08-785CFD22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92F07-1ED0-4B78-8457-50C9B44B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134-B265-48B2-85F8-793DFABF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EDF98-F624-4C9F-B7E2-56BFAA2F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29CCC-C889-4525-A87F-D4244921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71A0E-CBA6-46D3-9A1B-249A3E12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E7827-6647-49A0-8D1A-7A82D218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A2C6D-A7FE-4B93-88D9-71404537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E874D-450C-40F7-885E-C697A087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F546A-58AF-48B5-B817-B75FF9D0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FB86C-BE94-4E9A-AD15-F3F0FBC1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A2378-2F58-48F9-AC2D-82161548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5BE1E-0866-4452-8BC9-A4B37451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B77-D558-4259-A576-C9A6EA75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13079-3A77-4DE5-8EB5-E7CAF631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E6BB2-134E-4946-B716-3D1F4F15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78D65-07E5-4C67-BD17-43B3FBA2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0BB42-EB60-40CD-8B69-4D12BA56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E0D5B-2A4D-4157-BFA0-1D8665EF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05482-FBEF-4547-B0DE-C5DE2AB9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58799-6329-4535-BF29-5FD175BE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3E73E-91B3-4D32-A07A-2F3CE561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D2A2D-6443-41ED-AC64-1656547A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85DA86-BF0B-4D7C-B33A-ACE12557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09B-F121-44C6-AC0A-2EB2DD00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97A17A-58A9-49D8-BFBE-3DF29BD1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E67959-206F-4460-8B88-54DBE3BA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3CAF6-4590-40C1-8486-AF10122C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757733-72F4-40C8-A628-5F72236E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4D940-5F75-465E-82D7-6789C370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29D049-7B27-4AC5-96A4-A514E295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C4198-BDD5-4B5F-8D66-40384AE4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185AC-E488-4B63-B6C3-0140836B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A9C29-7F88-43F2-8D54-B3EC751E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EEF205-2F92-42D8-85E8-AB90E03D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D29-5889-46AC-B820-0DEE67DC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B7B39-EB70-46AB-9695-38801DE4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B986A-D99D-4878-896C-40394AB3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96B43B-BCE7-4343-A404-89BBC4E6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C8E59-8142-459F-AE83-45E43CF8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CC61A8-81ED-43BE-ACEB-7C9EEAEA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30456C-73A2-427A-BDBF-32DA6F30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5C13D-7A65-4D78-AE69-ABCA45DF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6AFA2-68D3-4A2D-B7EA-6A0C8237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4349A-8583-4196-B659-19189B2A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8C03B0-D6C0-4323-A70A-C6BE2773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50B-9637-4C5A-B856-4BE21AA9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F8988F-35B4-4BC8-9A2A-CDE3F57F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A79C44-E80E-4DDA-9D8C-0D19FD2B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8E1C18-1C38-4F14-918D-1929F6D0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3D6553-6ED5-4176-B058-BE7AB68F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32C1E-5C25-4644-B29D-67419936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C7ED08-7CB0-4E55-A712-E0C49854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6A3F10-2BD5-431C-8E34-812E0E50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9C61C-98C1-464E-BDE3-F823C1EC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E58066-9CC0-4019-95BA-A102B18F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3E9DC-A792-4ECA-8C62-1406EA8B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411A-1CD4-4482-8477-EC689D33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0D55C-56F0-4F65-965F-73D35DC2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85311D-3F3B-422A-9AFE-E09EFD10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5686A2-7E25-4707-8AC5-3AA703C1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E94939-E1DE-44E4-8ECA-6870D161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3C931A-B50F-437A-BEB5-016FF352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7D1-9CD0-4768-9159-C7C48CEA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3C2A-9A35-432E-9C5B-1ED3F14D0D5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e2e2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ce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ce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6f6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e2e2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6f6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e2e2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e2e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0536-9523-4198-9E02-15F49EEA503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DBF4-B001-4200-9331-2A7219A074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e2e2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ce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ce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6f6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e2e2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6f6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e2e2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e2e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4c1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84c1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E8BA-891B-4F65-996E-6F55CAAB4B4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6485-9F82-4CBB-AD61-D39B6472AAA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6C83-37CE-4569-AE33-5A73BF9DD45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E514-D40E-42B0-AE31-D1EAADD04F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3.gif"/><Relationship Id="rId1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6" descr="D:\Лена\Мои рисунки\Зимние мотивы\кормушка1.png"/>
          <p:cNvPicPr/>
          <p:nvPr/>
        </p:nvPicPr>
        <p:blipFill>
          <a:blip r:embed="rId1"/>
          <a:stretch/>
        </p:blipFill>
        <p:spPr>
          <a:xfrm>
            <a:off x="500040" y="966960"/>
            <a:ext cx="7883640" cy="589104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оугольник 3" descr=""/>
          <p:cNvPicPr/>
          <p:nvPr/>
        </p:nvPicPr>
        <p:blipFill>
          <a:blip r:embed="rId2"/>
          <a:stretch/>
        </p:blipFill>
        <p:spPr>
          <a:xfrm>
            <a:off x="420840" y="2889360"/>
            <a:ext cx="6943680" cy="2054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9" descr="D:\Лена\Мои рисунки\Смайлики на разные случаи\Погода\90dfec9b25235f851d906a83ccc9ab43.gif"/>
          <p:cNvPicPr/>
          <p:nvPr/>
        </p:nvPicPr>
        <p:blipFill>
          <a:blip r:embed="rId3"/>
          <a:stretch/>
        </p:blipFill>
        <p:spPr>
          <a:xfrm>
            <a:off x="1357200" y="557208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9" descr="D:\Лена\Мои рисунки\Смайлики на разные случаи\Погода\90dfec9b25235f851d906a83ccc9ab43.gif"/>
          <p:cNvPicPr/>
          <p:nvPr/>
        </p:nvPicPr>
        <p:blipFill>
          <a:blip r:embed="rId4"/>
          <a:stretch/>
        </p:blipFill>
        <p:spPr>
          <a:xfrm>
            <a:off x="214200" y="357192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9" descr="D:\Лена\Мои рисунки\Смайлики на разные случаи\Погода\90dfec9b25235f851d906a83ccc9ab43.gif"/>
          <p:cNvPicPr/>
          <p:nvPr/>
        </p:nvPicPr>
        <p:blipFill>
          <a:blip r:embed="rId5"/>
          <a:stretch/>
        </p:blipFill>
        <p:spPr>
          <a:xfrm>
            <a:off x="6643800" y="40719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9" descr="D:\Лена\Мои рисунки\Смайлики на разные случаи\Погода\90dfec9b25235f851d906a83ccc9ab43.gif"/>
          <p:cNvPicPr/>
          <p:nvPr/>
        </p:nvPicPr>
        <p:blipFill>
          <a:blip r:embed="rId6"/>
          <a:stretch/>
        </p:blipFill>
        <p:spPr>
          <a:xfrm>
            <a:off x="0" y="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9" descr="D:\Лена\Мои рисунки\Смайлики на разные случаи\Погода\90dfec9b25235f851d906a83ccc9ab43.gif"/>
          <p:cNvPicPr/>
          <p:nvPr/>
        </p:nvPicPr>
        <p:blipFill>
          <a:blip r:embed="rId7"/>
          <a:stretch/>
        </p:blipFill>
        <p:spPr>
          <a:xfrm>
            <a:off x="3929040" y="8571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9" descr="D:\Лена\Мои рисунки\Смайлики на разные случаи\Погода\90dfec9b25235f851d906a83ccc9ab43.gif"/>
          <p:cNvPicPr/>
          <p:nvPr/>
        </p:nvPicPr>
        <p:blipFill>
          <a:blip r:embed="rId8"/>
          <a:stretch/>
        </p:blipFill>
        <p:spPr>
          <a:xfrm>
            <a:off x="2786040" y="2214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9" descr="D:\Лена\Мои рисунки\Смайлики на разные случаи\Погода\90dfec9b25235f851d906a83ccc9ab43.gif"/>
          <p:cNvPicPr/>
          <p:nvPr/>
        </p:nvPicPr>
        <p:blipFill>
          <a:blip r:embed="rId9"/>
          <a:stretch/>
        </p:blipFill>
        <p:spPr>
          <a:xfrm>
            <a:off x="7858080" y="58579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4" descr="D:\Лена\Мои рисунки\Смайлики на разные случаи\Погода\94eaad9d7cce53c9d73652c8f7f832e8.gif"/>
          <p:cNvPicPr/>
          <p:nvPr/>
        </p:nvPicPr>
        <p:blipFill>
          <a:blip r:embed="rId10"/>
          <a:stretch/>
        </p:blipFill>
        <p:spPr>
          <a:xfrm>
            <a:off x="4286160" y="23572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4" descr="D:\Лена\Мои рисунки\Смайлики на разные случаи\Погода\94eaad9d7cce53c9d73652c8f7f832e8.gif"/>
          <p:cNvPicPr/>
          <p:nvPr/>
        </p:nvPicPr>
        <p:blipFill>
          <a:blip r:embed="rId11"/>
          <a:stretch/>
        </p:blipFill>
        <p:spPr>
          <a:xfrm>
            <a:off x="2286000" y="22860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4" descr="D:\Лена\Мои рисунки\Смайлики на разные случаи\Погода\94eaad9d7cce53c9d73652c8f7f832e8.gif"/>
          <p:cNvPicPr/>
          <p:nvPr/>
        </p:nvPicPr>
        <p:blipFill>
          <a:blip r:embed="rId12"/>
          <a:stretch/>
        </p:blipFill>
        <p:spPr>
          <a:xfrm>
            <a:off x="0" y="142884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4" descr="D:\Лена\Мои рисунки\Смайлики на разные случаи\Погода\94eaad9d7cce53c9d73652c8f7f832e8.gif"/>
          <p:cNvPicPr/>
          <p:nvPr/>
        </p:nvPicPr>
        <p:blipFill>
          <a:blip r:embed="rId13"/>
          <a:stretch/>
        </p:blipFill>
        <p:spPr>
          <a:xfrm>
            <a:off x="8215200" y="507204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4" descr="D:\Лена\Мои рисунки\Смайлики на разные случаи\Погода\94eaad9d7cce53c9d73652c8f7f832e8.gif"/>
          <p:cNvPicPr/>
          <p:nvPr/>
        </p:nvPicPr>
        <p:blipFill>
          <a:blip r:embed="rId14"/>
          <a:stretch/>
        </p:blipFill>
        <p:spPr>
          <a:xfrm>
            <a:off x="0" y="507204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4" descr="D:\Лена\Мои рисунки\Смайлики на разные случаи\Погода\94eaad9d7cce53c9d73652c8f7f832e8.gif"/>
          <p:cNvPicPr/>
          <p:nvPr/>
        </p:nvPicPr>
        <p:blipFill>
          <a:blip r:embed="rId15"/>
          <a:stretch/>
        </p:blipFill>
        <p:spPr>
          <a:xfrm>
            <a:off x="6429240" y="1357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4" descr="D:\Лена\Мои рисунки\Смайлики на разные случаи\Погода\94eaad9d7cce53c9d73652c8f7f832e8.gif"/>
          <p:cNvPicPr/>
          <p:nvPr/>
        </p:nvPicPr>
        <p:blipFill>
          <a:blip r:embed="rId16"/>
          <a:stretch/>
        </p:blipFill>
        <p:spPr>
          <a:xfrm>
            <a:off x="7786800" y="18572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4" descr="D:\Лена\Мои рисунки\Смайлики на разные случаи\Погода\94eaad9d7cce53c9d73652c8f7f832e8.gif"/>
          <p:cNvPicPr/>
          <p:nvPr/>
        </p:nvPicPr>
        <p:blipFill>
          <a:blip r:embed="rId17"/>
          <a:stretch/>
        </p:blipFill>
        <p:spPr>
          <a:xfrm>
            <a:off x="6143760" y="2643120"/>
            <a:ext cx="928440" cy="928800"/>
          </a:xfrm>
          <a:prstGeom prst="rect">
            <a:avLst/>
          </a:prstGeom>
          <a:ln w="0">
            <a:noFill/>
          </a:ln>
        </p:spPr>
      </p:pic>
      <p:sp>
        <p:nvSpPr>
          <p:cNvPr id="368" name="Прямоугольник 19"/>
          <p:cNvSpPr/>
          <p:nvPr/>
        </p:nvSpPr>
        <p:spPr>
          <a:xfrm>
            <a:off x="2500200" y="50007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Georgia"/>
              </a:rPr>
              <a:t>Руководитель проекта</a:t>
            </a: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Georgia"/>
              </a:rPr>
              <a:t>Супрун Людмила Васильевна</a:t>
            </a: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Georgia"/>
              </a:rPr>
              <a:t>учитель начальных классов</a:t>
            </a: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1143000" y="0"/>
            <a:ext cx="6400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Century Schoolbook"/>
              </a:rPr>
              <a:t>Муниципальное бюджетное образовательное учреждение</a:t>
            </a:r>
            <a:endParaRPr b="0" lang="en-US" sz="16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Century Schoolbook"/>
              </a:rPr>
              <a:t>средняя образовательная школа № 45</a:t>
            </a:r>
            <a:endParaRPr b="0" lang="en-US" sz="16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Century Schoolbook"/>
              </a:rPr>
              <a:t>муниципального образования Северский район</a:t>
            </a:r>
            <a:endParaRPr b="0" lang="en-US" sz="16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76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3b76"/>
              </a:solidFill>
              <a:latin typeface="Georgia"/>
            </a:endParaRPr>
          </a:p>
        </p:txBody>
      </p:sp>
      <p:pic>
        <p:nvPicPr>
          <p:cNvPr id="370" name="Picture 29" descr="D:\Лена\Мои рисунки\Смайлики на разные случаи\Погода\90dfec9b25235f851d906a83ccc9ab43.gif"/>
          <p:cNvPicPr/>
          <p:nvPr/>
        </p:nvPicPr>
        <p:blipFill>
          <a:blip r:embed="rId18"/>
          <a:stretch/>
        </p:blipFill>
        <p:spPr>
          <a:xfrm>
            <a:off x="7643880" y="28584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cc"/>
                </a:solidFill>
                <a:latin typeface="Century Schoolbook"/>
              </a:rPr>
              <a:t>АКТУАЛЬНОСТЬ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71720" y="1600200"/>
            <a:ext cx="685296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Огромное значение имеют птицы в природе и в сельском хозяйстве, сохраняя от насекомых-вредителей культурные и дикорастущие растения, помогают в их опылении. Известно, что семья скворцов уничтожает за месяц до 24 тыс. насекомых и их личинок. Кукушка, в пищу которой идут крупные гусеницы, майские жуки, поедает их за лето до 270 тыс.; грач, следя за плугом, способен уничтожить до 400 червей. Пара синиц, поселившихся в саду вместе со своим потомством, могут очистить от насекомых-вредителей 40 больших яблонь. 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pic>
        <p:nvPicPr>
          <p:cNvPr id="373" name="Picture 8" descr="Картинка 674 из 5322"/>
          <p:cNvPicPr/>
          <p:nvPr/>
        </p:nvPicPr>
        <p:blipFill>
          <a:blip r:embed="rId1"/>
          <a:stretch/>
        </p:blipFill>
        <p:spPr>
          <a:xfrm rot="20246400">
            <a:off x="136440" y="5226120"/>
            <a:ext cx="1373400" cy="987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Картинка 8 из 6585"/>
          <p:cNvPicPr/>
          <p:nvPr/>
        </p:nvPicPr>
        <p:blipFill>
          <a:blip r:embed="rId2"/>
          <a:stretch/>
        </p:blipFill>
        <p:spPr>
          <a:xfrm flipH="1" rot="587400">
            <a:off x="126360" y="2243160"/>
            <a:ext cx="1323720" cy="16081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4" descr="Картинка 65 из 484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6357960" y="0"/>
            <a:ext cx="1965240" cy="1571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9" descr="D:\Лена\Мои рисунки\Смайлики на разные случаи\Погода\90dfec9b25235f851d906a83ccc9ab43.gif"/>
          <p:cNvPicPr/>
          <p:nvPr/>
        </p:nvPicPr>
        <p:blipFill>
          <a:blip r:embed="rId4"/>
          <a:stretch/>
        </p:blipFill>
        <p:spPr>
          <a:xfrm>
            <a:off x="4357800" y="4287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9" descr="D:\Лена\Мои рисунки\Смайлики на разные случаи\Погода\90dfec9b25235f851d906a83ccc9ab43.gif"/>
          <p:cNvPicPr/>
          <p:nvPr/>
        </p:nvPicPr>
        <p:blipFill>
          <a:blip r:embed="rId5"/>
          <a:stretch/>
        </p:blipFill>
        <p:spPr>
          <a:xfrm>
            <a:off x="142920" y="407196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214200" y="19843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В холодные дни птицы ищут себе корм в течение всего дня. Зимой птицам не так страшен холод, как голод. За короткий зимний день птицы едва успевают утолить голод. В зимнюю стужу голодные и ослабевшие птицы легко замерзают. Если птичка не ест зимой 6 часов, она погибает. Из десяти мелких птиц в суровые зимы остаются только две. Поэтому им необходимо помочь. 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cc"/>
                </a:solidFill>
                <a:latin typeface="Century Schoolbook"/>
              </a:rPr>
              <a:t>АКТУАЛЬНОСТЬ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pic>
        <p:nvPicPr>
          <p:cNvPr id="380" name="Picture 29" descr="D:\Лена\Мои рисунки\Смайлики на разные случаи\Погода\90dfec9b25235f851d906a83ccc9ab43.gif"/>
          <p:cNvPicPr/>
          <p:nvPr/>
        </p:nvPicPr>
        <p:blipFill>
          <a:blip r:embed="rId1"/>
          <a:stretch/>
        </p:blipFill>
        <p:spPr>
          <a:xfrm>
            <a:off x="3500280" y="535788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9" descr="D:\Лена\Мои рисунки\Смайлики на разные случаи\Погода\90dfec9b25235f851d906a83ccc9ab43.gif"/>
          <p:cNvPicPr/>
          <p:nvPr/>
        </p:nvPicPr>
        <p:blipFill>
          <a:blip r:embed="rId2"/>
          <a:stretch/>
        </p:blipFill>
        <p:spPr>
          <a:xfrm>
            <a:off x="7643880" y="3357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9" descr="D:\Лена\Мои рисунки\Смайлики на разные случаи\Погода\90dfec9b25235f851d906a83ccc9ab43.gif"/>
          <p:cNvPicPr/>
          <p:nvPr/>
        </p:nvPicPr>
        <p:blipFill>
          <a:blip r:embed="rId3"/>
          <a:stretch/>
        </p:blipFill>
        <p:spPr>
          <a:xfrm>
            <a:off x="4786200" y="50004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4"/>
          <a:stretch/>
        </p:blipFill>
        <p:spPr>
          <a:xfrm>
            <a:off x="5286240" y="3929040"/>
            <a:ext cx="2853000" cy="26352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5" descr="301"/>
          <p:cNvPicPr/>
          <p:nvPr/>
        </p:nvPicPr>
        <p:blipFill>
          <a:blip r:embed="rId5"/>
          <a:stretch/>
        </p:blipFill>
        <p:spPr>
          <a:xfrm>
            <a:off x="6715080" y="285840"/>
            <a:ext cx="1998720" cy="15001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9" descr="302"/>
          <p:cNvPicPr/>
          <p:nvPr/>
        </p:nvPicPr>
        <p:blipFill>
          <a:blip r:embed="rId6"/>
          <a:stretch/>
        </p:blipFill>
        <p:spPr>
          <a:xfrm>
            <a:off x="463680" y="4761000"/>
            <a:ext cx="2535120" cy="2152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07:01:34Z</dcterms:created>
  <dc:creator>дом</dc:creator>
  <dc:description/>
  <dc:language>en-US</dc:language>
  <cp:lastModifiedBy>Sea</cp:lastModifiedBy>
  <dcterms:modified xsi:type="dcterms:W3CDTF">2013-04-06T16:50:44Z</dcterms:modified>
  <cp:revision>69</cp:revision>
  <dc:subject/>
  <dc:title>Слайд 1</dc:title>
</cp:coreProperties>
</file>