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C8A-EDF8-4E48-BBD7-64470669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6835-17D1-4C53-BC6D-7CD9A260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064-9FE2-45F1-BF23-2004E7B0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E88-0F4C-4FC9-B5EC-16FF6350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7BAC-C54B-47BC-82F1-F3100691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AEE3-422E-4AF9-B5F9-948DFB54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C66A-65C0-47FB-BC14-F59D2EB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6F8F-6E82-48F3-95FB-70D292F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4DCA-AA58-4270-98A1-D2092156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1082-A648-4795-BD87-C9EB289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A74B-A554-4F8B-9D9A-67E43BCD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2A43-54D0-479B-BA03-3C7E0B8A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F7F-1A2E-4A9F-B830-DBB7874A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99CB-025A-4154-B8A6-D11DBBDF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5C7C-948B-4758-BC93-A4A71B32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A1B1-1051-46AE-9E9B-F2403DCF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FF49-FFB1-46FB-941D-431F6778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3715C-D637-448E-804A-98C3F4CA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D7568-EFA1-4CF8-9707-95AE0B02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EEB6F-6F30-42E7-BAD6-A9F1DA7D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FADCB-44CE-4F5B-ACC7-BEDB42D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7332C-3990-4A99-B4E3-76F6374F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C12-E061-431F-AF45-0A52AF9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487EA-EEAF-4C80-B748-A328CA9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CC809-C315-40B8-9BCA-4A63B8D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7A887-845D-4D5A-A10D-C63003E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4A169-D295-4EE1-8304-CBC46DD9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84B83-183B-43AC-8B37-9571D452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98C12-1D12-440D-B74C-6CF1D15D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E2931D-9072-41D3-92C8-37DC50BD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F94F-BA53-448B-AAB0-857F94F9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7475-F7F4-49A9-84FD-F29FA3C9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223C-11ED-4A8A-B0F0-E4344FAD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343-A4C0-4FA1-A9FB-0B3DFF42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4F922-D6CA-4F73-917D-2BD1286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7E1A-51FF-4C9B-8C22-4AB5E06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46910-3FE5-45F8-9F96-0C7CD86F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A461-DB0F-4D93-933E-1292ED28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B8089-7094-46F6-AE31-795F3EBF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DCAF-8BC9-4BD1-B78A-DC28C25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952E-E6BF-4FE2-ACAB-1C0749C4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1910-9D88-492E-8139-B9B1348E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9D28-08F8-49DC-A9FC-73D8942E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7DDE9-4005-47CE-A840-C417FC71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10E-E835-4D2C-9C4D-5CBECCAC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F020B-AD3F-4302-B1CB-81C4358E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B9554-E5E0-4465-A096-6B2B353E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28392-ADE0-44B4-9325-63718640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2EE0B-7CA7-4F99-B708-F0102208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12F5F-64CF-4CC5-97D2-1FC8F8D1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FF001-DCD3-4EC2-A197-DC83E5F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876F4-1A45-432B-9D3A-0490034E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C376E1-E519-4642-BDA2-1112AC3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D1C2A-2613-4F2F-84DD-DF551245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C2282-DC20-4151-AC24-F8CA9147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237-BE02-4562-9164-E1D6D78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58158-DB2C-4E48-8536-A523F940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C82A3-8ACC-41EE-ABDC-B71C9D43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060E9B-29BE-4F7A-B24F-80393C50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3A70AF-93B7-4591-B829-89DA2DE2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23D29-18EF-4D6D-96DA-0CF8297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530B5-4A57-4D0E-9385-15156E4C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AA91F-2555-4D23-9182-CC056793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3E57B-86A2-4574-9361-7B3C0DD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39790-D36A-4CDA-8A8E-D281BCE1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6657D-824C-4259-80C8-A5BE96B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A9F-C6C7-443A-AD90-DD283FC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A32B6A-6571-44A9-BAEB-A5B44FA1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918E3-1825-4F1F-97A8-C1D631B0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85A82-A630-4948-9571-42421C07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8E57D-8E59-48A4-AB96-C469F501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B9B3C-0823-4326-A78F-F889269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97B80-FD18-4152-934E-7EE28B50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5DECA-AC2F-4DD4-BA85-C51451D9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F56E4-BDBA-430A-8B38-E972060B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D3BF9F-D603-4D96-A059-ED48EAD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69234-57F9-4A3A-8E35-20021B3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950-494A-43A2-9CCC-3A006B64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6E005-F3E3-4BD4-B32B-774274F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CB383-1B51-44E8-8089-86C74C0A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2194F-11F9-4ED9-8A2B-4A70DF0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EF130-04FB-4FE0-B6C8-DB96E6BD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8D4E2-AE72-4F06-9B71-D2AE159C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0FE-5FEC-46FA-B27A-940F6729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300C-962F-4E90-A6EB-951F7213DF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8DAB-181C-4A49-A32F-8DE54631E3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889-CB68-4571-A2C3-FB4C1324D1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e2e2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ce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ce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6f6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e2e2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6f6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e2e2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e2e2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4c1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84c1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173A-F83D-41C2-8CA9-69E33BE7BA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A96-5520-47C8-9401-B8D71AECF1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EAFB-5FC5-4DE4-80AE-1CF43E9EEE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e2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3ccc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3b76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b76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658-3CD0-4697-B224-CAC6D0A75F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3.gif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6" descr="D:\Лена\Мои рисунки\Зимние мотивы\кормушка1.png"/>
          <p:cNvPicPr/>
          <p:nvPr/>
        </p:nvPicPr>
        <p:blipFill>
          <a:blip r:embed="rId1"/>
          <a:stretch/>
        </p:blipFill>
        <p:spPr>
          <a:xfrm>
            <a:off x="500040" y="966960"/>
            <a:ext cx="7883640" cy="589104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3" descr=""/>
          <p:cNvPicPr/>
          <p:nvPr/>
        </p:nvPicPr>
        <p:blipFill>
          <a:blip r:embed="rId2"/>
          <a:stretch/>
        </p:blipFill>
        <p:spPr>
          <a:xfrm>
            <a:off x="420840" y="2889360"/>
            <a:ext cx="6943680" cy="2054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1357200" y="55720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214200" y="357192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6643800" y="4071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D:\Лена\Мои рисунки\Смайлики на разные случаи\Погода\90dfec9b25235f851d906a83ccc9ab43.gif"/>
          <p:cNvPicPr/>
          <p:nvPr/>
        </p:nvPicPr>
        <p:blipFill>
          <a:blip r:embed="rId6"/>
          <a:stretch/>
        </p:blipFill>
        <p:spPr>
          <a:xfrm>
            <a:off x="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9" descr="D:\Лена\Мои рисунки\Смайлики на разные случаи\Погода\90dfec9b25235f851d906a83ccc9ab43.gif"/>
          <p:cNvPicPr/>
          <p:nvPr/>
        </p:nvPicPr>
        <p:blipFill>
          <a:blip r:embed="rId7"/>
          <a:stretch/>
        </p:blipFill>
        <p:spPr>
          <a:xfrm>
            <a:off x="3929040" y="8571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9" descr="D:\Лена\Мои рисунки\Смайлики на разные случаи\Погода\90dfec9b25235f851d906a83ccc9ab43.gif"/>
          <p:cNvPicPr/>
          <p:nvPr/>
        </p:nvPicPr>
        <p:blipFill>
          <a:blip r:embed="rId8"/>
          <a:stretch/>
        </p:blipFill>
        <p:spPr>
          <a:xfrm>
            <a:off x="2786040" y="2214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9" descr="D:\Лена\Мои рисунки\Смайлики на разные случаи\Погода\90dfec9b25235f851d906a83ccc9ab43.gif"/>
          <p:cNvPicPr/>
          <p:nvPr/>
        </p:nvPicPr>
        <p:blipFill>
          <a:blip r:embed="rId9"/>
          <a:stretch/>
        </p:blipFill>
        <p:spPr>
          <a:xfrm>
            <a:off x="7858080" y="58579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4" descr="D:\Лена\Мои рисунки\Смайлики на разные случаи\Погода\94eaad9d7cce53c9d73652c8f7f832e8.gif"/>
          <p:cNvPicPr/>
          <p:nvPr/>
        </p:nvPicPr>
        <p:blipFill>
          <a:blip r:embed="rId10"/>
          <a:stretch/>
        </p:blipFill>
        <p:spPr>
          <a:xfrm>
            <a:off x="4286160" y="23572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4" descr="D:\Лена\Мои рисунки\Смайлики на разные случаи\Погода\94eaad9d7cce53c9d73652c8f7f832e8.gif"/>
          <p:cNvPicPr/>
          <p:nvPr/>
        </p:nvPicPr>
        <p:blipFill>
          <a:blip r:embed="rId11"/>
          <a:stretch/>
        </p:blipFill>
        <p:spPr>
          <a:xfrm>
            <a:off x="2286000" y="22860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4" descr="D:\Лена\Мои рисунки\Смайлики на разные случаи\Погода\94eaad9d7cce53c9d73652c8f7f832e8.gif"/>
          <p:cNvPicPr/>
          <p:nvPr/>
        </p:nvPicPr>
        <p:blipFill>
          <a:blip r:embed="rId12"/>
          <a:stretch/>
        </p:blipFill>
        <p:spPr>
          <a:xfrm>
            <a:off x="0" y="1428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4" descr="D:\Лена\Мои рисунки\Смайлики на разные случаи\Погода\94eaad9d7cce53c9d73652c8f7f832e8.gif"/>
          <p:cNvPicPr/>
          <p:nvPr/>
        </p:nvPicPr>
        <p:blipFill>
          <a:blip r:embed="rId13"/>
          <a:stretch/>
        </p:blipFill>
        <p:spPr>
          <a:xfrm>
            <a:off x="821520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4" descr="D:\Лена\Мои рисунки\Смайлики на разные случаи\Погода\94eaad9d7cce53c9d73652c8f7f832e8.gif"/>
          <p:cNvPicPr/>
          <p:nvPr/>
        </p:nvPicPr>
        <p:blipFill>
          <a:blip r:embed="rId14"/>
          <a:stretch/>
        </p:blipFill>
        <p:spPr>
          <a:xfrm>
            <a:off x="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4" descr="D:\Лена\Мои рисунки\Смайлики на разные случаи\Погода\94eaad9d7cce53c9d73652c8f7f832e8.gif"/>
          <p:cNvPicPr/>
          <p:nvPr/>
        </p:nvPicPr>
        <p:blipFill>
          <a:blip r:embed="rId15"/>
          <a:stretch/>
        </p:blipFill>
        <p:spPr>
          <a:xfrm>
            <a:off x="642924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4" descr="D:\Лена\Мои рисунки\Смайлики на разные случаи\Погода\94eaad9d7cce53c9d73652c8f7f832e8.gif"/>
          <p:cNvPicPr/>
          <p:nvPr/>
        </p:nvPicPr>
        <p:blipFill>
          <a:blip r:embed="rId16"/>
          <a:stretch/>
        </p:blipFill>
        <p:spPr>
          <a:xfrm>
            <a:off x="7786800" y="185724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4" descr="D:\Лена\Мои рисунки\Смайлики на разные случаи\Погода\94eaad9d7cce53c9d73652c8f7f832e8.gif"/>
          <p:cNvPicPr/>
          <p:nvPr/>
        </p:nvPicPr>
        <p:blipFill>
          <a:blip r:embed="rId17"/>
          <a:stretch/>
        </p:blipFill>
        <p:spPr>
          <a:xfrm>
            <a:off x="6143760" y="2643120"/>
            <a:ext cx="928440" cy="92880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19"/>
          <p:cNvSpPr/>
          <p:nvPr/>
        </p:nvSpPr>
        <p:spPr>
          <a:xfrm>
            <a:off x="2500200" y="50007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Georgia"/>
              </a:rPr>
              <a:t>Руководитель проекта</a:t>
            </a: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Georgia"/>
              </a:rPr>
              <a:t>Супрун Людмила Васильевна</a:t>
            </a: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76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3b76"/>
              </a:solidFill>
              <a:latin typeface="Georgi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143000" y="0"/>
            <a:ext cx="6400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Century Schoolbook"/>
              </a:rPr>
              <a:t>Муниципальное бюджетное образовательное учреждение</a:t>
            </a:r>
            <a:endParaRPr b="0" lang="en-US" sz="16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Century Schoolbook"/>
              </a:rPr>
              <a:t>средняя образовательная школа № 45</a:t>
            </a:r>
            <a:endParaRPr b="0" lang="en-US" sz="16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66"/>
                </a:solidFill>
                <a:latin typeface="Century Schoolbook"/>
              </a:rPr>
              <a:t>муниципального образования Северский район</a:t>
            </a:r>
            <a:endParaRPr b="0" lang="en-US" sz="1600" spc="-1" strike="noStrike">
              <a:solidFill>
                <a:srgbClr val="003b76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3b76"/>
              </a:solidFill>
              <a:latin typeface="Georgia"/>
            </a:endParaRPr>
          </a:p>
        </p:txBody>
      </p:sp>
      <p:pic>
        <p:nvPicPr>
          <p:cNvPr id="370" name="Picture 29" descr="D:\Лена\Мои рисунки\Смайлики на разные случаи\Погода\90dfec9b25235f851d906a83ccc9ab43.gif"/>
          <p:cNvPicPr/>
          <p:nvPr/>
        </p:nvPicPr>
        <p:blipFill>
          <a:blip r:embed="rId18"/>
          <a:stretch/>
        </p:blipFill>
        <p:spPr>
          <a:xfrm>
            <a:off x="7643880" y="285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cc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71720" y="1600200"/>
            <a:ext cx="68529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Огромное значение имеют птицы в природе и в сельском хозяйстве, сохраняя от насекомых-вредителей культурные и дикорастущие растения, помогают в их опылении. Известно, что семья скворцов уничтожает за месяц до 24 тыс. насекомых и их личинок. Кукушка, в пищу которой идут крупные гусеницы, майские жуки, поедает их за лето до 270 тыс.; грач, следя за плугом, способен уничтожить до 400 червей. Пара синиц, поселившихся в саду вместе со своим потомством, могут очистить от насекомых-вредителей 40 больших яблонь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pic>
        <p:nvPicPr>
          <p:cNvPr id="373" name="Picture 8" descr="Картинка 674 из 5322"/>
          <p:cNvPicPr/>
          <p:nvPr/>
        </p:nvPicPr>
        <p:blipFill>
          <a:blip r:embed="rId1"/>
          <a:stretch/>
        </p:blipFill>
        <p:spPr>
          <a:xfrm rot="20246400">
            <a:off x="136440" y="5226120"/>
            <a:ext cx="137340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Картинка 8 из 6585"/>
          <p:cNvPicPr/>
          <p:nvPr/>
        </p:nvPicPr>
        <p:blipFill>
          <a:blip r:embed="rId2"/>
          <a:stretch/>
        </p:blipFill>
        <p:spPr>
          <a:xfrm flipH="1" rot="587400">
            <a:off x="126360" y="2243160"/>
            <a:ext cx="1323720" cy="1608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4" descr="Картинка 65 из 484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6357960" y="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9" descr="D:\Лена\Мои рисунки\Смайлики на разные случаи\Погода\90dfec9b25235f851d906a83ccc9ab43.gif"/>
          <p:cNvPicPr/>
          <p:nvPr/>
        </p:nvPicPr>
        <p:blipFill>
          <a:blip r:embed="rId4"/>
          <a:stretch/>
        </p:blipFill>
        <p:spPr>
          <a:xfrm>
            <a:off x="4357800" y="4287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9" descr="D:\Лена\Мои рисунки\Смайлики на разные случаи\Погода\90dfec9b25235f851d906a83ccc9ab43.gif"/>
          <p:cNvPicPr/>
          <p:nvPr/>
        </p:nvPicPr>
        <p:blipFill>
          <a:blip r:embed="rId5"/>
          <a:stretch/>
        </p:blipFill>
        <p:spPr>
          <a:xfrm>
            <a:off x="142920" y="4071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21420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b76"/>
                </a:solidFill>
                <a:latin typeface="Century Schoolbook"/>
              </a:rPr>
              <a:t>В холодные дни птицы ищут себе корм в течение всего дня. Зимой птицам не так страшен холод, как голод. За короткий зимний день птицы едва успевают утолить голод. В зимнюю стужу голодные и ослабевшие птицы легко замерзают. Если птичка не ест зимой 6 часов, она погибает. Из десяти мелких птиц в суровые зимы остаются только две. Поэтому им необходимо помочь. </a:t>
            </a:r>
            <a:endParaRPr b="0" lang="en-US" sz="2400" spc="-1" strike="noStrike">
              <a:solidFill>
                <a:srgbClr val="003b76"/>
              </a:solidFill>
              <a:latin typeface="Century Schoolboo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cc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0066cc"/>
              </a:solidFill>
              <a:latin typeface="Century Schoolbook"/>
            </a:endParaRPr>
          </a:p>
        </p:txBody>
      </p:sp>
      <p:pic>
        <p:nvPicPr>
          <p:cNvPr id="380" name="Picture 29" descr="D:\Лена\Мои рисунки\Смайлики на разные случаи\Погода\90dfec9b25235f851d906a83ccc9ab43.gif"/>
          <p:cNvPicPr/>
          <p:nvPr/>
        </p:nvPicPr>
        <p:blipFill>
          <a:blip r:embed="rId1"/>
          <a:stretch/>
        </p:blipFill>
        <p:spPr>
          <a:xfrm>
            <a:off x="3500280" y="535788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9" descr="D:\Лена\Мои рисунки\Смайлики на разные случаи\Погода\90dfec9b25235f851d906a83ccc9ab43.gif"/>
          <p:cNvPicPr/>
          <p:nvPr/>
        </p:nvPicPr>
        <p:blipFill>
          <a:blip r:embed="rId2"/>
          <a:stretch/>
        </p:blipFill>
        <p:spPr>
          <a:xfrm>
            <a:off x="7643880" y="335772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9" descr="D:\Лена\Мои рисунки\Смайлики на разные случаи\Погода\90dfec9b25235f851d906a83ccc9ab43.gif"/>
          <p:cNvPicPr/>
          <p:nvPr/>
        </p:nvPicPr>
        <p:blipFill>
          <a:blip r:embed="rId3"/>
          <a:stretch/>
        </p:blipFill>
        <p:spPr>
          <a:xfrm>
            <a:off x="4786200" y="50004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4"/>
          <a:stretch/>
        </p:blipFill>
        <p:spPr>
          <a:xfrm>
            <a:off x="5286240" y="3929040"/>
            <a:ext cx="2853000" cy="2635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5" descr="301"/>
          <p:cNvPicPr/>
          <p:nvPr/>
        </p:nvPicPr>
        <p:blipFill>
          <a:blip r:embed="rId5"/>
          <a:stretch/>
        </p:blipFill>
        <p:spPr>
          <a:xfrm>
            <a:off x="6715080" y="285840"/>
            <a:ext cx="1998720" cy="15001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302"/>
          <p:cNvPicPr/>
          <p:nvPr/>
        </p:nvPicPr>
        <p:blipFill>
          <a:blip r:embed="rId6"/>
          <a:stretch/>
        </p:blipFill>
        <p:spPr>
          <a:xfrm>
            <a:off x="463680" y="4761000"/>
            <a:ext cx="2535120" cy="215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07:01:34Z</dcterms:created>
  <dc:creator>дом</dc:creator>
  <dc:description/>
  <dc:language>en-US</dc:language>
  <cp:lastModifiedBy>Sea</cp:lastModifiedBy>
  <dcterms:modified xsi:type="dcterms:W3CDTF">2013-04-06T16:50:44Z</dcterms:modified>
  <cp:revision>69</cp:revision>
  <dc:subject/>
  <dc:title>Слайд 1</dc:title>
</cp:coreProperties>
</file>