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FB4-17DD-40E9-B3B8-F67D75FE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3D7-5D0D-490A-829B-AB82DC82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3E9-16CD-4B14-8A6C-7DD51A87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6BD-7C24-4600-B3F1-6331AE19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D11A-6182-4642-8C30-B86DF092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9557-71B3-43E1-87CC-C8CCDAB1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97C9-49C2-4FC3-9053-42DEC81E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9398-7416-4029-8671-206A2730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0B29-1106-48DC-B8C8-161C22CB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9410-D044-490A-9ECE-FA593ECB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911D-C547-4F4C-8D2F-EC21B315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73A-5F70-4B98-B18A-22C05CFB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740C-3CB0-4D8F-8044-2F0D03FE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13E6-3A62-4AA2-9202-2ED523D4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E783-74F5-4D22-9E6E-D35D11C9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58B3-2749-4D09-847A-E4A2E1CE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9284-08F9-4950-80C5-AD1E731C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FA484-8B80-4D18-A846-CCFAEB64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AEBEA-A005-4F60-AF21-F7772FDD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83CC5-F927-460A-8E07-45F4EB6B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88590-A18A-4D19-9998-2AE80F51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3F95C-FE03-48CA-84E1-F94B0D2E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B0A-DDFF-4EAD-86CC-A2825081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356F8-D161-40E5-BCE9-587CE2D7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F9A47-8B05-4B9F-9700-29F67BFD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A0CB0-5D9F-4E44-9278-F1CF7380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EB0B8-88D0-4B65-9515-9766D2FE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CE208-AAD2-4EE9-B8A0-0CC135AD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01B43-4324-493D-A58F-FB754C70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13313-74E6-46A3-9D92-D6D440E0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59C5-498D-438E-9C03-B04AD9B6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3953-E046-45D1-90DF-FF0BA48F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EF23-1700-4F07-A054-6C319B23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426-3697-4EB3-8B2E-9CF3E39D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2DF93-9567-4FB8-9B93-86DC8931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1AFCC-6931-4BD6-8B2D-54311DDE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49B6B-2294-4F23-AC42-8CC21A52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0123A-D0DB-4D28-A30D-470FD8A8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B79DD-8246-48F9-9F06-6D6D7D1B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367A1-C4FB-4DBF-8E8B-7F361113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906E3-9002-41ED-8006-6D5AC0E6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298F0-4F4A-45F5-8EF2-8450D290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F9288-1EE0-48B0-BD6D-AE2AEE87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100B1-914B-42F4-9A60-9E8B400D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9D7-BA51-46A6-9F0C-16E07164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CDBC6-26AB-4FEA-8688-E927CB55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20DF3-152C-43B8-AD9A-65A81EC7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C0258-9734-4CDC-A9A6-AC95DF1E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4B127-F3E1-4F60-82B6-E789EB06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FF3C5-FFD5-4C0F-93D2-C8036442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AE553-D1B6-41FA-A523-346BE707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4065D-344B-4BD0-9C07-687188F6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5CD7C-2C24-4C32-A6D9-E909B11F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7399E-9DB1-4A74-9B22-F0F97999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DDD5FB-1289-4C5F-9E30-5733810E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2BE-5182-42E1-B4C4-6750BEEF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E7E89F-B84A-49B6-9432-B2D1D8E9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CE441-69EA-443F-BC09-57295CFC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2156DC-36A3-48BA-8BC0-2970BABF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BDF53-892B-404C-865A-B6B844F8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90EB6-FDDC-42B7-8D3F-EC6BAE5E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BF237-19CB-474E-90B8-1BF33D6A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48DDF-98F3-4A85-B05A-A6A2D743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43B39-F215-4E9C-B0C6-5160C81A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40450-6AA4-4FE8-9AB0-439EFB58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6A17D-3B3F-4948-807A-C8A0354E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6C1-5AB8-4AEE-B336-A0FAEC7B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361F6-6C9F-442E-B4B1-9F141B83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EC5C8-496A-4DA5-94DA-23251836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CA5DD-4B9C-4097-92AC-10F36DA3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5CADF2-1357-4BBF-A257-C5968409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5C075-542D-4C94-BC27-3B21D56E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E38DC-C24D-4DAB-922B-1216C7F3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08BF02-6AC6-411F-865E-587F821B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23E32-B9BC-48F0-ABAB-4C91FEA8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AFB01-913D-4D77-B02D-10F86DF6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0981B-989D-4A1E-AC58-26011F9F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818-D835-4621-8EA4-52896C0E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DA75B-2ED4-44A5-A172-B17A7BF7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0EF8E-3C73-4D33-8239-B644F517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8BF1E-31E7-474D-B1B3-F5592DF6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63D369-4F0B-4476-9936-F309CB7A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97142-53A0-4DF0-B2DE-D6E58E74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9C6-4CDE-4B4E-B0D8-4DD91AD6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A931-E33B-4593-AFD6-1B62A77955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068F-BDFC-42E0-96D1-F6EC6AACBF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1C1A-2921-4F99-BDAA-EDAB0699F3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4c1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84c1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91D4-DD18-492F-B18A-7A96932BDD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B314-6233-4B17-9615-32BBF6A9C5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538B-E8E2-44FA-BE51-45058C7AF7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D274-1F94-42E1-A9CA-F105E685FA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28760" y="285480"/>
            <a:ext cx="8143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Цель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: Расширить знания детей о птицах, вызвать сочувствие к голодающим и замерзающим зимой птицам, учить проявлять заботу к ним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Задачи: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Обеспечить более надёжные основы экологической ответственности младших школьников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Обеспечение более широкой и разнообразной практической деятельности учащихся по охране окружающей среды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Обобщить и расширить представления детей о зимующих птицах нашего края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Помочь осознать главные этические законы жизни человека – любви, добра, справедливости к окружающему миру. 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pic>
        <p:nvPicPr>
          <p:cNvPr id="352" name="Picture 29" descr="D:\Лена\Мои рисунки\Смайлики на разные случаи\Погода\90dfec9b25235f851d906a83ccc9ab43.gif"/>
          <p:cNvPicPr/>
          <p:nvPr/>
        </p:nvPicPr>
        <p:blipFill>
          <a:blip r:embed="rId1"/>
          <a:stretch/>
        </p:blipFill>
        <p:spPr>
          <a:xfrm>
            <a:off x="285840" y="571500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9" descr="D:\Лена\Мои рисунки\Смайлики на разные случаи\Погода\90dfec9b25235f851d906a83ccc9ab43.gif"/>
          <p:cNvPicPr/>
          <p:nvPr/>
        </p:nvPicPr>
        <p:blipFill>
          <a:blip r:embed="rId2"/>
          <a:stretch/>
        </p:blipFill>
        <p:spPr>
          <a:xfrm>
            <a:off x="7143840" y="1071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C:\Users\ДОМ\Desktop\dac6e5d48c76.jpg"/>
          <p:cNvPicPr/>
          <p:nvPr/>
        </p:nvPicPr>
        <p:blipFill>
          <a:blip r:embed="rId3"/>
          <a:srcRect l="14481" t="22476" r="6709" b="14612"/>
          <a:stretch/>
        </p:blipFill>
        <p:spPr>
          <a:xfrm>
            <a:off x="6072120" y="5500800"/>
            <a:ext cx="1860480" cy="1108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Картинка 674 из 5322"/>
          <p:cNvPicPr/>
          <p:nvPr/>
        </p:nvPicPr>
        <p:blipFill>
          <a:blip r:embed="rId4"/>
          <a:stretch/>
        </p:blipFill>
        <p:spPr>
          <a:xfrm>
            <a:off x="3643200" y="5286240"/>
            <a:ext cx="178596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7168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Время работы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3b76"/>
                </a:solidFill>
                <a:latin typeface="Century Schoolbook"/>
              </a:rPr>
              <a:t>тип продолжительности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– краткосрочный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b76"/>
                </a:solidFill>
                <a:latin typeface="Century Schoolbook"/>
              </a:rPr>
              <a:t>сроки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– месяц (январь 2010 год)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Класс или возраст детей: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1 класс, 7-8 лет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Количество участников: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25 человек (дети и родители)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Предметная область: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Предметные области (технология и окружающий мир)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Форма организации детей: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коллективная, групповая работа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Ведущая деятельность: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поисковая, практическая, творческая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pic>
        <p:nvPicPr>
          <p:cNvPr id="357" name="Picture 29" descr="D:\Лена\Мои рисунки\Смайлики на разные случаи\Погода\90dfec9b25235f851d906a83ccc9ab43.gif"/>
          <p:cNvPicPr/>
          <p:nvPr/>
        </p:nvPicPr>
        <p:blipFill>
          <a:blip r:embed="rId1"/>
          <a:stretch/>
        </p:blipFill>
        <p:spPr>
          <a:xfrm>
            <a:off x="285840" y="5643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9" descr="D:\Лена\Мои рисунки\Смайлики на разные случаи\Погода\90dfec9b25235f851d906a83ccc9ab43.gif"/>
          <p:cNvPicPr/>
          <p:nvPr/>
        </p:nvPicPr>
        <p:blipFill>
          <a:blip r:embed="rId2"/>
          <a:stretch/>
        </p:blipFill>
        <p:spPr>
          <a:xfrm>
            <a:off x="7286760" y="4287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9" descr="D:\Лена\Мои рисунки\Смайлики на разные случаи\Погода\90dfec9b25235f851d906a83ccc9ab43.gif"/>
          <p:cNvPicPr/>
          <p:nvPr/>
        </p:nvPicPr>
        <p:blipFill>
          <a:blip r:embed="rId3"/>
          <a:stretch/>
        </p:blipFill>
        <p:spPr>
          <a:xfrm>
            <a:off x="6429240" y="557208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Картинка 39 из 839"/>
          <p:cNvPicPr/>
          <p:nvPr/>
        </p:nvPicPr>
        <p:blipFill>
          <a:blip r:embed="rId4"/>
          <a:stretch/>
        </p:blipFill>
        <p:spPr>
          <a:xfrm>
            <a:off x="7480440" y="1627200"/>
            <a:ext cx="1334880" cy="2384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0" descr=""/>
          <p:cNvPicPr/>
          <p:nvPr/>
        </p:nvPicPr>
        <p:blipFill>
          <a:blip r:embed="rId5"/>
          <a:stretch/>
        </p:blipFill>
        <p:spPr>
          <a:xfrm>
            <a:off x="3357720" y="5429160"/>
            <a:ext cx="1382400" cy="1214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428760" y="425520"/>
          <a:ext cx="8372520" cy="5607000"/>
        </p:xfrm>
        <a:graphic>
          <a:graphicData uri="http://schemas.openxmlformats.org/drawingml/2006/table">
            <a:tbl>
              <a:tblPr/>
              <a:tblGrid>
                <a:gridCol w="1234800"/>
                <a:gridCol w="2979720"/>
                <a:gridCol w="2143440"/>
                <a:gridCol w="201456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Этапы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едагога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тей и родителей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родукт деятельности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193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262673"/>
                          </a:solidFill>
                          <a:uFillTx/>
                          <a:latin typeface="Times New Roman"/>
                          <a:ea typeface="Calibri"/>
                        </a:rPr>
                        <a:t>1 этап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Выявление проблемы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(1 неделя)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На уроке окружающего мира ученики в беседе с учителем выявляются причины гибели птиц зимой, рассматривают ся ситуации, к которым может привести это.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Учитель предлагает принять участие в проекте «Помоги птицам перезимовать».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Входят в проблему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Ищут ответ на вопрос «Каковы причины гибели птиц зимой?»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Осознают и личностно воспринимают проблему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ринимают задачи проекта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2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262673"/>
                          </a:solidFill>
                          <a:uFillTx/>
                          <a:latin typeface="Times New Roman"/>
                          <a:ea typeface="Calibri"/>
                        </a:rPr>
                        <a:t>2 этап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Организация работы над проектом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(2 неделя)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одбирает и изучает литературу по проблеме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Составляет  план реализации проекта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Составляет схемы взаимодействия участников проекта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Во внеурочное время учащиеся делятся результатами своей поисковой и практической деятельности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осещение библиотек, изучение литературы по данной проблеме, просмотр видеофильмов, беседы со взрослыми, интернет, экскурсионная деятельность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ословицы и загадки о птицах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Классный час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«Птицы нашего края»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Конкурс рисунков и фотографий «Птицы зимой»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428760" y="425520"/>
          <a:ext cx="8372520" cy="4038480"/>
        </p:xfrm>
        <a:graphic>
          <a:graphicData uri="http://schemas.openxmlformats.org/drawingml/2006/table">
            <a:tbl>
              <a:tblPr/>
              <a:tblGrid>
                <a:gridCol w="1234800"/>
                <a:gridCol w="2979720"/>
                <a:gridCol w="1890720"/>
                <a:gridCol w="2267280"/>
              </a:tblGrid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Этапы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едагога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тей и родителей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родукт деятельности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193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262673"/>
                          </a:solidFill>
                          <a:uFillTx/>
                          <a:latin typeface="Times New Roman"/>
                          <a:ea typeface="Times New Roman"/>
                        </a:rPr>
                        <a:t>3 этап.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Реализация проекта.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Arial"/>
                        </a:rPr>
                        <a:t>(ноябрь)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Изготовление кормушек из подручных материалов на уроках технологии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одведение итогов поисковой деятельности, подготовка праздника «Помоги птицам перезимовать!»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Изготовление кормушек в домашних условиях, размещение их на деревьях, кормление птиц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Кормушки для птиц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93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262673"/>
                          </a:solidFill>
                          <a:uFillTx/>
                          <a:latin typeface="Times New Roman"/>
                          <a:ea typeface="Calibri"/>
                        </a:rPr>
                        <a:t>4 этап.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резентация полученных знаний;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раздник «Помоги птицам перезимовать!»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4" name="Picture 2" descr="Картинка 4 из 191"/>
          <p:cNvPicPr/>
          <p:nvPr/>
        </p:nvPicPr>
        <p:blipFill>
          <a:blip r:embed="rId1"/>
          <a:stretch/>
        </p:blipFill>
        <p:spPr>
          <a:xfrm>
            <a:off x="500040" y="4581360"/>
            <a:ext cx="2487600" cy="1990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Картинка 674 из 5322"/>
          <p:cNvPicPr/>
          <p:nvPr/>
        </p:nvPicPr>
        <p:blipFill>
          <a:blip r:embed="rId2"/>
          <a:stretch/>
        </p:blipFill>
        <p:spPr>
          <a:xfrm>
            <a:off x="0" y="5500800"/>
            <a:ext cx="1428840" cy="1028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1" descr=""/>
          <p:cNvPicPr/>
          <p:nvPr/>
        </p:nvPicPr>
        <p:blipFill>
          <a:blip r:embed="rId3"/>
          <a:stretch/>
        </p:blipFill>
        <p:spPr>
          <a:xfrm>
            <a:off x="1500120" y="5214960"/>
            <a:ext cx="1093680" cy="1285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9" descr="D:\Лена\Мои рисунки\Смайлики на разные случаи\Погода\90dfec9b25235f851d906a83ccc9ab43.gif"/>
          <p:cNvPicPr/>
          <p:nvPr/>
        </p:nvPicPr>
        <p:blipFill>
          <a:blip r:embed="rId4"/>
          <a:stretch/>
        </p:blipFill>
        <p:spPr>
          <a:xfrm>
            <a:off x="7236000" y="4149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9" descr="D:\Лена\Мои рисунки\Смайлики на разные случаи\Погода\90dfec9b25235f851d906a83ccc9ab43.gif"/>
          <p:cNvPicPr/>
          <p:nvPr/>
        </p:nvPicPr>
        <p:blipFill>
          <a:blip r:embed="rId5"/>
          <a:stretch/>
        </p:blipFill>
        <p:spPr>
          <a:xfrm>
            <a:off x="7286760" y="20001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9" descr="D:\Лена\Мои рисунки\Смайлики на разные случаи\Погода\90dfec9b25235f851d906a83ccc9ab43.gif"/>
          <p:cNvPicPr/>
          <p:nvPr/>
        </p:nvPicPr>
        <p:blipFill>
          <a:blip r:embed="rId6"/>
          <a:stretch/>
        </p:blipFill>
        <p:spPr>
          <a:xfrm>
            <a:off x="3203640" y="4724280"/>
            <a:ext cx="1500120" cy="1500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302"/>
          <p:cNvPicPr/>
          <p:nvPr/>
        </p:nvPicPr>
        <p:blipFill>
          <a:blip r:embed="rId7"/>
          <a:stretch/>
        </p:blipFill>
        <p:spPr>
          <a:xfrm rot="385200">
            <a:off x="3919320" y="5582880"/>
            <a:ext cx="1585800" cy="1189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302"/>
          <p:cNvPicPr/>
          <p:nvPr/>
        </p:nvPicPr>
        <p:blipFill>
          <a:blip r:embed="rId8"/>
          <a:stretch/>
        </p:blipFill>
        <p:spPr>
          <a:xfrm rot="385200">
            <a:off x="5919480" y="5160600"/>
            <a:ext cx="1655640" cy="118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Картинка 7 из 5998"/>
          <p:cNvPicPr/>
          <p:nvPr/>
        </p:nvPicPr>
        <p:blipFill>
          <a:blip r:embed="rId9"/>
          <a:stretch/>
        </p:blipFill>
        <p:spPr>
          <a:xfrm>
            <a:off x="5500800" y="5857920"/>
            <a:ext cx="736560" cy="623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7:01:34Z</dcterms:created>
  <dc:creator>дом</dc:creator>
  <dc:description/>
  <dc:language>en-US</dc:language>
  <cp:lastModifiedBy>Sea</cp:lastModifiedBy>
  <dcterms:modified xsi:type="dcterms:W3CDTF">2013-04-06T16:51:08Z</dcterms:modified>
  <cp:revision>69</cp:revision>
  <dc:subject/>
  <dc:title>Слайд 1</dc:title>
</cp:coreProperties>
</file>