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5EC-B648-49B7-9310-47E9B599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035-FD69-4121-ACDF-B37AA76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232-A5F5-4215-A5C7-C8B4E47D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A5F-D24D-403E-8C01-4D549A0C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0172-A3D7-4B41-BB0F-0E29F1A0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60F-A09F-4E02-86DA-AEA50054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92A-4008-4360-AFAB-BFE01FC0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C64-3A8E-4A03-933E-7CED798F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9DC4-A6A5-4611-BC7D-3A32A72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DB6B-9B65-4FF7-8020-479A8C0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A89B-9843-4675-A8B1-417D432E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60C-085B-46A5-8C59-E8CA9EA0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0D33-A712-47AF-BFBE-AF11258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1B3-442F-4702-96B1-05E50FDE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5771-F492-4953-AEDE-446B30A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F8D5-9DB3-4F5B-9D1B-BDAE7363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51F0-B54B-4A96-B66A-72214192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846F9-BE60-48A8-BAC5-79C82AC7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36410-0EA8-41E7-9A6B-5E06A87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AB197-6583-4D03-9133-46C2D596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ADDB9-2736-431E-8441-1BECACCD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50ECB-8BFE-4859-B19D-84621749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769-FB46-4213-B603-719DA22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C8CAE-2A53-4876-B3F1-8ACA276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CBEB2-4D93-47AB-A3E0-F2D89CC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03486-EB56-4615-8B9A-B313467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52701-F315-4C3B-B18A-7C5810F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CD3E3-96F5-4E05-A208-D8F465E8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B6F37-D949-45A0-AC29-A1460027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C8248-63E8-4982-A354-D059D145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7D5C-D437-4A50-A4A7-D7399946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FD37-1E66-45B3-8009-D59EAD23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085D3-3B62-4B82-905C-146371F8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5DC-83EB-40D4-B2B7-0DF5ADA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3EF1-C68C-4BF1-AB8F-CCFA39AF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CD05E-F4BF-4733-9138-C6F1CE10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E5AD-F3C7-4185-BB27-878AF82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488D9-481F-4156-94F7-970A27E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03B27-FDEF-49F1-938F-D51DB390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1144-7096-4C40-8978-B5A2B25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32EEF-2E05-4BBB-9A5E-F52471EB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B044-5AC9-4FFE-9288-EA5325FC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CF15E-997D-4965-96E1-656888C9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21078-8708-4E92-8F68-13556170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FAD-8AE5-4748-918B-06194FC7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839ED-1287-4318-A963-C5EF1F3A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48CB0-BA8D-408D-9C7B-2F717D61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6C1B7-342B-469D-86CC-C3A241C7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3D21D-D1EF-4FBE-9D8A-6397F057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DCFAE-2E89-4B63-845C-83237009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AC0489-EA23-42F3-A2DE-0C4E09EC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3C7AD-AFC7-49F0-8EF3-899A5DF9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5DB41-AE34-4390-97B0-5E9A9F9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395FF-3AFD-46A9-97D7-AE3638A3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12931-0055-4C54-8983-801D1713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379-3CB2-446B-9C08-F3AD17E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D0A20-2541-48EC-A066-F1296F6F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52E7A-33D6-49E1-AF1B-AD53A51F0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8435CA-FFDD-4C7B-8AF4-E94B2608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8151E9-79B7-4A90-A568-51A24698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72C92-4051-4D5F-8865-0F0F378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D6455-ACDA-4D1C-875D-3B6E920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D5BE4-654F-4558-B792-33003F92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DC51A-0799-4F67-8B0D-F8C092A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3E62F-31BA-45A8-ADCC-47AD7F32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29492-E516-473F-9633-AE699D2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87A-D088-4A21-A973-9EF0B96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AB8A1A-2AD8-4F1E-8B25-51EBCBA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C4F60-F057-4FBF-B840-5694C7A7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4627E-DFBF-4B55-B124-6470F0F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9DF198-7427-4E51-922A-65BFBAB2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8159C-7E7D-44CC-975F-BEBE4347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ACB87-0598-4F99-9BDE-F26277FA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A485BC-FD4B-45C3-89D6-53BE2472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93E2CC-7281-473B-87F9-28CA3C2E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00BF2-C507-4E10-B7D8-22D462B3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05BCC-8C98-4307-A67C-6504B5E0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031-4D2B-44AE-8A64-8C05BEA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33E51C-15EC-48E8-8D90-958782A2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826EC-EAAF-4129-8334-CAE92B9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2699D-40E8-4F82-983D-9492EBC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7261B-10F5-4266-B198-337CCD85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885F2-42B8-4BC4-B2C2-C561E12B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3A1-6BB1-4D38-8348-399AE927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FD9-714B-40FA-8AA6-8299EBAED55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3722-0A3B-4D72-8A29-C8359EB646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8D58-4044-4AD7-89F2-47603F4FEA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BCD-177E-43EC-AA7F-B435598F7F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C513-16AF-4874-AD1D-7F95265893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921-438A-4F1E-9002-E7DE4B4D3B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198-5771-4261-958D-2097AE0B0E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28760" y="285480"/>
            <a:ext cx="8143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Цель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: Расширить знания детей о птицах, вызвать сочувствие к голодающим и замерзающим зимой птицам, учить проявлять заботу к ним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Задачи: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ить более надёжные основы экологической ответственности младших школьников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еспечение более широкой и разнообразной практической деятельности учащихся по охране окружающей среды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бобщить и расширить представления детей о зимующих птицах нашего кр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мочь осознать главные этические законы жизни человека – любви, добра, справедливости к окружающему миру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2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71500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143840" y="1071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C:\Users\ДОМ\Desktop\dac6e5d48c76.jpg"/>
          <p:cNvPicPr/>
          <p:nvPr/>
        </p:nvPicPr>
        <p:blipFill>
          <a:blip r:embed="rId3"/>
          <a:srcRect l="14481" t="22476" r="6709" b="14612"/>
          <a:stretch/>
        </p:blipFill>
        <p:spPr>
          <a:xfrm>
            <a:off x="6072120" y="5500800"/>
            <a:ext cx="1860480" cy="110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8" descr="Картинка 674 из 5322"/>
          <p:cNvPicPr/>
          <p:nvPr/>
        </p:nvPicPr>
        <p:blipFill>
          <a:blip r:embed="rId4"/>
          <a:stretch/>
        </p:blipFill>
        <p:spPr>
          <a:xfrm>
            <a:off x="3643200" y="5286240"/>
            <a:ext cx="178596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7168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ремя работы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i="1" lang="ru-RU" sz="2400" spc="-1" strike="noStrike">
                <a:solidFill>
                  <a:srgbClr val="003b76"/>
                </a:solidFill>
                <a:latin typeface="Century Schoolbook"/>
              </a:rPr>
              <a:t>тип продолжительности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– краткосрочный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b76"/>
                </a:solidFill>
                <a:latin typeface="Century Schoolbook"/>
              </a:rPr>
              <a:t>сроки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– месяц (январь 2010 год)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ласс или возраст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1 класс, 7-8 лет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Количество участников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25 человек (дети и родители)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Предметная область: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 Предметные области (технология и окружающий мир)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Форма организации детей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коллективная, групповая работа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Century Schoolbook"/>
              </a:rPr>
              <a:t>Ведущая деятельность: </a:t>
            </a: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поисковая, практическая, творческая.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285840" y="5643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28676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642924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8" descr="Картинка 39 из 839"/>
          <p:cNvPicPr/>
          <p:nvPr/>
        </p:nvPicPr>
        <p:blipFill>
          <a:blip r:embed="rId4"/>
          <a:stretch/>
        </p:blipFill>
        <p:spPr>
          <a:xfrm>
            <a:off x="7480440" y="1627200"/>
            <a:ext cx="1334880" cy="2384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0" descr=""/>
          <p:cNvPicPr/>
          <p:nvPr/>
        </p:nvPicPr>
        <p:blipFill>
          <a:blip r:embed="rId5"/>
          <a:stretch/>
        </p:blipFill>
        <p:spPr>
          <a:xfrm>
            <a:off x="3357720" y="5429160"/>
            <a:ext cx="1382400" cy="121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428760" y="425520"/>
          <a:ext cx="8372520" cy="560700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2143440"/>
                <a:gridCol w="201456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1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Выявление проблемы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1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На уроке окружающего мира ученики в беседе с учителем выявляются причины гибели птиц зимой, рассматривают ся ситуации, к которым может привести это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Учитель предлагает принять участие в проекте «Помоги птицам перезимовать».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ходят в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щут ответ на вопрос «Каковы причины гибели птиц зимой?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Осознают и личностно воспринимают проблему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инимают задач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92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2 этап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Организация работы над проектом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62673"/>
                          </a:solidFill>
                          <a:latin typeface="Times New Roman"/>
                          <a:ea typeface="Calibri"/>
                        </a:rPr>
                        <a:t>(2 неделя)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бирает и изучает литературу по проблеме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 план реализации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Составляет схемы взаимодействия участников проекта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Во внеурочное время учащиеся делятся результатами своей поисковой и практической деятельност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ещение библиотек, изучение литературы по данной проблеме, просмотр видеофильмов, беседы со взрослыми, интернет, экскурсионная деятельность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словицы и загадки о птицах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лассный час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«Птицы нашего края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нкурс рисунков и фотографий «Птицы зимой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428760" y="425520"/>
          <a:ext cx="8372520" cy="4038480"/>
        </p:xfrm>
        <a:graphic>
          <a:graphicData uri="http://schemas.openxmlformats.org/drawingml/2006/table">
            <a:tbl>
              <a:tblPr/>
              <a:tblGrid>
                <a:gridCol w="1234800"/>
                <a:gridCol w="2979720"/>
                <a:gridCol w="1890720"/>
                <a:gridCol w="2267280"/>
              </a:tblGrid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Этапы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едагога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ятельность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детей и родителей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Продукт деятельности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1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Реализация проекта.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62673"/>
                          </a:solidFill>
                          <a:latin typeface="Times New Roman"/>
                          <a:ea typeface="Arial"/>
                        </a:rPr>
                        <a:t>(ноябрь) 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из подручных материалов на уроках технологии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одведение итогов поисковой деятельности, подготовка праздника «Помоги птицам перезимовать!»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Изготовление кормушек в домашних условиях, размещение их на деревьях, кормление птиц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Кормушки для птиц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3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262673"/>
                          </a:solidFill>
                          <a:uFillTx/>
                          <a:latin typeface="Times New Roman"/>
                          <a:ea typeface="Calibri"/>
                        </a:rPr>
                        <a:t>4 этап.</a:t>
                      </a:r>
                      <a:endParaRPr b="0" lang="en-US" sz="14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езентация полученных знаний; 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праздник «Помоги птицам перезимовать!».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4" name="Picture 2" descr="Картинка 4 из 191"/>
          <p:cNvPicPr/>
          <p:nvPr/>
        </p:nvPicPr>
        <p:blipFill>
          <a:blip r:embed="rId1"/>
          <a:stretch/>
        </p:blipFill>
        <p:spPr>
          <a:xfrm>
            <a:off x="500040" y="4581360"/>
            <a:ext cx="2487600" cy="1990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" descr="Картинка 674 из 5322"/>
          <p:cNvPicPr/>
          <p:nvPr/>
        </p:nvPicPr>
        <p:blipFill>
          <a:blip r:embed="rId2"/>
          <a:stretch/>
        </p:blipFill>
        <p:spPr>
          <a:xfrm>
            <a:off x="0" y="5500800"/>
            <a:ext cx="1428840" cy="1028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1" descr=""/>
          <p:cNvPicPr/>
          <p:nvPr/>
        </p:nvPicPr>
        <p:blipFill>
          <a:blip r:embed="rId3"/>
          <a:stretch/>
        </p:blipFill>
        <p:spPr>
          <a:xfrm>
            <a:off x="1500120" y="5214960"/>
            <a:ext cx="1093680" cy="1285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7236000" y="4149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7286760" y="2000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3203640" y="4724280"/>
            <a:ext cx="1500120" cy="1500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302"/>
          <p:cNvPicPr/>
          <p:nvPr/>
        </p:nvPicPr>
        <p:blipFill>
          <a:blip r:embed="rId7"/>
          <a:stretch/>
        </p:blipFill>
        <p:spPr>
          <a:xfrm rot="385200">
            <a:off x="3919320" y="5582880"/>
            <a:ext cx="1585800" cy="1189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302"/>
          <p:cNvPicPr/>
          <p:nvPr/>
        </p:nvPicPr>
        <p:blipFill>
          <a:blip r:embed="rId8"/>
          <a:stretch/>
        </p:blipFill>
        <p:spPr>
          <a:xfrm rot="385200">
            <a:off x="5919480" y="5160600"/>
            <a:ext cx="1655640" cy="118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Картинка 7 из 5998"/>
          <p:cNvPicPr/>
          <p:nvPr/>
        </p:nvPicPr>
        <p:blipFill>
          <a:blip r:embed="rId9"/>
          <a:stretch/>
        </p:blipFill>
        <p:spPr>
          <a:xfrm>
            <a:off x="5500800" y="5857920"/>
            <a:ext cx="736560" cy="623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1:08Z</dcterms:modified>
  <cp:revision>69</cp:revision>
  <dc:subject/>
  <dc:title>Слайд 1</dc:title>
</cp:coreProperties>
</file>