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gif" ContentType="image/gif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737B-9567-489C-8109-CFA7111C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1467-1278-4E47-9D7A-59B927FB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75B1-C822-4811-9D21-3F2C50DF2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77C0-5821-4533-AA56-01B861416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0DFD-28D3-4421-8663-4B742A4E4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7E20-DC49-4B86-8FDE-D4397F22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5280-CC92-4B4F-AB62-3A5D9728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C96E-2FBE-4A6E-A196-18BB6688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8A12-7718-4CB0-BFB3-8CADAD44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D34A-85B4-4A0C-8A30-335B4329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E9B0-14BC-466D-82EB-513661F8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501B-BBCD-41B4-A98E-2DA0CCAE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3185-785C-47B4-A1AD-6D648415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EDC9-9D7F-4492-8F3A-8B51E905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43A3-AE09-4534-A340-BC3FED9F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848C-8824-442A-8AEA-327903653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4680-0529-40D1-8768-551BFC563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C61D73-5394-4B1C-8678-7DB728D61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0EEDD9-E852-433D-AD61-40732C9E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0B0E18-52E6-4093-846F-3BCF833F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ADA62B-9637-4741-B1E1-699A5F6B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9C0F6F-D509-4209-B074-7CD0F8D9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11F1-7AAE-4BC7-BAB4-393F8959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9A3676-CA41-4479-9888-8AA68CB2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ECD15E-7B5C-40AE-80B1-D6ABF905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719595-0AFB-4CED-884E-5ABDEE70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6FEB79-B0C1-4ADD-A8A8-38762C27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61C673-ACD8-49D7-A1D6-75B72DA2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6B56A3-788A-422C-9E02-BFB90F03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F9CE66-E053-4546-8591-3CCAE93DA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5A23F-01F5-47B6-BDE7-B8C57FDFF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99AC0-1F4D-4411-9205-CF199689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7D7E6-E63E-4760-A9FB-2E55471B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7207-217B-4B00-BE6B-F2A153C4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EF357-A7EB-4DFB-AFEB-F5F46019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442BD-95F3-4936-8C98-35AF7AAE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C54A4-D938-4F49-972F-4842518C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A6466-069F-4C21-B11D-9E2FB1BC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4454E-2E1D-400D-B025-6DFEEB2A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E309A-3F1E-40B1-8A59-54075D54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8F8A1-615D-4C83-955F-07BBE33B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9D002-0C5F-4498-8E62-5E9B49D9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9097D-8F7D-4286-84E7-75D98533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DB3D64-1A00-457B-AF81-81DD02E8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E7DC-5426-44F0-9EB9-AB5BEE7E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8D30EA-6F14-4539-B450-723DA9F8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563EE4-886A-4B33-A52F-9B8EB39E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F6D0D4-3143-4EF3-8193-87D9DADA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6B085F-789E-4B45-896F-7208A997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30431D-D18A-4DA7-9926-BFA9A047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4F33D4-0CCD-40CA-8F27-AB8A0E65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BA8069-A59C-41C4-A0BD-EF856257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6149E7-C63E-4B1C-AD81-0862F315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684E71-A84A-474F-A570-F30C7461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7586BA-12C3-44A6-B130-33F99B501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5FD9-369C-4908-9914-1F46F229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C1CB23-1380-4060-880E-E4C8064B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083F5B-9324-4C9B-9FD9-1819A19B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B729B8-6FDB-4538-A204-68A53C04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A025FA-1585-428C-BB3B-AC28791E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080A32-35B5-40ED-B827-AF0AC75A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903F5B-32D6-4610-9F6C-FE59396C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11ECE5-3CAC-4ACF-B062-34DFD198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FFCB17-B64C-4291-ACEA-DFF1939E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94B889-1ED0-48DB-B5C4-E3EE290E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C481F0-CDF5-44C7-8996-2213B220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6E26-84F6-4290-910D-48DAAA52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69C274-2593-458B-AC01-C404F09D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A4D9AF-8256-422F-9072-1DF0F127A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E2810E-D76A-4434-88F7-584F7D6A2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DE824E-8DB0-49F6-9BB1-CFDE38DD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D92949-10ED-4CB7-9743-799C8027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E43F4B-10FB-4188-9AF5-5DE99C6D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E8C0E3-A518-49D1-99AD-D983AC91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CC9479-9AA9-414C-948E-17EE99F7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B0B9AE-571D-45B4-99C3-EA77C361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371BA6-406E-4E9F-9A71-833385E9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89EA-793A-40ED-B762-EB7D30E8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42D396-2D35-4D31-BEF9-65FE8485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AA233F-5AA8-4997-9666-CCF45A95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4E73DC-057B-4CDF-BE10-2ECF57DF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84A092-86F8-4FC3-9BD6-C5522FBDD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0430E0-0722-42D9-A7D8-B63CF2A8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61CE-0E7E-41AD-8D32-BCBFB8D9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e2e2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e2e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34E3-1481-4439-8B67-5F0F7E00B75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de2e2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dece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dece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f6f6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de2e2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f6f6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de2e2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de2e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80E1-9409-4CCC-A230-6E6C0CAA280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e2e2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e2e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51A1-5F66-4DE5-AEFE-D09C7913F1C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de2e2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dece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dece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f6f6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de2e2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f6f6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de2e2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de2e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4c1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84c1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B779-39CA-48AE-A15C-67E80323833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e2e2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e2e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D5E3-C4D5-47F0-8AB6-90207C2C507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e2e2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e2e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6474-F312-409C-8FF9-20718778D48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421C-A61B-4019-8CB6-B62DA23EC12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12" descr="PICT0369"/>
          <p:cNvPicPr/>
          <p:nvPr/>
        </p:nvPicPr>
        <p:blipFill>
          <a:blip r:embed="rId1"/>
          <a:stretch/>
        </p:blipFill>
        <p:spPr>
          <a:xfrm>
            <a:off x="5219640" y="260280"/>
            <a:ext cx="3148200" cy="23605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3" descr="PICT0359"/>
          <p:cNvPicPr/>
          <p:nvPr/>
        </p:nvPicPr>
        <p:blipFill>
          <a:blip r:embed="rId2"/>
          <a:stretch/>
        </p:blipFill>
        <p:spPr>
          <a:xfrm>
            <a:off x="539640" y="4076640"/>
            <a:ext cx="3148200" cy="23605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4" descr="PICT0358"/>
          <p:cNvPicPr/>
          <p:nvPr/>
        </p:nvPicPr>
        <p:blipFill>
          <a:blip r:embed="rId3"/>
          <a:stretch/>
        </p:blipFill>
        <p:spPr>
          <a:xfrm>
            <a:off x="4572000" y="4076640"/>
            <a:ext cx="3147840" cy="23605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7" descr="PICT0366"/>
          <p:cNvPicPr/>
          <p:nvPr/>
        </p:nvPicPr>
        <p:blipFill>
          <a:blip r:embed="rId4"/>
          <a:stretch/>
        </p:blipFill>
        <p:spPr>
          <a:xfrm>
            <a:off x="395280" y="260280"/>
            <a:ext cx="3148200" cy="2360520"/>
          </a:xfrm>
          <a:prstGeom prst="rect">
            <a:avLst/>
          </a:prstGeom>
          <a:ln w="0">
            <a:noFill/>
          </a:ln>
        </p:spPr>
      </p:pic>
      <p:pic>
        <p:nvPicPr>
          <p:cNvPr id="355" name="Прямоугольник 20" descr=""/>
          <p:cNvPicPr/>
          <p:nvPr/>
        </p:nvPicPr>
        <p:blipFill>
          <a:blip r:embed="rId5"/>
          <a:stretch/>
        </p:blipFill>
        <p:spPr>
          <a:xfrm>
            <a:off x="1481040" y="1994040"/>
            <a:ext cx="6029280" cy="2455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9" descr="D:\Лена\Мои рисунки\Смайлики на разные случаи\Погода\90dfec9b25235f851d906a83ccc9ab43.gif"/>
          <p:cNvPicPr/>
          <p:nvPr/>
        </p:nvPicPr>
        <p:blipFill>
          <a:blip r:embed="rId6"/>
          <a:stretch/>
        </p:blipFill>
        <p:spPr>
          <a:xfrm>
            <a:off x="250920" y="292428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9" descr="D:\Лена\Мои рисунки\Смайлики на разные случаи\Погода\90dfec9b25235f851d906a83ccc9ab43.gif"/>
          <p:cNvPicPr/>
          <p:nvPr/>
        </p:nvPicPr>
        <p:blipFill>
          <a:blip r:embed="rId7"/>
          <a:stretch/>
        </p:blipFill>
        <p:spPr>
          <a:xfrm>
            <a:off x="3492360" y="404640"/>
            <a:ext cx="1500480" cy="1500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9" descr="D:\Лена\Мои рисунки\Смайлики на разные случаи\Погода\90dfec9b25235f851d906a83ccc9ab43.gif"/>
          <p:cNvPicPr/>
          <p:nvPr/>
        </p:nvPicPr>
        <p:blipFill>
          <a:blip r:embed="rId8"/>
          <a:stretch/>
        </p:blipFill>
        <p:spPr>
          <a:xfrm>
            <a:off x="7164360" y="2708280"/>
            <a:ext cx="1500120" cy="1500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pic>
        <p:nvPicPr>
          <p:cNvPr id="361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5"/>
          <p:cNvSpPr/>
          <p:nvPr/>
        </p:nvSpPr>
        <p:spPr>
          <a:xfrm>
            <a:off x="324000" y="333360"/>
            <a:ext cx="4032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 </a:t>
            </a: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утра и до позднего вечера </a:t>
            </a: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своив полянки страниц</a:t>
            </a: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Х</a:t>
            </a: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озяйствует в книжке доверчиво</a:t>
            </a: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Р</a:t>
            </a: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аздольная музыка птиц.</a:t>
            </a: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может быть, с этого времени</a:t>
            </a: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аступит иная пора – </a:t>
            </a: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станет для птичьего племени</a:t>
            </a: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М</a:t>
            </a: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илее ещё детвора?!</a:t>
            </a: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4643280" y="404640"/>
            <a:ext cx="40323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</a:t>
            </a: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орадуют снова пернатые</a:t>
            </a: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Р</a:t>
            </a: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уладами сердце и слух,</a:t>
            </a: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крепче подружат с юннатами</a:t>
            </a: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Р</a:t>
            </a: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ечушка и роща, и луг.</a:t>
            </a: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т неба до мира подводного</a:t>
            </a: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</a:t>
            </a: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авайте ж, как Родины речь,</a:t>
            </a: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мом и душой благородною</a:t>
            </a: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4714920" y="3214800"/>
            <a:ext cx="3816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З</a:t>
            </a: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доровье планеты беречь!</a:t>
            </a: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диное многообразие</a:t>
            </a: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М</a:t>
            </a: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ы будем ценить неспроста,</a:t>
            </a: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Л</a:t>
            </a: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юбя и Европу, и Азию,</a:t>
            </a: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 </a:t>
            </a: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наши родные места!</a:t>
            </a: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65" name="WordArt 8"/>
          <p:cNvSpPr txBox="1"/>
          <p:nvPr/>
        </p:nvSpPr>
        <p:spPr>
          <a:xfrm>
            <a:off x="1042920" y="5734080"/>
            <a:ext cx="71294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храним природу Земли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66" name="Picture 24" descr=""/>
          <p:cNvPicPr/>
          <p:nvPr/>
        </p:nvPicPr>
        <p:blipFill>
          <a:blip r:embed="rId2"/>
          <a:stretch/>
        </p:blipFill>
        <p:spPr>
          <a:xfrm>
            <a:off x="1692360" y="3284640"/>
            <a:ext cx="2808360" cy="23050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0" descr=""/>
          <p:cNvPicPr/>
          <p:nvPr/>
        </p:nvPicPr>
        <p:blipFill>
          <a:blip r:embed="rId3"/>
          <a:stretch/>
        </p:blipFill>
        <p:spPr>
          <a:xfrm>
            <a:off x="971640" y="3933720"/>
            <a:ext cx="1079280" cy="947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07:01:34Z</dcterms:created>
  <dc:creator>дом</dc:creator>
  <dc:description/>
  <dc:language>en-US</dc:language>
  <cp:lastModifiedBy>Sea</cp:lastModifiedBy>
  <dcterms:modified xsi:type="dcterms:W3CDTF">2013-04-06T16:51:31Z</dcterms:modified>
  <cp:revision>69</cp:revision>
  <dc:subject/>
  <dc:title>Слайд 1</dc:title>
</cp:coreProperties>
</file>