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0F1-644D-4B1C-9AAF-C5997973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E94-732A-4F93-9CBC-6E5FC06D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CCE-B24C-4D49-973F-C46948D0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B22-E599-466A-BDD2-55C7644C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5F8A-1B95-4D44-BDF9-42F3D26F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838A-D5C6-46DC-A710-DC648B7D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65F7-2427-49F4-823D-907F6854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6100-F49D-4A82-9D43-AC64F764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817E-56B1-4047-A56E-AE9AAB00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5FDD-F539-4FC3-8123-62976C11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A1EC-5B76-4EF3-8C73-FECFA1CE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38A-56E0-410A-A8F8-06F8D2A1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0ECD-5342-47F0-A3E1-F14036BC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58D3-6F1E-4EF7-BF74-5553936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C8F2-17C3-4CE6-899D-B74ECE02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4427-A83D-4442-8D53-5B9DEF9C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2B04-819B-4ED0-AF9E-3355D51B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928EB-26BA-4121-931E-731B1F10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77F6F-C81B-44FA-9A9B-18A428B6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9F95C-324B-4ABF-B9D7-6C6F32E2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62A66-1933-4BA0-8B0A-E04BBB0F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E2003A-801C-42DA-AE22-F9D2C1E6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112-11BD-49ED-B887-6B0F04D6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7BD69-0CA3-4F42-AC44-0D68025F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B2017-DD3D-4053-A0F3-1C31F946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C154F-AC80-414D-B867-3717353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8A74F-EE4F-43AB-9E38-8E6D5EF2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F56BE-7F4B-4EBA-B60C-B1C32A21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FEEEE-9B7B-4637-B7AD-853049E6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C9E89-FDE4-4A92-B4C7-E8FC11DF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FC2E-56C9-4304-AC15-F6DBD6F7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F4669-A60B-4BBA-A5BA-8669ADF6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6880-0C26-447E-ABDC-5BFB7397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123-C32F-4F4B-9FCF-DCBD9F7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EB69-9054-4C68-AD07-3028422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AF4AB-95BA-4C52-909D-654C9249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9489D-242E-4187-A96A-ACA7734F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667FB-FB9A-4F20-AE22-49522CBD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BFBBF-C22D-4826-88A3-40FCDEA7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A108D-B443-44C2-85C9-24014977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61BA-BDA7-49D9-9D28-BE3C981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477B2-887B-41B2-9B35-B234B647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E8D7-9119-45BB-A772-85E16F8A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B4801-7B7B-4FB0-8EE9-57A9C5F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E60-EADE-4DAB-97CD-0D0D7EEA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22E5D1-1291-45A6-B265-283C3111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28C2C-E828-4BBF-8CA6-64B2436E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84DA2-B63D-4044-B138-8371270A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D7D87-E5D2-4081-9003-D3822444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1DD12-0251-4FE1-B719-B4B6D50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43FC9-E2AD-4EE3-A446-FA1E466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4686B-7A54-42EA-A45B-E8D5CAD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3B4BA-65AC-4917-8E2A-CCFF7F33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47F4D-99D6-4EA0-AEF1-750CAD81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C8F8B-1213-47B7-8A63-BDE1C5B2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51A-8AF0-41F5-86B7-2352EEE0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9FF25-29EE-4F4C-8B57-1872A32D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5C2AA-56D9-4B5B-A45E-AD6460B0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8226C-D209-4EBA-9E3B-113A4894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700CD9-C9E8-4454-8167-D03D6B7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C929F-004B-4356-996B-5456BD12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4DC10C-84C5-4C2F-B5C7-9BC28CD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8E4714-3E83-420A-9B17-B0EF6C1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E991B-C4A6-4C9A-B06C-1DAF5488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179AE-2009-46DE-BEC3-C6AA3BF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87B78-49CC-43A9-9D90-EA996F60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2C8-CD57-4E2A-9C77-CB048C6A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EAE1B-992F-42D6-988E-ABC364E9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83B30-C59D-4876-8601-C0265869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2729A-2092-482A-96AE-2AA7FEC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F5230-D93B-48EC-8DC2-B60BC3AB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62C2B-01CD-4CF0-AA65-4303C9CB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E8D3F-0831-4980-80D9-BB683897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814B7-D772-444D-8575-E9D54C60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4E2E87-0FFE-4E37-A59B-878BB90A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F1949-6155-4A32-A991-36918E0F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98EE4-99DC-45C2-8EAA-54CB55F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98A-1956-44D8-8E03-14619A56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2A4FB-BA25-431C-80E9-9CE323A3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2F13F-E3D5-4F63-AB7F-42423315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5534C-ECA3-4B0D-A0CD-F34DC63A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206351-5E09-41C6-8017-E8C37780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BE778-6D9B-45AD-A351-173BBC50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CB6-BE6B-492C-AA63-9025AE9A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A83-190F-42D8-87BA-5BC719C92F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FC3D-5E2D-49A8-A215-C86DCC00D2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6F1C-E27E-471B-94FC-D64362E2C4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426F-B16C-4800-8712-4D2CC4DE272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9E10-C4E6-4262-BAF4-963284C228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A6A8-EC2D-4D57-9AF8-6E1E2364248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B185-F5F4-4132-9A13-D14AF613D6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2" descr="PICT0369"/>
          <p:cNvPicPr/>
          <p:nvPr/>
        </p:nvPicPr>
        <p:blipFill>
          <a:blip r:embed="rId1"/>
          <a:stretch/>
        </p:blipFill>
        <p:spPr>
          <a:xfrm>
            <a:off x="5219640" y="260280"/>
            <a:ext cx="3148200" cy="2360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3" descr="PICT0359"/>
          <p:cNvPicPr/>
          <p:nvPr/>
        </p:nvPicPr>
        <p:blipFill>
          <a:blip r:embed="rId2"/>
          <a:stretch/>
        </p:blipFill>
        <p:spPr>
          <a:xfrm>
            <a:off x="539640" y="4076640"/>
            <a:ext cx="3148200" cy="23605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4" descr="PICT0358"/>
          <p:cNvPicPr/>
          <p:nvPr/>
        </p:nvPicPr>
        <p:blipFill>
          <a:blip r:embed="rId3"/>
          <a:stretch/>
        </p:blipFill>
        <p:spPr>
          <a:xfrm>
            <a:off x="4572000" y="4076640"/>
            <a:ext cx="3147840" cy="2360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7" descr="PICT0366"/>
          <p:cNvPicPr/>
          <p:nvPr/>
        </p:nvPicPr>
        <p:blipFill>
          <a:blip r:embed="rId4"/>
          <a:stretch/>
        </p:blipFill>
        <p:spPr>
          <a:xfrm>
            <a:off x="395280" y="260280"/>
            <a:ext cx="3148200" cy="236052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20" descr=""/>
          <p:cNvPicPr/>
          <p:nvPr/>
        </p:nvPicPr>
        <p:blipFill>
          <a:blip r:embed="rId5"/>
          <a:stretch/>
        </p:blipFill>
        <p:spPr>
          <a:xfrm>
            <a:off x="1481040" y="1994040"/>
            <a:ext cx="6029280" cy="2455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250920" y="292428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7"/>
          <a:stretch/>
        </p:blipFill>
        <p:spPr>
          <a:xfrm>
            <a:off x="3492360" y="404640"/>
            <a:ext cx="1500480" cy="1500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8"/>
          <a:stretch/>
        </p:blipFill>
        <p:spPr>
          <a:xfrm>
            <a:off x="7164360" y="270828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6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324000" y="333360"/>
            <a:ext cx="4032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утра и до позднего вечера 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своив полянки страниц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озяйствует в книжке доверчиво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здольная музыка птиц.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может быть, с этого времени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ступит иная пора – 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станет для птичьего племени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илее ещё детвора?!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643280" y="404640"/>
            <a:ext cx="4032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орадуют снова пернатые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уладами сердце и слух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крепче подружат с юннатами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ечушка и роща, и луг.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т неба до мира подводного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авайте ж, как Родины речь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мом и душой благородною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4714920" y="3214800"/>
            <a:ext cx="3816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доровье планеты беречь!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Е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диное многообразие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ы будем ценить неспроста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Л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юбя и Европу, и Азию,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3b76"/>
                </a:solidFill>
                <a:latin typeface="Times New Roman"/>
              </a:rPr>
              <a:t>наши родные места!</a:t>
            </a: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5" name="WordArt 8"/>
          <p:cNvSpPr txBox="1"/>
          <p:nvPr/>
        </p:nvSpPr>
        <p:spPr>
          <a:xfrm>
            <a:off x="1042920" y="5734080"/>
            <a:ext cx="712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храним природу Земл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66" name="Picture 24" descr=""/>
          <p:cNvPicPr/>
          <p:nvPr/>
        </p:nvPicPr>
        <p:blipFill>
          <a:blip r:embed="rId2"/>
          <a:stretch/>
        </p:blipFill>
        <p:spPr>
          <a:xfrm>
            <a:off x="1692360" y="3284640"/>
            <a:ext cx="2808360" cy="2305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0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1079280" cy="947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Sea</cp:lastModifiedBy>
  <dcterms:modified xsi:type="dcterms:W3CDTF">2013-04-06T16:51:31Z</dcterms:modified>
  <cp:revision>69</cp:revision>
  <dc:subject/>
  <dc:title>Слайд 1</dc:title>
</cp:coreProperties>
</file>