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2C15-E117-4C98-80B9-2BB26D7FB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FA6-0402-4F9D-9DD7-C3A795E5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937-738F-41B9-BE87-E11895E4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6220-54D8-4D99-B61E-36F85535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096-CBBC-4812-B144-63D0E0A0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FC2-D3CB-4B3A-8E81-9D924859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85D-FE07-4758-8A22-BD291808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50B-49CA-4EFB-A160-7B0CAFFC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810-3F73-4488-9036-3D167454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717-AFD7-44A6-B146-E1BCB98A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C2F-9742-4758-8B45-CEF9D1DE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470-6734-465C-BA46-91DEE111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4CA3-2EC8-4ED6-910D-E9E59B102FB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irsovetov.ru/a/medicine/drug/medical-preparation.html" TargetMode="External"/><Relationship Id="rId2" Type="http://schemas.openxmlformats.org/officeDocument/2006/relationships/hyperlink" Target="http://ill.ru/cgi-bin/tourism/tourism.aptechka.pl" TargetMode="External"/><Relationship Id="rId3" Type="http://schemas.openxmlformats.org/officeDocument/2006/relationships/hyperlink" Target="http://comp-doctor.ru/apteka/apt.php" TargetMode="External"/><Relationship Id="rId4" Type="http://schemas.openxmlformats.org/officeDocument/2006/relationships/hyperlink" Target="http://karachay-cherkes.ru/v_pomoshh_turistam/aptechka_turista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11479" t="8041" r="10442" b="14503"/>
          <a:stretch/>
        </p:blipFill>
        <p:spPr>
          <a:xfrm>
            <a:off x="395280" y="189000"/>
            <a:ext cx="8353440" cy="525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2781360"/>
            <a:ext cx="7848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рок по ОБЖ в 6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АПТЕЧКА И  ПРАВИЛА ЕЁ ИСПОЛЬ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5589720"/>
            <a:ext cx="432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 работу преподаватель-организатор, учитель ОБЖ           ГБОУ СОШ №546 г. Санкт-Петербурга Гусева Натали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Список литературы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ндин В.И.,Ю.Г.Семехин. Безопасность жизнедеятельности. -  Ростов-на-Дону: Феникс,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бнов В.Г.,Бубнова Н.В. Атлас добровольного спасателя. – Москва: Астрель,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ирнов А.Т. Основы безопасности жизнедеятельности. – Москва: Просвещение,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mirsovetov.ru/a/medicine/drug/medical-preparati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ill.ru/cgi-bin/tourism/tourism.aptechk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comp-doctor.ru/apteka/apt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karachay-cherkes.ru/v_pomoshh_turistam/aptechka_tur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6600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Аптечка</a:t>
            </a:r>
            <a:r>
              <a:rPr b="0" lang="en-US" sz="3800" spc="-1" strike="noStrike">
                <a:solidFill>
                  <a:srgbClr val="996600"/>
                </a:solidFill>
                <a:latin typeface="Arial"/>
              </a:rPr>
              <a:t> – это набор лекарственных средств, инструментов и приспособлений, предназначенных для оказания первой помощи и первой медицинской помощ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47" name="" descr="&amp;Fcy;&amp;acy;&amp;jcy;&amp;lcy;:Sign first aid.svg"/>
          <p:cNvPicPr/>
          <p:nvPr/>
        </p:nvPicPr>
        <p:blipFill>
          <a:blip r:embed="rId1"/>
          <a:stretch/>
        </p:blipFill>
        <p:spPr>
          <a:xfrm>
            <a:off x="3995640" y="4221000"/>
            <a:ext cx="1728720" cy="1729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79640" y="60930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ждународный символ перв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В состав аптечек входит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Набор для обработки ран (бинт, пласты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Жг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Антисептики (йод, зелён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Анальгетики (цитрамон, папавер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Антибио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Антигистаминные (кларит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Спазмолитические препараты (но-ш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Нашатарный спи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Бор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Инструменты: 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Активированный уг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rcRect l="11708" t="8278" r="10656" b="14464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11531" t="8081" r="10375" b="144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rcRect l="11678" t="8081" r="10523" b="148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11383" t="8081" r="10246" b="141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11383" t="8278" r="10541" b="146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2637000"/>
            <a:ext cx="822960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следовательность оказания помощи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765000"/>
            <a:ext cx="1655640" cy="1584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692280"/>
            <a:ext cx="1584360" cy="1584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59640" y="692280"/>
            <a:ext cx="1655640" cy="16570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2360" y="4076640"/>
            <a:ext cx="1800000" cy="18003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4149720"/>
            <a:ext cx="1727280" cy="1728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126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08360" y="1268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М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119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Д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4724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В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4653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ВК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333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260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93080" y="333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5640" y="3716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7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0:37:35Z</dcterms:created>
  <dc:creator>учитель</dc:creator>
  <dc:description/>
  <dc:language>en-US</dc:language>
  <cp:lastModifiedBy>Наташа</cp:lastModifiedBy>
  <dcterms:modified xsi:type="dcterms:W3CDTF">2013-04-14T18:33:24Z</dcterms:modified>
  <cp:revision>26</cp:revision>
  <dc:subject/>
  <dc:title>Медицинская аптечка и правила её использования</dc:title>
</cp:coreProperties>
</file>