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70D-C1E6-4FAE-B218-AF4CE9CA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B19-78E8-46B9-ACC7-3A498AC5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0F07F-3203-4B79-BEA1-3A5E1EC8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3BD53-7585-4F36-BB5D-D88F684A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45AE6-14DB-4A71-97A3-E24019AB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72486-52FD-40BC-8D2E-D8EE066F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18B5D-E4F2-4007-AABD-B654AC5D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AEB13-AA4C-499F-B6B4-437F372F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79BB0-1C24-4FB2-BA8B-17B85BE0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989A8-D515-4F44-A447-8AC59457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AE6B6-DEAD-4BE9-B48D-6AB04EEA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674-2033-4F21-A542-810A1EFF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47A-82C0-4EE9-A69E-4351DCB3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2E55-BBDE-40F8-AA7F-4689F618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C1A1-A879-419D-A70A-20196604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ABD1-7B29-49A2-BF19-BC54DF6C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63C2-0FAC-4A23-85FE-0716072F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8FC3-5CB1-4DBC-BAE3-406B08ED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03F9-345D-46CC-9ECA-EAC5EC4F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BDE4-4F4D-4360-8938-B70BFD5D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1E6-137E-4D83-AFD7-FB01532E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49C7-2B0B-488B-AFE6-34D1916E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8DD9-FE67-48CB-A335-E96CA70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25DF-4AA0-4995-BE87-3E0AA645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8B58-43F3-48AF-BC58-F7D4885F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2D88-A777-4772-8294-93D1AA21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F442-FB38-4769-8BD5-7323EB1F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E8F6-CCDE-45C0-9916-834BDBC5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C850-DBAB-42A8-AB5E-FEA86309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A912-EDA8-41AF-BCDF-3EC81F7A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3957-EB12-4882-9EEC-F63EFA4A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4CE-9A55-4CE7-BBF0-28117356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97249-6504-44E3-B3A4-2F1FA004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EF33-08D1-4513-A932-847FD985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48CC-9FFD-4194-A26B-1EC9AA46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D576-EB64-4BAB-A43A-0122AB40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CE6F-1FC4-4EE5-9E56-F48056CB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7FD2C-24AF-45EF-B1A5-13C24CE4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7330-0BF3-452E-AF85-89CE8BA7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96524-D915-4563-B071-CA48EABF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8F143-BF6F-4D9C-95E9-0E7EAE61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1197D-27B7-4B73-9224-6A50EE42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2B2-04A4-426E-9C98-37A68A70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4F855-3AAF-4EC3-898B-1667ACC4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FA2DF-72F5-4F28-8D38-1693C021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CA3D-1E1E-40AC-BCC9-1F949F1C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5A244-3615-40F2-A9FC-43AF9A31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A8DFF-E156-4331-990C-BB8345FB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F9C8F-BD6F-4282-8AF8-9F89787B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4B800-58D8-4266-ACC0-8C6426A9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C00A7-84AA-4B99-964B-C29ED2E5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84A76-8F97-4086-8455-340CDBFD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46EB2-30CE-4DD8-9C50-8A2BEBC5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BBD-62FA-4EBA-903F-5F130F40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DFEAE-FEFB-4636-8D3E-025F5B96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AED17-4603-4A8E-A27E-A4F8DDDB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A6C9-6518-454B-924F-1CBC6E05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7870D-538F-4F66-A1E9-5560F515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6436A-8458-4BE8-98D1-14D68D6D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ACF49-FE64-4D0D-ADA7-714F6E65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0039D-CE68-49B3-BFFF-784D5C1A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64EA5-DD51-4FEA-9517-26B984FB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31C7B-5B45-4D64-8F76-3C5B21F5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AB885-36E8-41A7-BEA5-FD46770C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194-63E8-4F1E-9F0A-37565F35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99C46-9B86-4166-A074-D3ADC816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D1AF5-B39F-4A31-94D6-594E254A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58900-F15C-4B44-8C32-2100989C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861AD-0BF7-408B-86CA-B3B6F34E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5E6C5-3768-4BE6-AB68-103CFCEF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8D561-D992-4CF5-990D-C18F4499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F2420-4A0F-45FC-981C-89C745D1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73645-7681-4043-A899-53346E8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C7A07-0316-47A1-BE8E-DE60247D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DA65D-F9EC-4565-9F84-D4ABAD58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E35-6489-4784-8F80-76C01310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138DF-D804-49E7-A74B-E561A8AA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874D5-1CC7-4D90-8FC9-AD148D14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78D76-FE2D-4333-BFBC-EB409656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0A2C3-8ECB-467A-B320-02F71B16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D80E4-A8E6-4C7F-A5D6-8A71383B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12AEA-4A29-4237-B2B0-0BF07ABC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3B6F0-DA87-41D3-BC9C-C7A51498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1B6E8-5C7E-49F8-9990-4C2421FB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35168-8344-4763-809E-243FBA79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0FB74-E773-43E5-9B0D-827DE089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589-7AF6-4687-B407-7D65079F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B4F19-F6D0-481A-82A5-04592AF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3101B-E707-4E5C-A783-D3D9DE24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C8C6F-C917-48C1-B269-55EF3BCE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F9080-C5C5-4951-8066-39F6152F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A28B7-84AF-4FBE-B681-67B0594F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DC3D6-FC97-476B-9076-9E76198B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A5646-AD7D-44D1-A796-660DACE0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3E50-1154-4F6F-8D45-903217D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66F7E-63EE-47FC-8136-92F8BC8F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45FFB-8648-4364-8D35-BD8A5D1E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3B3-C830-4773-A0EB-29D1099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2FFBB-0808-4188-9A2B-BCB4137E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2BC0B-6AE0-4B86-BBEF-2D32CF4D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7DAB8-2B2D-4170-BA7C-C5448A3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06D7D-D748-4C1B-A5AA-EE7F16F8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E1277-BC56-4D16-9A6D-E1B6C6A9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9F8F2-01DF-4C89-84D1-C674166B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A1949-2614-4592-AAC9-49C612A7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38913-144A-45C4-BD82-AB4117DB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60942-8CFE-41FC-A45D-22FB91C6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49F2B-98B5-4E8D-85CC-B27DDF4E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CAB5-0859-4C81-93A7-4EEBBBA7AF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0827-9E1C-4094-943A-AF5F60E204B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408E-BDDD-420C-B3C9-66A843A3CB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5376-C4A5-41E8-9B1C-71F70B11800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8450-3F3F-4EA8-9DFF-5324781C136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810E-5069-44C1-B9CD-246C229666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B37F-892A-40C9-A951-0D9295EEC4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8EF-7F5C-4570-81E4-1A8910B8B21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1DBA-84FE-4AC0-A737-2B5DCF817A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31_&#1075;&#1086;&#1076;" TargetMode="External"/><Relationship Id="rId2" Type="http://schemas.openxmlformats.org/officeDocument/2006/relationships/hyperlink" Target="http://ru.wikipedia.org/wiki/&#1058;&#1091;&#1085;&#1075;&#1091;&#1089;&#1099;" TargetMode="External"/><Relationship Id="rId3" Type="http://schemas.openxmlformats.org/officeDocument/2006/relationships/hyperlink" Target="http://ru.wikipedia.org/wiki/&#1054;&#1088;&#1086;&#1095;&#1086;&#1085;&#1099;" TargetMode="External"/><Relationship Id="rId4" Type="http://schemas.openxmlformats.org/officeDocument/2006/relationships/hyperlink" Target="http://ru.wikipedia.org/wiki/&#1057;&#1086;&#1083;&#1086;&#1085;&#1099;" TargetMode="External"/><Relationship Id="rId5" Type="http://schemas.openxmlformats.org/officeDocument/2006/relationships/hyperlink" Target="http://ru.wikipedia.org/wiki/&#1069;&#1074;&#1077;&#1085;&#1082;&#1080;&#1081;&#1089;&#1082;&#1080;&#1081;_&#1103;&#1079;&#1099;&#1082;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225360" y="530280"/>
            <a:ext cx="8925120" cy="39751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ЭВЕНКИ.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ИСТОРИЯ И ТРАДИЦИИ 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  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9</a:t>
            </a:r>
            <a:r>
              <a:rPr b="1" lang="en-US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”</a:t>
            </a: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А</a:t>
            </a:r>
            <a:r>
              <a:rPr b="1" lang="en-US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”</a:t>
            </a: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класс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Классный руководитель: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BatangChe"/>
                <a:ea typeface="BatangChe"/>
              </a:rPr>
              <a:t>Анциферова Ольга Владимировна.</a:t>
            </a: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Book Antiqua"/>
              </a:rPr>
              <a:t>п.  Усть - Уда </a:t>
            </a:r>
            <a:br>
              <a:rPr sz="1400"/>
            </a:b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Book Antiqua"/>
              </a:rPr>
              <a:t>2012 г.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0429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2590920" y="1219320"/>
            <a:ext cx="5790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  <a:ea typeface="Arial Unicode MS"/>
              </a:rPr>
              <a:t>анимизм, шаманство, магия, промысловые и родовые культы, культ предков – сохраняются до сих пор. Эвенки обладали классическими формами шаманства (слово «шаман» - тунгусское). Шаман, посредник между людьми и духами, в образе зверя или своего духа-предка совершал полеты по мирам Вселенной, стремясь вылечить от болезней, найти пропавшее, узнать будущее, обеспечить хороший приплод зверей, помочь рождению ребенка или проводить в мир мертвых душу усопшего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Рисунок 3" descr="http://upload.wikimedia.org/wikipedia/commons/thumb/1/16/Evenk_shaman_costume.jpg/250px-Evenk_shaman_costume.jpg"/>
          <p:cNvPicPr/>
          <p:nvPr/>
        </p:nvPicPr>
        <p:blipFill>
          <a:blip r:embed="rId2"/>
          <a:stretch/>
        </p:blipFill>
        <p:spPr>
          <a:xfrm>
            <a:off x="228600" y="2209680"/>
            <a:ext cx="2381400" cy="297180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4"/>
          <p:cNvSpPr/>
          <p:nvPr/>
        </p:nvSpPr>
        <p:spPr>
          <a:xfrm>
            <a:off x="2286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тюм сибирского эвенкийского шам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0" y="3610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эвенков и по сей день существует неписаный свод традиций и заповедей, регламентирующий социальные, семейные и межродовые отнош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нимат»- обычай безвозмездной передачи своей добычи сородич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малу» - закон гостеприимства, согласно которому самое удобное место в чуме предназначается только для гостей . Гостем же считался всякий, кто переступал "порог" чу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левират» - обычай наследования младшим братом вдовы старшего бр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тори» - брачная сделка, которая совершалась одним из трех путей: выплатой за невесту определенного количества оленей, денег или других ценностей; обменом девушками ; отрабатыванием за невес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Прямоугольник 4"/>
          <p:cNvSpPr/>
          <p:nvPr/>
        </p:nvSpPr>
        <p:spPr>
          <a:xfrm>
            <a:off x="609480" y="2362320"/>
            <a:ext cx="830592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Эвенки (тунгусы) являются одним из самых древних коренных народов Восточной Сибири.  Самоназвание — эвенки, ставшее официальным этнонимом в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Book Antiqua"/>
                <a:hlinkClick r:id="rId1"/>
              </a:rPr>
              <a:t>1931 году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старое название -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тунгусы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Отдельные группы эвенков были известны как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Book Antiqua"/>
                <a:hlinkClick r:id="rId3"/>
              </a:rPr>
              <a:t>орочены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бирары, манегры,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Book Antiqua"/>
                <a:hlinkClick r:id="rId4"/>
              </a:rPr>
              <a:t>солоны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                         Язык —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Book Antiqua"/>
                <a:hlinkClick r:id="rId5"/>
              </a:rPr>
              <a:t>эвенкийский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, принадлежит к тунгусо-маньчжурской группе алтайской языковой семьи. Существует две теории их происхождения. Согласно первой, прародина эвенков находилась в районе южного Байкала, где их культура развивалась с палеолитической эпохи, с последующим их расселением на запад и восток. Вторая теория предполагает, что эвенки появились в результате ассимиляции местным ("протоюкагирским") населением племени уваней, горно-степных скотоводов восточных отрогов Большого Хингана.                                         Иркутской области проживают (1,37 тыс. чел.) на севере  Казаченско – Ленского района, Бодайбиском  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Рисунок 6" descr="http://www.baikalfund.ru/mediacache/6d627ac7-6932-43bd-9e51-617c07e8941f.jpg"/>
          <p:cNvPicPr/>
          <p:nvPr/>
        </p:nvPicPr>
        <p:blipFill>
          <a:blip r:embed="rId6"/>
          <a:stretch/>
        </p:blipFill>
        <p:spPr>
          <a:xfrm>
            <a:off x="228600" y="45720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4" descr=""/>
          <p:cNvPicPr/>
          <p:nvPr/>
        </p:nvPicPr>
        <p:blipFill>
          <a:blip r:embed="rId1"/>
          <a:stretch/>
        </p:blipFill>
        <p:spPr>
          <a:xfrm>
            <a:off x="-6480" y="212760"/>
            <a:ext cx="8315280" cy="1098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bevenk"/>
          <p:cNvPicPr/>
          <p:nvPr/>
        </p:nvPicPr>
        <p:blipFill>
          <a:blip r:embed="rId2"/>
          <a:stretch/>
        </p:blipFill>
        <p:spPr>
          <a:xfrm>
            <a:off x="2438280" y="838080"/>
            <a:ext cx="3276720" cy="3786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148-stojbiwe"/>
          <p:cNvPicPr/>
          <p:nvPr/>
        </p:nvPicPr>
        <p:blipFill>
          <a:blip r:embed="rId3"/>
          <a:stretch/>
        </p:blipFill>
        <p:spPr>
          <a:xfrm>
            <a:off x="5029200" y="3938760"/>
            <a:ext cx="4114800" cy="2919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эвенки1"/>
          <p:cNvPicPr/>
          <p:nvPr/>
        </p:nvPicPr>
        <p:blipFill>
          <a:blip r:embed="rId4"/>
          <a:stretch/>
        </p:blipFill>
        <p:spPr>
          <a:xfrm>
            <a:off x="228600" y="762120"/>
            <a:ext cx="2209680" cy="2590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2" descr="эвенки-4"/>
          <p:cNvPicPr/>
          <p:nvPr/>
        </p:nvPicPr>
        <p:blipFill>
          <a:blip r:embed="rId5"/>
          <a:stretch/>
        </p:blipFill>
        <p:spPr>
          <a:xfrm>
            <a:off x="0" y="3581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эвенки-2"/>
          <p:cNvPicPr/>
          <p:nvPr/>
        </p:nvPicPr>
        <p:blipFill>
          <a:blip r:embed="rId6"/>
          <a:stretch/>
        </p:blipFill>
        <p:spPr>
          <a:xfrm>
            <a:off x="6019920" y="121932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0" y="-13572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озяйственно-культурные типы Эвенков – "пешие" (охотники), "оленные", орочен (оленеводы) и конные, мурчен (коневоды), известные также в Забайкалье как хамнеган, солон (русское солоны), онгкоры, в среднем Приамурье – как бирарчен (бирары), манягир (манегры), кумарчен (по реке Кумара) и др. Контакты с русскими с 1606, к середине 17 века были обложены ясаком. С 17 века Эвенки вытесняются якутами, русскими и бурятами со среднего Вилюя, Ангары, Бирюсы, верхней Ингоды, нижнего и среднего Баргузина, левобережья Амура, манегры и бирары переселились в Северный Китай. В 19 веке Эвенки появились на нижнем Амуре и Сахалине.  В процессе контактов Эвенки были частично ассимилированы русскими, якутами, монголами и бурятами, даурами, маньчжурами и китай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971800" cy="246708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5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3810240" cy="2590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43280"/>
          </a:xfrm>
          <a:prstGeom prst="rect">
            <a:avLst/>
          </a:prstGeom>
          <a:ln w="0">
            <a:noFill/>
          </a:ln>
        </p:spPr>
      </p:pic>
      <p:sp>
        <p:nvSpPr>
          <p:cNvPr id="413" name="Прямоугольник 2"/>
          <p:cNvSpPr/>
          <p:nvPr/>
        </p:nvSpPr>
        <p:spPr>
          <a:xfrm>
            <a:off x="762120" y="1219320"/>
            <a:ext cx="792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 мужским относились изготовление изделий из дерева, кости и металла, а также изготовление лодки-берестянки (бересту шили женщины), лодки-долбленки и нарт. Женщины выделывали шкуры, шили, из них одежду, обувь, покрышки для чума, предметы домашнего обихода. Они обрабатывали бересту и шили из нее посуду, а также «тиски» — берестяные полотнища для чумов и для лодок-берестянок. Мужчины умели украшать узорами деревянные, костяные и металлические вещи, женщины — ровдугу, бересту и меха. На женщинах лежали обязанности ухода за детьми и приготовление пи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3" descr="http://www.pribaikal.ru/typo3temp/pics/5af47ed644.jpg"/>
          <p:cNvPicPr/>
          <p:nvPr/>
        </p:nvPicPr>
        <p:blipFill>
          <a:blip r:embed="rId2"/>
          <a:stretch/>
        </p:blipFill>
        <p:spPr>
          <a:xfrm>
            <a:off x="914400" y="4343400"/>
            <a:ext cx="3733920" cy="213372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4" descr="http://www.pribaikal.ru/typo3temp/pics/36e548887b.jpg"/>
          <p:cNvPicPr/>
          <p:nvPr/>
        </p:nvPicPr>
        <p:blipFill>
          <a:blip r:embed="rId3"/>
          <a:stretch/>
        </p:blipFill>
        <p:spPr>
          <a:xfrm>
            <a:off x="5029200" y="4419720"/>
            <a:ext cx="3581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0340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2"/>
          <p:cNvSpPr/>
          <p:nvPr/>
        </p:nvSpPr>
        <p:spPr>
          <a:xfrm>
            <a:off x="4572000" y="1371600"/>
            <a:ext cx="4267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чум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– представлял собой конический шалаш из жердей, покрываемый зимой оленьими шкурами, а в летнее время берестой. При перекочевках каркас оставляли на месте, а материал для покрытия чума брали с собой. Зимние стойбища эвенков состояли из 1-2 чумов, летние – от 10 и более благодаря частым праздникам в это время года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ЧУМ ТОФАЛАРОВ"/>
          <p:cNvPicPr/>
          <p:nvPr/>
        </p:nvPicPr>
        <p:blipFill>
          <a:blip r:embed="rId2"/>
          <a:stretch/>
        </p:blipFill>
        <p:spPr>
          <a:xfrm>
            <a:off x="609480" y="144792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04292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2"/>
          <p:cNvSpPr/>
          <p:nvPr/>
        </p:nvSpPr>
        <p:spPr>
          <a:xfrm>
            <a:off x="990720" y="1219320"/>
            <a:ext cx="7086600" cy="59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хота, рыболовство, заготовка ягод, грибов, орехов. Таёжное оленеводство. Охотились эвенки скрадом, гоном на лыжах, с собакой, верхом на оленях, загоном с ямами. Основная охота была на мясного зверя, пушного били попутно. На охоте тунгусы пользовались луками, рогатиной и устанавливали самострелы и петли. За зверем гонялись или били его на водопойных тропах из засады на деревьях и в лодках.. Бродячие охотники добывали рыбу с помощью лука и остроги. Зимой старики кололи рыбу через лунки, а летом рыбаки занимались лучением с ло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3" descr=""/>
          <p:cNvPicPr/>
          <p:nvPr/>
        </p:nvPicPr>
        <p:blipFill>
          <a:blip r:embed="rId2"/>
          <a:stretch/>
        </p:blipFill>
        <p:spPr>
          <a:xfrm>
            <a:off x="2971800" y="4648320"/>
            <a:ext cx="4038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304920" y="53352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Основа традиционной пи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итались мясом  диких животных (у конных эвенков - конина) и рыба, которые употребляли практически всегда в сыром виде. Ели ягоды, дикий чеснок и лук. Основным напитком служил чай, иногда с оленьим молоком или со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елали кровяную колбасу, суп из сушеного мяса. Летом пили оленье молоко, добавляли его в чай, ягоды, мучную кашу, сбивали из него масло. Чай пили также с брусникой, шиповником. Курили листовой табак. Мука была известна задолго до прихода русских, но забайкальские скотоводы делали из нее похлебку или жарили с жиром. Хлеб научились выпекать у рус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5429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0429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2"/>
          <p:cNvSpPr/>
          <p:nvPr/>
        </p:nvSpPr>
        <p:spPr>
          <a:xfrm>
            <a:off x="609480" y="1295280"/>
            <a:ext cx="8077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остоит из ровдужных или суконных натазников (хэрки), ноговиц (арамус, гуруми), распашного кафтана из оленьей шкуры, полы которого связывались на груди завязками; под него надевался нагрудник с завязками сзади. Женский нагрудник (нэлли) украшался бисером, имел прямой нижний край, мужской (хэлми) – углом. Мужчины носили пояс с ножом в ножнах, женщины – с игольницей, трутницей и кисетом. Одежда украшалась полосками козьего и собачьего меха, бахромой, вышивкой конским волосом, металлическими бляшками, бисером. Коневоды Забайкалья носили халат с широким запахом налево. Распространились элементы русск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5:23:59Z</dcterms:created>
  <dc:creator>Администратор</dc:creator>
  <dc:description/>
  <dc:language>en-US</dc:language>
  <cp:lastModifiedBy>Кошкаревы</cp:lastModifiedBy>
  <dcterms:modified xsi:type="dcterms:W3CDTF">2013-04-14T08:23:05Z</dcterms:modified>
  <cp:revision>1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