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356-356A-4166-B567-F1084767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BD4-15D2-4C2E-BE49-C64B9FC6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9134E-AC03-400B-BF6C-75500EF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EA7B5-7E44-49E7-8EE3-90C8B304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1DF06-824D-4CD1-BF27-E304AD28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FCDBD-EFF9-4A27-8FA5-A98E601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8EF68-57AF-48D6-B3BF-E2511B8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B211F-41C3-41E0-88A7-C05598B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F1B7B-E10A-4673-8EAA-B12FBAE7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FAF6-15F6-48A3-BFD2-42A3218D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105E0-2FB8-432E-B731-5A43B837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2BD-BF61-40CF-8168-7CBFA459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A58-5A7A-4AB1-9BFD-984D78F6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B508-E996-4D8A-8763-11B62FC0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964F-D48D-4D05-BA59-7D0A84F0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5188-9255-4587-97FC-B036C792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D5C-699A-43F5-B0F9-71FCAB9E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F75-AE3B-4785-B7D7-D0EC82E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3390-5161-4974-A67B-56EC17D6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ADCD-6C4F-4C70-A00C-EAC61AA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C23-22E6-4A43-9657-D70582E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692C-DB0A-4BE1-909E-47C8CD4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DE3-CE4F-468C-B5C6-2A85328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5D79-562B-41A9-8154-ECD0DBEC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F4F1-287D-4BFD-A03B-8460D929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455-0F7C-44FB-AD03-F9A6C02C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CBE5-B9D2-44E0-B1D4-20FAE648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A64C-D74B-41DE-BAF4-66A8D36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B4AC-0998-421F-8A03-2657CD5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A0E9-3C24-4C57-8B4F-9F24C7C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CC5F-1032-4FF1-B2DE-5167523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D81-E1DC-4FC0-93B0-8997D73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3A77C-24D2-4F40-8E7C-07DED4F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73A0-1B56-4E20-8FA0-72838974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D4F2-E3E9-4D02-A04D-4ADDF3D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AFAF-D105-419C-B0A8-6E4C405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EB71-6290-4A66-AA74-59457AD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3DDF-FF21-4EFF-8FA3-FC8BF6C8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826A-6BD4-43A7-A57E-637550EE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6C4B-21FD-4322-B6A2-98E336AA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EF65-794F-48BF-BD39-A0F3C8E9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0023-E8B3-4995-A9AF-049A973F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03A-3EE7-4A67-BBCC-B45785C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44E4-044E-4AE0-9A04-F232CC25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0F6F-35D3-44B5-952B-8C5643F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B185-98F9-4BC3-8ACC-D1240424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3EBA-1756-4661-9D25-DD17A55C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FD07-474B-4172-BF43-179ABAB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99C8-E5F0-4393-A104-75AF23EF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599B-8417-4C98-9CDB-269BD94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88AD-BE1C-4EE1-B6B7-792A6771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88FE-9788-4358-B9EB-238921D4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29E0-35C2-456C-BF9B-E7E42685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379-1C1C-47D4-A327-3579F93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62F5-AA7A-4A79-9B75-DB12093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0846-64E6-48B6-9D5D-18CA8105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13DD-D233-46ED-A1C8-5B26BBF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8857-CB4E-4312-8810-90726DA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2464-9FC3-4251-8FE9-C3A1BA98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3B97-3F7F-4C11-BF08-76D83DE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187FE-862E-4BDB-B83B-3C128CB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C8F6-9261-4943-9092-246893D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95D2-F609-4C7D-A854-876E554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A575-7FB9-4456-B649-732F0A4A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767-0078-4FF1-873F-199B2A0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4D60-6169-4A44-AD4D-D55DB74F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04A17-78A6-4FBB-9B97-C32AFFBE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C8FC2-E073-4EFB-875A-A615512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D5996-B999-4B06-9AAA-13BFBFA7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E7B4-2B64-40D2-A366-6AFA7A2E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9C85A-EDE8-4933-B63D-288291B6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59A88-56C3-437C-BAA0-1A51DF1E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A9B0-9D4E-4E14-B97C-3DA18E2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BDD5-5266-4763-9DB9-A03EE7A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D904-F59F-419D-92C9-C503E51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77D-E7F2-4F6E-92E4-45ABA3B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E32B0-3E9B-46DC-9B90-8A38387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B52E8-6D08-48D3-BDE4-BA6C74EB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A7A3-769A-49B1-B180-1867BFD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1312-8469-468A-95A7-FDD0BEFB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84EFB-5796-4440-A68F-647C367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CF4F-5B2D-4E5E-91C0-1437678E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B9C8-775A-41A1-8C6E-7D77998C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7402-32C8-45EB-B6E1-58C9F598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0F182-AC6F-42D8-9A82-8EE92224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B6ED-B448-4E32-9132-8E1EF98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B93-ABCD-4789-8799-6A8835D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72742-69F2-404B-BD66-CE58BE7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2FE46-4EF8-4195-825D-FF2A9E0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CE11-C6C2-4758-A34B-71250FEF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55123-AAC9-4281-8793-F459E7AC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5F980-FE7F-4E7E-98D0-0517C0E4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970E8-4A90-41E2-83D6-070F032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39076-1898-4B1E-BA80-6DF78FC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95CA0-B5B8-4CEB-929B-AA54FDE3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363D-A141-4D11-8408-36FC642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3C826-0EB5-4F77-BFB2-BDAE926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A23-A0A9-482A-A69E-97BBC41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CB1A-CEA4-4556-84DE-0EE9483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D0EA-1042-4A08-8890-107DD0B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742AD-9C8A-44BA-9B45-D5E0A665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2B141-D9AF-4F11-ADE9-F278508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72A38-7682-4B64-9791-9C3F76C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C56F6-00D5-40C0-BF89-05410E93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5B1AE-2355-46E3-B077-07181E81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0A844-83AF-47AE-8822-E7CAA73B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9F29E-61B4-47BA-B83E-E25D97C5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151C4-40D2-442C-BCDB-EC183A4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A8A-7F16-4294-8AAD-EFF41EE602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A75A-0F72-4B90-9DA1-2EBFC3EA10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39F6-FE85-455D-BEA4-A449BF97D0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C42-9C1C-42BF-95B0-4E7893993C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FF3-FEF0-431B-A883-128B613C13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7F8A-84D4-4780-9EA6-1A4AC848B5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EC7-B436-42FC-9135-D78258279B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0BA-DED8-4293-9CF2-20AFFCF110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E733-550C-451E-A609-6479EA52A8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1_&#1075;&#1086;&#1076;" TargetMode="External"/><Relationship Id="rId2" Type="http://schemas.openxmlformats.org/officeDocument/2006/relationships/hyperlink" Target="http://ru.wikipedia.org/wiki/&#1058;&#1091;&#1085;&#1075;&#1091;&#1089;&#1099;" TargetMode="External"/><Relationship Id="rId3" Type="http://schemas.openxmlformats.org/officeDocument/2006/relationships/hyperlink" Target="http://ru.wikipedia.org/wiki/&#1054;&#1088;&#1086;&#1095;&#1086;&#1085;&#1099;" TargetMode="External"/><Relationship Id="rId4" Type="http://schemas.openxmlformats.org/officeDocument/2006/relationships/hyperlink" Target="http://ru.wikipedia.org/wiki/&#1057;&#1086;&#1083;&#1086;&#1085;&#1099;" TargetMode="External"/><Relationship Id="rId5" Type="http://schemas.openxmlformats.org/officeDocument/2006/relationships/hyperlink" Target="http://ru.wikipedia.org/wiki/&#1069;&#1074;&#1077;&#1085;&#1082;&#1080;&#1081;&#1089;&#1082;&#1080;&#1081;_&#1103;&#1079;&#1099;&#1082;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25360" y="530280"/>
            <a:ext cx="8925120" cy="3975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ЭВЕНКИ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ИСТОРИЯ И ТРАДИЦИИ 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  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9</a:t>
            </a:r>
            <a:r>
              <a:rPr b="1" lang="en-US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”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А</a:t>
            </a:r>
            <a:r>
              <a:rPr b="1" lang="en-US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”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класс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Классный руководитель: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Анциферова Ольга Владимировна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Book Antiqua"/>
              </a:rPr>
              <a:t>п.  Усть - Уда </a:t>
            </a:r>
            <a:br>
              <a:rPr sz="1400"/>
            </a:b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Book Antiqua"/>
              </a:rPr>
              <a:t>2012 г.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2590920" y="1219320"/>
            <a:ext cx="5790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анимизм, шаманство, магия, промысловые и родовые культы, культ предков – сохраняются до сих пор. Эвенки обладали классическими формами шаманства (слово «шаман» - тунгусское). Шаман, посредник между людьми и духами, в образе зверя или своего духа-предка совершал полеты по мирам Вселенной, стремясь вылечить от болезней, найти пропавшее, узнать будущее, обеспечить хороший приплод зверей, помочь рождению ребенка или проводить в мир мертвых душу усопшего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3" descr="http://upload.wikimedia.org/wikipedia/commons/thumb/1/16/Evenk_shaman_costume.jpg/250px-Evenk_shaman_costume.jpg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297180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4"/>
          <p:cNvSpPr/>
          <p:nvPr/>
        </p:nvSpPr>
        <p:spPr>
          <a:xfrm>
            <a:off x="2286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юм сибирского эвенкийского ша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3610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эвенков и по сей день существует неписаный свод традиций и заповедей, регламентирующий социальные, семейные и межродовые отно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нимат»- обычай безвозмездной передачи своей добычи сородич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у» - закон гостеприимства, согласно которому самое удобное место в чуме предназначается только для гостей . Гостем же считался всякий, кто переступал "порог" чу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левират» - обычай наследования младшим братом вдовы старшего б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тори» - брачная сделка, которая совершалась одним из трех путей: выплатой за невесту определенного количества оленей, денег или других ценностей; обменом девушками ; отрабатыванием за невес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4"/>
          <p:cNvSpPr/>
          <p:nvPr/>
        </p:nvSpPr>
        <p:spPr>
          <a:xfrm>
            <a:off x="609480" y="2362320"/>
            <a:ext cx="83059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Эвенки (тунгусы) являются одним из самых древних коренных народов Восточной Сибири.  Самоназвание — эвенки, ставшее официальным этнонимом в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1"/>
              </a:rPr>
              <a:t>1931 году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старое название -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тунгусы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Отдельные группы эвенков были известны как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3"/>
              </a:rPr>
              <a:t>орочены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бирары, манегры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4"/>
              </a:rPr>
              <a:t>солоны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                        Язык —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5"/>
              </a:rPr>
              <a:t>эвенкийский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принадлежит к тунгусо-маньчжурской группе алтайской языковой семьи. Существует две теории их происхождения. Согласно первой, прародина эвенков находилась в районе южного Байкала, где их культура развивалась с палеолитической эпохи, с последующим их расселением на запад и восток. Вторая теория предполагает, что эвенки появились в результате ассимиляции местным ("протоюкагирским") населением племени уваней, горно-степных скотоводов восточных отрогов Большого Хингана.                                         Иркутской области проживают (1,37 тыс. чел.) на севере  Казаченско – Ленского района, Бодайбиском 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6" descr="http://www.baikalfund.ru/mediacache/6d627ac7-6932-43bd-9e51-617c07e8941f.jpg"/>
          <p:cNvPicPr/>
          <p:nvPr/>
        </p:nvPicPr>
        <p:blipFill>
          <a:blip r:embed="rId6"/>
          <a:stretch/>
        </p:blipFill>
        <p:spPr>
          <a:xfrm>
            <a:off x="228600" y="45720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315280" cy="1098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bevenk"/>
          <p:cNvPicPr/>
          <p:nvPr/>
        </p:nvPicPr>
        <p:blipFill>
          <a:blip r:embed="rId2"/>
          <a:stretch/>
        </p:blipFill>
        <p:spPr>
          <a:xfrm>
            <a:off x="2438280" y="838080"/>
            <a:ext cx="3276720" cy="3786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148-stojbiwe"/>
          <p:cNvPicPr/>
          <p:nvPr/>
        </p:nvPicPr>
        <p:blipFill>
          <a:blip r:embed="rId3"/>
          <a:stretch/>
        </p:blipFill>
        <p:spPr>
          <a:xfrm>
            <a:off x="5029200" y="3938760"/>
            <a:ext cx="4114800" cy="2919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эвенки1"/>
          <p:cNvPicPr/>
          <p:nvPr/>
        </p:nvPicPr>
        <p:blipFill>
          <a:blip r:embed="rId4"/>
          <a:stretch/>
        </p:blipFill>
        <p:spPr>
          <a:xfrm>
            <a:off x="228600" y="7621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эвенки-4"/>
          <p:cNvPicPr/>
          <p:nvPr/>
        </p:nvPicPr>
        <p:blipFill>
          <a:blip r:embed="rId5"/>
          <a:stretch/>
        </p:blipFill>
        <p:spPr>
          <a:xfrm>
            <a:off x="0" y="3581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эвенки-2"/>
          <p:cNvPicPr/>
          <p:nvPr/>
        </p:nvPicPr>
        <p:blipFill>
          <a:blip r:embed="rId6"/>
          <a:stretch/>
        </p:blipFill>
        <p:spPr>
          <a:xfrm>
            <a:off x="6019920" y="121932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0" y="-13572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озяйственно-культурные типы Эвенков – "пешие" (охотники), "оленные", орочен (оленеводы) и конные, мурчен (коневоды), известные также в Забайкалье как хамнеган, солон (русское солоны), онгкоры, в среднем Приамурье – как бирарчен (бирары), манягир (манегры), кумарчен (по реке Кумара) и др. Контакты с русскими с 1606, к середине 17 века были обложены ясаком. С 17 века Эвенки вытесняются якутами, русскими и бурятами со среднего Вилюя, Ангары, Бирюсы, верхней Ингоды, нижнего и среднего Баргузина, левобережья Амура, манегры и бирары переселились в Северный Китай. В 19 веке Эвенки появились на нижнем Амуре и Сахалине.  В процессе контактов Эвенки были частично ассимилированы русскими, якутами, монголами и бурятами, даурами, маньчжурами и китай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71800" cy="2467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810240" cy="2590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432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2"/>
          <p:cNvSpPr/>
          <p:nvPr/>
        </p:nvSpPr>
        <p:spPr>
          <a:xfrm>
            <a:off x="762120" y="121932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 мужским относились изготовление изделий из дерева, кости и металла, а также изготовление лодки-берестянки (бересту шили женщины), лодки-долбленки и нарт. Женщины выделывали шкуры, шили, из них одежду, обувь, покрышки для чума, предметы домашнего обихода. Они обрабатывали бересту и шили из нее посуду, а также «тиски» — берестяные полотнища для чумов и для лодок-берестянок. Мужчины умели украшать узорами деревянные, костяные и металлические вещи, женщины — ровдугу, бересту и меха. На женщинах лежали обязанности ухода за детьми и приготовление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3" descr="http://www.pribaikal.ru/typo3temp/pics/5af47ed644.jpg"/>
          <p:cNvPicPr/>
          <p:nvPr/>
        </p:nvPicPr>
        <p:blipFill>
          <a:blip r:embed="rId2"/>
          <a:stretch/>
        </p:blipFill>
        <p:spPr>
          <a:xfrm>
            <a:off x="914400" y="4343400"/>
            <a:ext cx="3733920" cy="21337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http://www.pribaikal.ru/typo3temp/pics/36e548887b.jpg"/>
          <p:cNvPicPr/>
          <p:nvPr/>
        </p:nvPicPr>
        <p:blipFill>
          <a:blip r:embed="rId3"/>
          <a:stretch/>
        </p:blipFill>
        <p:spPr>
          <a:xfrm>
            <a:off x="5029200" y="44197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034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2"/>
          <p:cNvSpPr/>
          <p:nvPr/>
        </p:nvSpPr>
        <p:spPr>
          <a:xfrm>
            <a:off x="4572000" y="1371600"/>
            <a:ext cx="426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чум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– представлял собой конический шалаш из жердей, покрываемый зимой оленьими шкурами, а в летнее время берестой. При перекочевках каркас оставляли на месте, а материал для покрытия чума брали с собой. Зимние стойбища эвенков состояли из 1-2 чумов, летние – от 10 и более благодаря частым праздникам в это время год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ЧУМ ТОФАЛАРОВ"/>
          <p:cNvPicPr/>
          <p:nvPr/>
        </p:nvPicPr>
        <p:blipFill>
          <a:blip r:embed="rId2"/>
          <a:stretch/>
        </p:blipFill>
        <p:spPr>
          <a:xfrm>
            <a:off x="609480" y="144792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2"/>
          <p:cNvSpPr/>
          <p:nvPr/>
        </p:nvSpPr>
        <p:spPr>
          <a:xfrm>
            <a:off x="990720" y="1219320"/>
            <a:ext cx="7086600" cy="59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хота, рыболовство, заготовка ягод, грибов, орехов. Таёжное оленеводство. Охотились эвенки скрадом, гоном на лыжах, с собакой, верхом на оленях, загоном с ямами. Основная охота была на мясного зверя, пушного били попутно. На охоте тунгусы пользовались луками, рогатиной и устанавливали самострелы и петли. За зверем гонялись или били его на водопойных тропах из засады на деревьях и в лодках.. Бродячие охотники добывали рыбу с помощью лука и остроги. Зимой старики кололи рыбу через лунки, а летом рыбаки занимались лучением с ло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3" descr=""/>
          <p:cNvPicPr/>
          <p:nvPr/>
        </p:nvPicPr>
        <p:blipFill>
          <a:blip r:embed="rId2"/>
          <a:stretch/>
        </p:blipFill>
        <p:spPr>
          <a:xfrm>
            <a:off x="2971800" y="4648320"/>
            <a:ext cx="403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304920" y="53352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Основа традиционной пи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итались мясом  диких животных (у конных эвенков - конина) и рыба, которые употребляли практически всегда в сыром виде. Ели ягоды, дикий чеснок и лук. Основным напитком служил чай, иногда с оленьим молоком или со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елали кровяную колбасу, суп из сушеного мяса. Летом пили оленье молоко, добавляли его в чай, ягоды, мучную кашу, сбивали из него масло. Чай пили также с брусникой, шиповником. Курили листовой табак. Мука была известна задолго до прихода русских, но забайкальские скотоводы делали из нее похлебку или жарили с жиром. Хлеб научились выпекать у рус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42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60948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остоит из ровдужных или суконных натазников (хэрки), ноговиц (арамус, гуруми), распашного кафтана из оленьей шкуры, полы которого связывались на груди завязками; под него надевался нагрудник с завязками сзади. Женский нагрудник (нэлли) украшался бисером, имел прямой нижний край, мужской (хэлми) – углом. Мужчины носили пояс с ножом в ножнах, женщины – с игольницей, трутницей и кисетом. Одежда украшалась полосками козьего и собачьего меха, бахромой, вышивкой конским волосом, металлическими бляшками, бисером. Коневоды Забайкалья носили халат с широким запахом налево. Распространились элементы рус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5:23:59Z</dcterms:created>
  <dc:creator>Администратор</dc:creator>
  <dc:description/>
  <dc:language>en-US</dc:language>
  <cp:lastModifiedBy>Кошкаревы</cp:lastModifiedBy>
  <dcterms:modified xsi:type="dcterms:W3CDTF">2013-04-14T08:23:05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