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985-622F-498E-935B-FA68C648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CB4-82E2-4E51-A40E-6116600F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BA6C-5EE7-45DC-BA15-C30D014A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F70-46FA-4E65-83EB-1C9BA77D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4BA0-EBC9-4A80-B113-FD5D5BFF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73D1-F2F2-4F52-B0D0-4116C7BB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031-0560-42B2-8BDF-74918F39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D7C-31DB-4601-BF54-567D0186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14E0-0947-4847-BE03-F8AFC653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9BA-BF7D-4E22-8B83-5A8DD8B3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8589-642F-48FA-94B2-B750F285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91C-CAC1-451B-A1D4-6CDE468C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FE96-8811-4188-95A7-1374C8A362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79280" y="26028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Comic Sans MS"/>
              </a:rPr>
              <a:t>МБОУ «Средняя Общеобразовательная школа № 9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79640" y="6021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mic Sans MS"/>
              </a:rPr>
              <a:t>г. Новоалтайск, Алтайский кра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619280" y="3213000"/>
            <a:ext cx="61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Comic Sans MS"/>
              </a:rPr>
              <a:t>Выполнили учащиеся 11 А класса:Пивоварова Настя,Залогин Дени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42920" y="1484280"/>
            <a:ext cx="70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Comic Sans MS"/>
              </a:rPr>
              <a:t>Проект по теме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Comic Sans MS"/>
              </a:rPr>
              <a:t>«Киноискусство. Титаник»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780000" y="6308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116000" y="5084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Учитель немецкого языка: Григорьева Т.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D:\Мои документы\фев 11 2008 (F)\ТИТАНИК\Изображение 004.jpg"/>
          <p:cNvPicPr/>
          <p:nvPr/>
        </p:nvPicPr>
        <p:blipFill>
          <a:blip r:embed="rId1"/>
          <a:stretch/>
        </p:blipFill>
        <p:spPr>
          <a:xfrm rot="227400">
            <a:off x="-252000" y="-531360"/>
            <a:ext cx="9705960" cy="78454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4"/>
          <p:cNvSpPr/>
          <p:nvPr/>
        </p:nvSpPr>
        <p:spPr>
          <a:xfrm>
            <a:off x="611280" y="2852640"/>
            <a:ext cx="7500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Er baute auch den ganzen Dampfer samt Interieur detailgetreu nach –nur um spater fur den Film alles wieder zu zerstor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D:\Мои документы\фев 11 2008 (F)\ТИТАНИК\Изображение 005.jpg"/>
          <p:cNvPicPr/>
          <p:nvPr/>
        </p:nvPicPr>
        <p:blipFill>
          <a:blip r:embed="rId1"/>
          <a:stretch/>
        </p:blipFill>
        <p:spPr>
          <a:xfrm>
            <a:off x="0" y="-785880"/>
            <a:ext cx="9144000" cy="7643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642960" y="293040"/>
            <a:ext cx="771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Mit 236 Meter Lange war das nachgebaute Modell nur 10 Prozent kurzer als das Original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D:\Мои документы\фев 11 2008 (F)\ТИТАНИК\Изображение 006.jp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785880" y="401076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Der Film “Titanic” ist die teuerste Hollywood Produktion aller Zeit. Aber auch eine der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eindruklichste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Мои документы\фев 11 2008 (F)\ТИТАНИК\Изображение 008.jpg"/>
          <p:cNvPicPr/>
          <p:nvPr/>
        </p:nvPicPr>
        <p:blipFill>
          <a:blip r:embed="rId1"/>
          <a:stretch/>
        </p:blipFill>
        <p:spPr>
          <a:xfrm>
            <a:off x="2627280" y="0"/>
            <a:ext cx="65167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0"/>
          <p:cNvSpPr/>
          <p:nvPr/>
        </p:nvSpPr>
        <p:spPr>
          <a:xfrm>
            <a:off x="0" y="740160"/>
            <a:ext cx="270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Leonardo Di Caprio hat d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e Hauptrolle in diesem Film gespielt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050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Мои документы\фев 11 2008 (F)\ТИТАНИК\Изображение 010.jpg"/>
          <p:cNvPicPr/>
          <p:nvPr/>
        </p:nvPicPr>
        <p:blipFill>
          <a:blip r:embed="rId1"/>
          <a:stretch/>
        </p:blipFill>
        <p:spPr>
          <a:xfrm>
            <a:off x="2987640" y="0"/>
            <a:ext cx="73645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0" y="907920"/>
            <a:ext cx="3635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Kein guter Liebesfilm ohne schone Frauen. Kate Winslet eine prima Schauspielerin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D:\Мои документы\фев 11 2008 (F)\ТИТАНИК\Изображение 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357120" y="507672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Obschon der Film den Titel “Titanic” tragt, ist es in erster Linie der fiktive Liebesgeschichte von Jack (Leonardo Di Caprio) und Rose (Kate Winslet)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ТИТАНИК\Изображение 0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1403280" y="3564000"/>
            <a:ext cx="633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Das grosse Ungluck in der Geschichte der Seefahrt verbindet sich mit dem Namen “ Titanic ”.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Die “ Titanic ”gehorte einer britischen Aktionergesellschaft. Das Schiff war 268 m- lang, 46m- breit und hatte 66 000 B R 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D:\Мои документы\фев 11 2008 (F)\ТИТАНИК\Изображение 012.jpg"/>
          <p:cNvPicPr/>
          <p:nvPr/>
        </p:nvPicPr>
        <p:blipFill>
          <a:blip r:embed="rId1"/>
          <a:stretch/>
        </p:blipFill>
        <p:spPr>
          <a:xfrm>
            <a:off x="-142920" y="0"/>
            <a:ext cx="95727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1258920" y="981000"/>
            <a:ext cx="6929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Um 23.40 Uhr kollidierte die “titanic” mit einem 120 Meter hohen Eisberg. Am Bug beginnend                                                                   wurde das Schiff in einer Zarge von 90 m aufgerissen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Мои документы\фев 11 2008 (F)\ТИТАНИК\Изображение 0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642960" y="781200"/>
            <a:ext cx="7572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2 Stunden und 40 Minuten spater sank das Schiff. In einer chaotische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Notwasserung uberlebten 712 Menschen in Rettungsbooten. Es geschah am 15. April 1912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D:\Мои документы\фев 11 2008 (F)\ТИТАНИК\Изображение 023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1000080" y="221400"/>
            <a:ext cx="778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1495 Menschen fanden in den eiskalten Fluten des Atlantiks den Tod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Мои документы\фев 11 2008 (F)\ТИТАНИК\Изображение 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179280" y="0"/>
            <a:ext cx="878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Aus Angst vor dem todlichen Sog der untergehenden “Titanic” rudern die Matrosen verzweifelt nochmals 200 Meter weiter vom Unglucksort weg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D:\Мои документы\фев 11 2008 (F)\ТИТАНИК\Изображение 0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1285920" y="3701520"/>
            <a:ext cx="6818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Es gelang ihm nur drei Mesnchen aus 1500 zu retten. Die meisten von ihnen ertranken nicht: sie starben vom Kalt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D:\Мои документы\фев 11 2008 (F)\ТИТАНИК\Изображение 0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1214280" y="4579200"/>
            <a:ext cx="7677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James Cameron, der Regisseur und Drehbuchautor von “Titanic”, ist ein Besessener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D:\Мои документы\фев 11 2008 (F)\ТИТАНИК\Изображение 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500040" y="571680"/>
            <a:ext cx="8286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James Cameron versank sich zwolfmal auf den Grund des Meeres,um das Wrack der “Titanic” zu sehen und zu  fotografiere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4:03:04Z</dcterms:created>
  <dc:creator>Syslik</dc:creator>
  <dc:description/>
  <dc:language>en-US</dc:language>
  <cp:lastModifiedBy>Малышка</cp:lastModifiedBy>
  <dcterms:modified xsi:type="dcterms:W3CDTF">2003-12-31T18:50:41Z</dcterms:modified>
  <cp:revision>27</cp:revision>
  <dc:subject/>
  <dc:title>Слайд 1</dc:title>
</cp:coreProperties>
</file>