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5D0C-FDA6-43B9-B6CD-A8873D8B8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9751-098D-4EC3-A4F6-F5C18BC2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6DD8-0A4E-4F59-9045-56373FB36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9D46-F176-48E5-9BA2-98E4C706C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D8F5-F47C-4E93-BAB6-81EB4D50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9469-F8C0-4AC5-879E-029C48A5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D6BC-2072-4AFE-B38A-73B63741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5C9B-A420-4AFF-9346-C36F0AF1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DED2-8E85-4867-8141-EA88DE01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F952-92CE-4FA9-8C76-287B7B04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61AD-A089-4BC6-847F-B1D832E5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DA78-0BBE-4644-A6CC-9B8AC640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DA3B-D952-4127-8FDA-0B2FE7379C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79280" y="26028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Comic Sans MS"/>
              </a:rPr>
              <a:t>МБОУ «Средняя Общеобразовательная школа № 9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979640" y="602136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г. Новоалтайск, Алтайский кра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619280" y="3213000"/>
            <a:ext cx="611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Comic Sans MS"/>
              </a:rPr>
              <a:t>Выполнили учащиеся 11 А класса:Пивоварова Настя,Залогин Дени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042920" y="1484280"/>
            <a:ext cx="7056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Comic Sans MS"/>
              </a:rPr>
              <a:t>Проект по теме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Comic Sans MS"/>
              </a:rPr>
              <a:t>«Киноискусство. Титаник»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780000" y="6308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0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116000" y="508464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Учитель немецкого языка: Григорьева Т.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D:\Мои документы\фев 11 2008 (F)\ТИТАНИК\Изображение 004.jpg"/>
          <p:cNvPicPr/>
          <p:nvPr/>
        </p:nvPicPr>
        <p:blipFill>
          <a:blip r:embed="rId1"/>
          <a:stretch/>
        </p:blipFill>
        <p:spPr>
          <a:xfrm rot="227400">
            <a:off x="-252000" y="-531360"/>
            <a:ext cx="9705960" cy="784548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4"/>
          <p:cNvSpPr/>
          <p:nvPr/>
        </p:nvSpPr>
        <p:spPr>
          <a:xfrm>
            <a:off x="611280" y="2852640"/>
            <a:ext cx="7500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Er baute auch den ganzen Dampfer samt Interieur detailgetreu nach –nur um spater fur den Film alles wieder zu zerstor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D:\Мои документы\фев 11 2008 (F)\ТИТАНИК\Изображение 005.jpg"/>
          <p:cNvPicPr/>
          <p:nvPr/>
        </p:nvPicPr>
        <p:blipFill>
          <a:blip r:embed="rId1"/>
          <a:stretch/>
        </p:blipFill>
        <p:spPr>
          <a:xfrm>
            <a:off x="0" y="-785880"/>
            <a:ext cx="9144000" cy="76438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642960" y="293040"/>
            <a:ext cx="7715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Mit 236 Meter Lange war das nachgebaute Modell nur 10 Prozent kurzer als das Original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D:\Мои документы\фев 11 2008 (F)\ТИТАНИК\Изображение 006.jpg"/>
          <p:cNvPicPr/>
          <p:nvPr/>
        </p:nvPicPr>
        <p:blipFill>
          <a:blip r:embed="rId1"/>
          <a:stretch/>
        </p:blipFill>
        <p:spPr>
          <a:xfrm>
            <a:off x="0" y="0"/>
            <a:ext cx="928692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785880" y="4010760"/>
            <a:ext cx="7929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Der Film “Titanic” ist die teuerste Hollywood Produktion aller Zeit. Aber auch eine der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eindruklichsten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D:\Мои документы\фев 11 2008 (F)\ТИТАНИК\Изображение 008.jpg"/>
          <p:cNvPicPr/>
          <p:nvPr/>
        </p:nvPicPr>
        <p:blipFill>
          <a:blip r:embed="rId1"/>
          <a:stretch/>
        </p:blipFill>
        <p:spPr>
          <a:xfrm>
            <a:off x="2627280" y="0"/>
            <a:ext cx="651672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0"/>
          <p:cNvSpPr/>
          <p:nvPr/>
        </p:nvSpPr>
        <p:spPr>
          <a:xfrm>
            <a:off x="0" y="740160"/>
            <a:ext cx="2700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Leonardo Di Caprio hat di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 Hauptrolle in diesem Film gespielt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050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D:\Мои документы\фев 11 2008 (F)\ТИТАНИК\Изображение 010.jpg"/>
          <p:cNvPicPr/>
          <p:nvPr/>
        </p:nvPicPr>
        <p:blipFill>
          <a:blip r:embed="rId1"/>
          <a:stretch/>
        </p:blipFill>
        <p:spPr>
          <a:xfrm>
            <a:off x="2987640" y="0"/>
            <a:ext cx="736452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4"/>
          <p:cNvSpPr/>
          <p:nvPr/>
        </p:nvSpPr>
        <p:spPr>
          <a:xfrm>
            <a:off x="0" y="907920"/>
            <a:ext cx="3635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Kein guter Liebesfilm ohne schone Frauen. Kate Winslet eine prima Schauspielerin.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D:\Мои документы\фев 11 2008 (F)\ТИТАНИК\Изображение 0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357120" y="5076720"/>
            <a:ext cx="8786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Obschon der Film den Titel “Titanic” tragt, ist es in erster Linie der fiktive Liebesgeschichte von Jack (Leonardo Di Caprio) und Rose (Kate Winslet).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:\ТИТАНИК\Изображение 0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"/>
          <p:cNvSpPr/>
          <p:nvPr/>
        </p:nvSpPr>
        <p:spPr>
          <a:xfrm>
            <a:off x="1403280" y="3564000"/>
            <a:ext cx="6337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Das grosse Ungluck in der Geschichte der Seefahrt verbindet sich mit dem Namen “ Titanic ”.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             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Die “ Titanic ”gehorte einer britischen Aktionergesellschaft. Das Schiff war 268 m- lang, 46m- breit und hatte 66 000 B R 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D:\Мои документы\фев 11 2008 (F)\ТИТАНИК\Изображение 012.jpg"/>
          <p:cNvPicPr/>
          <p:nvPr/>
        </p:nvPicPr>
        <p:blipFill>
          <a:blip r:embed="rId1"/>
          <a:stretch/>
        </p:blipFill>
        <p:spPr>
          <a:xfrm>
            <a:off x="-142920" y="0"/>
            <a:ext cx="957276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1258920" y="981000"/>
            <a:ext cx="69292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Um 23.40 Uhr kollidierte die “titanic” mit einem 120 Meter hohen Eisberg. Am Bug beginnend                                                                   wurde das Schiff in einer Zarge von 90 m aufgerissen.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D:\Мои документы\фев 11 2008 (F)\ТИТАНИК\Изображение 0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452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642960" y="781200"/>
            <a:ext cx="75722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  <a:ea typeface="Times New Roman"/>
              </a:rPr>
              <a:t>2 Stunden und 40 Minuten spater sank das Schiff. In einer chaotischen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  <a:ea typeface="Times New Roman"/>
              </a:rPr>
              <a:t>Notwasserung uberlebten 712 Menschen in Rettungsbooten. Es geschah am 15. April 1912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D:\Мои документы\фев 11 2008 (F)\ТИТАНИК\Изображение 023.jpg"/>
          <p:cNvPicPr/>
          <p:nvPr/>
        </p:nvPicPr>
        <p:blipFill>
          <a:blip r:embed="rId1"/>
          <a:stretch/>
        </p:blipFill>
        <p:spPr>
          <a:xfrm>
            <a:off x="0" y="-285840"/>
            <a:ext cx="9144000" cy="71438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1000080" y="221400"/>
            <a:ext cx="7785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1495 Menschen fanden in den eiskalten Fluten des Atlantiks den Tod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D:\Мои документы\фев 11 2008 (F)\ТИТАНИК\Изображение 0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4"/>
          <p:cNvSpPr/>
          <p:nvPr/>
        </p:nvSpPr>
        <p:spPr>
          <a:xfrm>
            <a:off x="179280" y="0"/>
            <a:ext cx="8785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Aus Angst vor dem todlichen Sog der untergehenden “Titanic” rudern die Matrosen verzweifelt nochmals 200 Meter weiter vom Unglucksort weg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D:\Мои документы\фев 11 2008 (F)\ТИТАНИК\Изображение 0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"/>
          <p:cNvSpPr/>
          <p:nvPr/>
        </p:nvSpPr>
        <p:spPr>
          <a:xfrm>
            <a:off x="1285920" y="3701520"/>
            <a:ext cx="68184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Es gelang ihm nur drei Mesnchen aus 1500 zu retten. Die meisten von ihnen ertranken nicht: sie starben vom Kalte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D:\Мои документы\фев 11 2008 (F)\ТИТАНИК\Изображение 0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1214280" y="4579200"/>
            <a:ext cx="7677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James Cameron, der Regisseur und Drehbuchautor von “Titanic”, ist ein Besessener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D:\Мои документы\фев 11 2008 (F)\ТИТАНИК\Изображение 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4"/>
          <p:cNvSpPr/>
          <p:nvPr/>
        </p:nvSpPr>
        <p:spPr>
          <a:xfrm>
            <a:off x="500040" y="571680"/>
            <a:ext cx="82868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James Cameron versank sich zwolfmal auf den Grund des Meeres,um das Wrack der “Titanic” zu sehen und zu  fotografieren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4:03:04Z</dcterms:created>
  <dc:creator>Syslik</dc:creator>
  <dc:description/>
  <dc:language>en-US</dc:language>
  <cp:lastModifiedBy>Малышка</cp:lastModifiedBy>
  <dcterms:modified xsi:type="dcterms:W3CDTF">2003-12-31T18:50:41Z</dcterms:modified>
  <cp:revision>27</cp:revision>
  <dc:subject/>
  <dc:title>Слайд 1</dc:title>
</cp:coreProperties>
</file>