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7B2-F77E-4DC2-B39E-F92F8DA4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14A9-6FB6-463A-BD21-B1205F1F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877B-2512-48F9-A463-5C9B60F3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115-B6C3-4EF2-9742-DC3D985A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8904-0FB1-4FEF-B094-0CB155E1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A33F-9790-44FF-958C-E1CC1468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74B-8B90-4C2E-B097-DDF56186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1A4-0568-4E1E-B7B3-EC2ADCA1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DB19-74DD-43EC-8C78-67027576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7114-BAD8-4D31-8E5D-8177169E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6F8-2CED-4423-8211-27E2F84D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05C-7FA8-4D37-A367-DD7B1106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7539-53A2-4E5D-9B79-FD9C536F3A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r>
              <a:rPr b="0" lang="ru-RU" sz="5900" spc="-1" strike="noStrike">
                <a:solidFill>
                  <a:srgbClr val="d9d9ff"/>
                </a:solidFill>
                <a:latin typeface="Arial"/>
              </a:rPr>
              <a:t>Городской семинар</a:t>
            </a:r>
            <a:br>
              <a:rPr sz="5900"/>
            </a:br>
            <a:r>
              <a:rPr b="0" lang="ru-RU" sz="5900" spc="-1" strike="noStrike">
                <a:solidFill>
                  <a:srgbClr val="d9d9ff"/>
                </a:solidFill>
                <a:latin typeface="Arial"/>
              </a:rPr>
              <a:t>учителей начальных классов</a:t>
            </a:r>
            <a:endParaRPr b="0" lang="en-US" sz="5900" spc="-1" strike="noStrike">
              <a:solidFill>
                <a:srgbClr val="d9d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ние целостно воспринимать образ – персонаж, переживание как один из элементов произведения, служащий для раскрытия иде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ние видеть авторскую позицию во всех элементах произвед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ение полноценного восприятия произведения, понимания учащимися текста и специфики его литературной формы (жанра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9d9ff"/>
                </a:solidFill>
                <a:latin typeface="Arial"/>
              </a:rPr>
              <a:t>Жанры литературы, изучаемые в начальной школе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989000"/>
          <a:ext cx="8229600" cy="4048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х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ска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д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ое народное творчество (сказки, песни, загадки, пословицы, поговорки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ска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хотво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ое народное творчество (сказки, загадки, пословицы, поговорки, песни, рассказы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хотво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ть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с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едение устного народного творч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ска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хотво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ть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вление точки зрения писателя, формирование позиции чита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над навыком чт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литературоведческих представлений и понятий, которые необходимы школьнику для освоения литературы как искусства сл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ключение учащихся в самостоятельную творческую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ие 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ширение круга чтения младших школь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лноценное восприятие художественного произвед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нципы анализа художественного произ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иды анализа текс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ёмы анализа текс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итательские ум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чевые ум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d9d9ff"/>
                </a:solidFill>
                <a:latin typeface="Arial"/>
              </a:rPr>
              <a:t>Уровни восприятия художественного произведения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Фрагментарный уровень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Констатирующий уровень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Уровень «героя»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Уровень «идеи»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6600" spc="-1" strike="noStrike">
                <a:solidFill>
                  <a:srgbClr val="d9d9ff"/>
                </a:solidFill>
                <a:latin typeface="Arial"/>
              </a:rPr>
              <a:t>Этапы работы с текстом</a:t>
            </a:r>
            <a:endParaRPr b="0" lang="en-US" sz="6600" spc="-1" strike="noStrike">
              <a:solidFill>
                <a:srgbClr val="d9d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9d9ff"/>
                </a:solidFill>
                <a:latin typeface="Arial"/>
              </a:rPr>
              <a:t>Работа с текстом до начала чтения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развитие важнейшего читательского умения, как антиципация, т.е. умения предполагать, предвосхищать содержание текста по заглавию, иллюстрации, по фамилии автора и группе ключевых сл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9d9ff"/>
                </a:solidFill>
                <a:latin typeface="Arial"/>
              </a:rPr>
              <a:t>Работа с текстом во время чтения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достижение понимания текста на уровне содерж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9d9ff"/>
                </a:solidFill>
                <a:latin typeface="Arial"/>
              </a:rPr>
              <a:t>Работа с текстом после чтения</a:t>
            </a:r>
            <a:r>
              <a:rPr b="0" lang="ru-RU" sz="40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достижение понимания на уровне смысла (понимание основной мысли, подтекста – «чтение между строк»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400" spc="-1" strike="noStrike">
                <a:solidFill>
                  <a:srgbClr val="d9d9ff"/>
                </a:solidFill>
                <a:latin typeface="Arial"/>
              </a:rPr>
              <a:t>Обучение младших школьников пониманию текста и обеспечение полноценного восприятия литературных произведений через формирование литературоведческих представлений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d9d9ff"/>
                </a:solidFill>
                <a:latin typeface="Arial"/>
              </a:rPr>
              <a:t>Принципы анализа художественного произведения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инцип целенаправленност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инцип опоры на целостное, эмоциональное восприятие прочитанного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инцип учёта  возрастных и индивидуальных особенностей восприяти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инцип учёта потребностей ребёнк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инцип внимательного отношения к тексту произведения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инцип единства формы и содержани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инцип избирательност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инцип целостности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инцип направленности анализа на литературное развитие ребёнк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d9d9ff"/>
                </a:solidFill>
                <a:latin typeface="Arial"/>
              </a:rPr>
              <a:t>Виды анализа художественного произведения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Стилистический (языковой анализ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Анализ художественных образов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Анализ развития действи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облемный анализ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d9d9ff"/>
                </a:solidFill>
                <a:latin typeface="Arial"/>
              </a:rPr>
              <a:t>Приёмы анализа художественных произведений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ловесное и графическое рисова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нализ иллюстрац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илистический эксперимен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бор синоним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ставление диафильма, киносценар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готовка к выразительному чтению и чтению по роля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ставление рассказа о герое, от лица геро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узыкальное иллюстрирова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i="1" lang="ru-RU" sz="9000" spc="-1" strike="noStrike">
                <a:solidFill>
                  <a:srgbClr val="d9d9ff"/>
                </a:solidFill>
                <a:latin typeface="Arial"/>
              </a:rPr>
              <a:t>Спасибо за внимание!</a:t>
            </a:r>
            <a:endParaRPr b="0" lang="en-US" sz="9000" spc="-1" strike="noStrike">
              <a:solidFill>
                <a:srgbClr val="d9d9ff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400" spc="-1" strike="noStrike">
                <a:solidFill>
                  <a:srgbClr val="d9d9ff"/>
                </a:solidFill>
                <a:latin typeface="Arial"/>
              </a:rPr>
              <a:t>Обучение младших школьников пониманию текста и обеспечение полноценного восприятия литературных произведений через формирование литературоведческих представлений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d9d9ff"/>
                </a:solidFill>
                <a:latin typeface="Arial"/>
              </a:rPr>
              <a:t>«Читать – это ещё ничего не значит: что читать и как понимать читаемое – вот в чём главное дело»</a:t>
            </a:r>
            <a:br>
              <a:rPr sz="4000"/>
            </a:br>
            <a:r>
              <a:rPr b="0" i="1" lang="ru-RU" sz="4000" spc="-1" strike="noStrike">
                <a:solidFill>
                  <a:srgbClr val="d9d9ff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9d9ff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9d9ff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9d9ff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9d9ff"/>
                </a:solidFill>
                <a:latin typeface="Arial"/>
              </a:rPr>
              <a:t>     К. Д. Ушинский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109" name="Picture 4" descr="Мои документы00251"/>
          <p:cNvPicPr/>
          <p:nvPr/>
        </p:nvPicPr>
        <p:blipFill>
          <a:blip r:embed="rId1"/>
          <a:stretch/>
        </p:blipFill>
        <p:spPr>
          <a:xfrm>
            <a:off x="2195640" y="404640"/>
            <a:ext cx="4681440" cy="3122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5900" spc="-1" strike="noStrike">
                <a:solidFill>
                  <a:srgbClr val="d9d9ff"/>
                </a:solidFill>
                <a:latin typeface="Arial"/>
              </a:rPr>
              <a:t>Отличие традиционных уроков чтения от уроков литературного чтения</a:t>
            </a:r>
            <a:endParaRPr b="0" lang="en-US" sz="5900" spc="-1" strike="noStrike">
              <a:solidFill>
                <a:srgbClr val="d9d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адиционные уроки чтения – обучение ребёнка чтению задачи педагогического характера (нравственное воспитание, расширение кругозора, развитие речи), которые решались средствами художественной литературы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ное чтение предполагает рассмотрение художественного произведения, как эстетического объекта (формирование у младших школьников культуры художественного восприятия, развитие читательских позици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Organization Chart 8"/>
          <p:cNvGrpSpPr/>
          <p:nvPr/>
        </p:nvGrpSpPr>
        <p:grpSpPr>
          <a:xfrm>
            <a:off x="468360" y="476280"/>
            <a:ext cx="8228520" cy="5846400"/>
            <a:chOff x="468360" y="476280"/>
            <a:chExt cx="8228520" cy="5846400"/>
          </a:xfrm>
        </p:grpSpPr>
        <p:cxnSp>
          <p:nvCxnSpPr>
            <p:cNvPr id="114" name="_s1028"/>
            <p:cNvCxnSpPr>
              <a:stCxn id="115" idx="0"/>
              <a:endCxn id="116" idx="2"/>
            </p:cNvCxnSpPr>
            <p:nvPr/>
          </p:nvCxnSpPr>
          <p:spPr>
            <a:xfrm flipV="1" rot="16200000">
              <a:off x="5104800" y="2291040"/>
              <a:ext cx="1170000" cy="2216160"/>
            </a:xfrm>
            <a:prstGeom prst="bentConnector3">
              <a:avLst>
                <a:gd name="adj1" fmla="val 128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1029"/>
            <p:cNvCxnSpPr>
              <a:stCxn id="118" idx="0"/>
              <a:endCxn id="116" idx="2"/>
            </p:cNvCxnSpPr>
            <p:nvPr/>
          </p:nvCxnSpPr>
          <p:spPr>
            <a:xfrm flipH="1" flipV="1" rot="5400000">
              <a:off x="2889360" y="2291760"/>
              <a:ext cx="1170000" cy="2215440"/>
            </a:xfrm>
            <a:prstGeom prst="bentConnector3">
              <a:avLst>
                <a:gd name="adj1" fmla="val 128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6" name="_s1030"/>
            <p:cNvSpPr/>
            <p:nvPr/>
          </p:nvSpPr>
          <p:spPr>
            <a:xfrm>
              <a:off x="2683080" y="476280"/>
              <a:ext cx="3797640" cy="2338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ff"/>
                </a:gs>
                <a:gs pos="50000">
                  <a:srgbClr val="fefefe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Термин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«Литературно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чтение»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1031"/>
            <p:cNvSpPr/>
            <p:nvPr/>
          </p:nvSpPr>
          <p:spPr>
            <a:xfrm>
              <a:off x="468360" y="3984120"/>
              <a:ext cx="3797640" cy="2338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Метод обуч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32"/>
            <p:cNvSpPr/>
            <p:nvPr/>
          </p:nvSpPr>
          <p:spPr>
            <a:xfrm>
              <a:off x="4899240" y="3984120"/>
              <a:ext cx="3797640" cy="2338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Первоначальна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ступень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освоен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предмета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«Литература»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Умения: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спринимать текст (читать вслух и молча, выразительно, выборочно, подробно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нимать читаемое (не только факты, но и смысл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сказывать свои суждения о произведении, выражать эмоциональное отношение к прочитанному и воссоздавать в своём воображении художественные образы (представлять мысленно героев, события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спроизводить текст (подробно, выборочно, сжато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ние воспринимать изобразительно – выразительные средства языка в соответствии с их функцией в художественном произвед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ние воссоздавать в воображении картины жизни, созданные писател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ние устанавливать причинно – следственные связи, видеть логику развития действий, динамику эмоц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3:39:46Z</dcterms:created>
  <dc:creator>Щапова</dc:creator>
  <dc:description/>
  <dc:language>en-US</dc:language>
  <cp:lastModifiedBy>я</cp:lastModifiedBy>
  <dcterms:modified xsi:type="dcterms:W3CDTF">2009-04-21T17:35:05Z</dcterms:modified>
  <cp:revision>14</cp:revision>
  <dc:subject/>
  <dc:title>Городской семинар</dc:title>
</cp:coreProperties>
</file>