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D33-827E-410E-8298-3B82C43A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317-9339-4FA8-970E-D44A552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B033-694A-4B25-B1B4-6E021F0E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0EF-E7E7-405E-9CF3-F1F12FD0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1D4-D68A-49EF-B538-E90B6B83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697-3A32-47C4-ADEA-4F89FAB9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2B4-8245-43DC-803A-078382A4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ACB-BC3C-461E-9C20-8F737E0F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7A8-BE0C-40D9-8173-29201FD3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07C-8B6E-4B8C-94D4-4B92E950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9F0-B22F-4A34-83F6-D371EFD6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B5B-295B-4647-AA6D-E2B529C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318-C16C-4339-957A-930D73803A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0" lang="ru-RU" sz="5900" spc="-1" strike="noStrike">
                <a:solidFill>
                  <a:srgbClr val="d9d9ff"/>
                </a:solidFill>
                <a:latin typeface="Arial"/>
              </a:rPr>
              <a:t>Городской семинар</a:t>
            </a:r>
            <a:br>
              <a:rPr sz="5900"/>
            </a:br>
            <a:r>
              <a:rPr b="0" lang="ru-RU" sz="5900" spc="-1" strike="noStrike">
                <a:solidFill>
                  <a:srgbClr val="d9d9ff"/>
                </a:solidFill>
                <a:latin typeface="Arial"/>
              </a:rPr>
              <a:t>учителей начальных классов</a:t>
            </a:r>
            <a:endParaRPr b="0" lang="en-US" sz="59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целостно воспринимать образ – персонаж, переживание как один из элементов произведения, служащий для раскрытия иде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видеть авторскую позицию во всех элементах произ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полноценного восприятия произведения, понимания учащимися текста и специфики его литературной формы (жанра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Жанры литературы, изучаемые в начальной школе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989000"/>
          <a:ext cx="8229600" cy="4048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д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е народное творчество (сказки, песни, загадки, пословицы, поговорки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отво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ное народное творчество (сказки, загадки, пословицы, поговорки, песни, рассказы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отво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с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 устного народного творч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сказ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хотвор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вление точки зрения писателя, формирование позиции чит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над навыком ч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литературоведческих представлений и понятий, которые необходимы школьнику для освоения литературы как искусства сл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ключение учащихся в самостоятельную творческую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круга чтения младших школь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ноценное восприятие художественного произвед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нципы анализа художественного произ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ды анализа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ёмы анализа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тательские ум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чевые ум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Уровни восприятия художественного произведения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Фрагментарный уровен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Констатирующий уровен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Уровень «героя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Уровень «идеи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6600" spc="-1" strike="noStrike">
                <a:solidFill>
                  <a:srgbClr val="d9d9ff"/>
                </a:solidFill>
                <a:latin typeface="Arial"/>
              </a:rPr>
              <a:t>Этапы работы с текстом</a:t>
            </a:r>
            <a:endParaRPr b="0" lang="en-US" sz="66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Работа с текстом до начала чтения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развитие важнейшего читательского умения, как антиципация, т.е. умения предполагать, предвосхищать содержание текста по заглавию, иллюстрации, по фамилии автора и группе ключевых сл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Работа с текстом во время чтения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достижение понимания текста на уровне содерж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Работа с текстом после чтения</a:t>
            </a:r>
            <a:r>
              <a:rPr b="0" lang="ru-RU" sz="40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достижение понимания на уровне смысла (понимание основной мысли, подтекста – «чтение между строк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Обучение младших школьников пониманию текста и обеспечение полноценного восприятия литературных произведений через формирование литературоведческих представлений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Принципы анализа художественного произведения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целенаправленнос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опоры на целостное, эмоциональное восприятие прочитанног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учёта  возрастных и индивидуальных особенностей восприят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учёта потребностей ребён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внимательного отношения к тексту произведения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единства формы и содержания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избирательност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целостности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 направленности анализа на литературное развитие ребён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Виды анализа художественного произведения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Стилистический (языковой анализ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Анализ художественных образ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Анализ развития действ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облемный анализ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Приёмы анализа художественных произведений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овесное и графическое рис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з иллюстр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илистический эксперимен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бор синоним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ставление диафильма, киносценар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готовка к выразительному чтению и чтению по роля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ставление рассказа о герое, от лица геро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узыкальное иллюстрир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i="1" lang="ru-RU" sz="9000" spc="-1" strike="noStrike">
                <a:solidFill>
                  <a:srgbClr val="d9d9ff"/>
                </a:solidFill>
                <a:latin typeface="Arial"/>
              </a:rPr>
              <a:t>Спасибо за внимание!</a:t>
            </a:r>
            <a:endParaRPr b="0" lang="en-US" sz="90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400" spc="-1" strike="noStrike">
                <a:solidFill>
                  <a:srgbClr val="d9d9ff"/>
                </a:solidFill>
                <a:latin typeface="Arial"/>
              </a:rPr>
              <a:t>Обучение младших школьников пониманию текста и обеспечение полноценного восприятия литературных произведений через формирование литературоведческих представлений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«Читать – это ещё ничего не значит: что читать и как понимать читаемое – вот в чём главное дело»</a:t>
            </a:r>
            <a:br>
              <a:rPr sz="4000"/>
            </a:b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	</a:t>
            </a:r>
            <a:r>
              <a:rPr b="0" i="1" lang="ru-RU" sz="4000" spc="-1" strike="noStrike">
                <a:solidFill>
                  <a:srgbClr val="d9d9ff"/>
                </a:solidFill>
                <a:latin typeface="Arial"/>
              </a:rPr>
              <a:t>     К. Д. Ушинский</a:t>
            </a:r>
            <a:endParaRPr b="0" lang="en-US" sz="40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109" name="Picture 4" descr="Мои документы00251"/>
          <p:cNvPicPr/>
          <p:nvPr/>
        </p:nvPicPr>
        <p:blipFill>
          <a:blip r:embed="rId1"/>
          <a:stretch/>
        </p:blipFill>
        <p:spPr>
          <a:xfrm>
            <a:off x="2195640" y="404640"/>
            <a:ext cx="4681440" cy="3122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5900" spc="-1" strike="noStrike">
                <a:solidFill>
                  <a:srgbClr val="d9d9ff"/>
                </a:solidFill>
                <a:latin typeface="Arial"/>
              </a:rPr>
              <a:t>Отличие традиционных уроков чтения от уроков литературного чтения</a:t>
            </a:r>
            <a:endParaRPr b="0" lang="en-US" sz="5900" spc="-1" strike="noStrike">
              <a:solidFill>
                <a:srgbClr val="d9d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диционные уроки чтения – обучение ребёнка чтению задачи педагогического характера (нравственное воспитание, расширение кругозора, развитие речи), которые решались средствами художественной литературы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ное чтение предполагает рассмотрение художественного произведения, как эстетического объекта (формирование у младших школьников культуры художественного восприятия, развитие читательских позици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Organization Chart 8"/>
          <p:cNvGrpSpPr/>
          <p:nvPr/>
        </p:nvGrpSpPr>
        <p:grpSpPr>
          <a:xfrm>
            <a:off x="468360" y="476280"/>
            <a:ext cx="8228520" cy="5846400"/>
            <a:chOff x="468360" y="476280"/>
            <a:chExt cx="8228520" cy="5846400"/>
          </a:xfrm>
        </p:grpSpPr>
        <p:cxnSp>
          <p:nvCxnSpPr>
            <p:cNvPr id="114" name="_s1028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104800" y="2291040"/>
              <a:ext cx="1170000" cy="2216160"/>
            </a:xfrm>
            <a:prstGeom prst="bentConnector3">
              <a:avLst>
                <a:gd name="adj1" fmla="val 128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7" name="_s1029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2889360" y="2291760"/>
              <a:ext cx="1170000" cy="2215440"/>
            </a:xfrm>
            <a:prstGeom prst="bentConnector3">
              <a:avLst>
                <a:gd name="adj1" fmla="val 128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6" name="_s1030"/>
            <p:cNvSpPr/>
            <p:nvPr/>
          </p:nvSpPr>
          <p:spPr>
            <a:xfrm>
              <a:off x="2683080" y="476280"/>
              <a:ext cx="3797640" cy="233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66ff"/>
                </a:gs>
                <a:gs pos="50000">
                  <a:srgbClr val="fefefe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Термин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«Литературное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чтение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468360" y="3984120"/>
              <a:ext cx="3797640" cy="233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Метод обуч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1032"/>
            <p:cNvSpPr/>
            <p:nvPr/>
          </p:nvSpPr>
          <p:spPr>
            <a:xfrm>
              <a:off x="4899240" y="3984120"/>
              <a:ext cx="3797640" cy="2338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99"/>
                </a:gs>
                <a:gs pos="50000">
                  <a:srgbClr val="fefefe"/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Первоначальна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ступень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осво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предмета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«Литература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9d9ff"/>
                </a:solidFill>
                <a:latin typeface="Arial"/>
              </a:rPr>
              <a:t>Умения: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принимать текст (читать вслух и молча, выразительно, выборочно, подробно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нимать читаемое (не только факты, но и смысл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сказывать свои суждения о произведении, выражать эмоциональное отношение к прочитанному и воссоздавать в своём воображении художественные образы (представлять мысленно героев, события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производить текст (подробно, выборочно, сжато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воспринимать изобразительно – выразительные средства языка в соответствии с их функцией в художественном произвед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воссоздавать в воображении картины жизни, созданные писател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ение устанавливать причинно – следственные связи, видеть логику развития действий, динамику эмоц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3:39:46Z</dcterms:created>
  <dc:creator>Щапова</dc:creator>
  <dc:description/>
  <dc:language>en-US</dc:language>
  <cp:lastModifiedBy>я</cp:lastModifiedBy>
  <dcterms:modified xsi:type="dcterms:W3CDTF">2009-04-21T17:35:05Z</dcterms:modified>
  <cp:revision>14</cp:revision>
  <dc:subject/>
  <dc:title>Городской семинар</dc:title>
</cp:coreProperties>
</file>