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2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.jpeg" ContentType="image/jpeg"/>
  <Override PartName="/ppt/media/image22.jpeg" ContentType="image/jpeg"/>
  <Override PartName="/ppt/media/image16.png" ContentType="image/png"/>
  <Override PartName="/ppt/media/image17.jpeg" ContentType="image/jpeg"/>
  <Override PartName="/ppt/media/image15.png" ContentType="image/png"/>
  <Override PartName="/ppt/media/image18.jpeg" ContentType="image/jpeg"/>
  <Override PartName="/ppt/media/image19.png" ContentType="image/png"/>
  <Override PartName="/ppt/media/image2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D8A8-F1AD-4E99-A482-D8902043D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13CF-CA91-4EDF-920F-EA51D260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4AA4-C497-44FA-97ED-306865553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8972-F9FA-44E8-800B-C3E13739C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6F31-A9A5-4E04-B6C2-3F87ED165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D736-29AE-4192-BB08-ED4AF9AF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F9E2-967E-42EA-B7CB-9EFF5954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57AA-FC70-4442-940D-09222292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E249-4EEE-4A88-8DF7-FF8DF0D9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0E1D-141E-4378-8A5A-A5860F63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9F943-029A-4482-BC6D-8B9131CF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F538-748C-44EE-A825-34E8A30D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B176-45A6-4A57-AEAC-502EB977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3627-CA05-43A3-A748-F54C1347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3113-EE6F-4014-B05C-5B1817A5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74BE-287D-4CAA-95B9-92612608F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01812-AF47-4775-9E2D-AC949DF44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55C8-F377-4E0C-8A35-7DF40583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20BE-DDE9-4FC3-943C-4EEB8266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43D1-3A6D-4839-A696-69A3BD72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2801-8968-4B8D-8ACC-ECD6E493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CAE5-FDA3-4D6C-B82B-E9213044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2114-0DA4-4C75-AA25-1FCE3BD2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97DE-F048-4EBF-ABB5-3F93C9C1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89C6-0815-44CB-828A-8150D47821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231C-2159-464E-9803-E32C09D469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9280" y="106200"/>
            <a:ext cx="8964720" cy="6724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4220640"/>
            <a:ext cx="792180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eec94"/>
                </a:solidFill>
                <a:latin typeface="Times New Roman"/>
              </a:rPr>
              <a:t>Sights of LONDON</a:t>
            </a:r>
            <a:endParaRPr b="1" lang="en-US" sz="8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26836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National Galler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7848360" cy="5894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79280" y="90360"/>
            <a:ext cx="8964720" cy="6731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he  Royal Parks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-181080" y="1052640"/>
            <a:ext cx="9145800" cy="5805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81080" cy="2448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084720" y="4581360"/>
            <a:ext cx="2843280" cy="21290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6156360" y="0"/>
            <a:ext cx="2987640" cy="232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619280" y="1293840"/>
            <a:ext cx="5040360" cy="37814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79640" y="277560"/>
            <a:ext cx="48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The Regent's Park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79200"/>
            <a:ext cx="2195640" cy="1646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6156360" y="4618080"/>
            <a:ext cx="2987640" cy="22399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6659640" y="81000"/>
            <a:ext cx="2484360" cy="1863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0" y="447048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441360"/>
            <a:ext cx="9144000" cy="64785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3457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Hyde Park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11280" cy="18082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5334120" y="0"/>
            <a:ext cx="3809880" cy="2855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5981760" y="4487760"/>
            <a:ext cx="3162240" cy="2370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St James’s Park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424720" cy="51832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The Houses of  Parliamen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The sights of London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713800" cy="5229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8964720" cy="65977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Trafalgar squar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696000" y="3171960"/>
            <a:ext cx="2448000" cy="3686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Madam Tussaud’s museum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264360" y="1341360"/>
            <a:ext cx="2879640" cy="2303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042920" y="3357720"/>
            <a:ext cx="7201080" cy="3122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79280" y="1197000"/>
            <a:ext cx="2843280" cy="2274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It’s worth visiting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2879640" cy="2303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084720" y="1197000"/>
            <a:ext cx="3059280" cy="2448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684360" y="4149720"/>
            <a:ext cx="3168360" cy="2533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2987640" y="1197000"/>
            <a:ext cx="3286080" cy="4648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24000" y="14400"/>
            <a:ext cx="8820000" cy="67118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23640" y="188640"/>
            <a:ext cx="4753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he Tower of London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8000" cy="17413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0" y="4890960"/>
            <a:ext cx="2124000" cy="19670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6789600" y="0"/>
            <a:ext cx="2354400" cy="1773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7283520" y="4365720"/>
            <a:ext cx="1860480" cy="2492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London Ey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50920" y="1492200"/>
            <a:ext cx="8640720" cy="5176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777708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St. Paul's Cathedral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6T06:18:33Z</dcterms:created>
  <dc:creator>1</dc:creator>
  <dc:description/>
  <dc:language>en-US</dc:language>
  <cp:lastModifiedBy>Loner-XP</cp:lastModifiedBy>
  <dcterms:modified xsi:type="dcterms:W3CDTF">2013-04-14T14:14:21Z</dcterms:modified>
  <cp:revision>23</cp:revision>
  <dc:subject/>
  <dc:title>LONDON</dc:title>
</cp:coreProperties>
</file>