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40E0-6AA5-4766-BB43-F850AF7B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8AAA-21C3-47D1-ADDA-D1D1296F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7EA0-64DA-4DAF-970D-B7B5531E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D91B-8E29-450C-A65B-F615FEF9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4F7C-B2FA-48D3-852B-2FE68FDB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1864-5AFA-478E-BCCB-D9CC7D16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5FD5-C24F-4001-BF9E-1202E69E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5512-B605-4999-9269-B8C78C67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AA53-0419-484A-9472-6706A1D2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0C74-03A6-4656-86DA-9FF5539E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48FC-FAF3-4A61-BB5C-46BEAFC7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1EE9-9CAA-4CFC-88E0-2916DDEA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EB01-447A-4F74-AEF6-AA2110DC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CAE3-2F3A-4B8C-9AB7-3606ED08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9666-263A-4C05-AE9A-6F55BE34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EB30-B9B4-4B57-9D13-E6748A85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ECDA-6D5E-4DEF-B571-46D90D6F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B486-2F65-471C-9D8C-7D7AF594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F495-D20E-4C3D-AF41-DF86FDF5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89AB-883E-4F6F-ABF7-CA67ABD4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4B95-1753-459F-9A77-BB9F3988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24B6-79FE-4AE4-85D8-B7565B18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24D7-D428-4C22-A968-4CC9BD3E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593D-F5EE-455A-8FFE-61B1735C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D685-7A96-49D8-A403-4FED21C809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B954-934C-4DEA-9CF0-9B39559BC7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106200"/>
            <a:ext cx="8964720" cy="6724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220640"/>
            <a:ext cx="79218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eec94"/>
                </a:solidFill>
                <a:latin typeface="Times New Roman"/>
              </a:rPr>
              <a:t>Sights of LONDON</a:t>
            </a:r>
            <a:endParaRPr b="1" lang="en-US" sz="8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26836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National Galler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848360" cy="589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90360"/>
            <a:ext cx="8964720" cy="6731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e  Royal Park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-181080" y="1052640"/>
            <a:ext cx="9145800" cy="5805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244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084720" y="4581360"/>
            <a:ext cx="2843280" cy="2129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156360" y="0"/>
            <a:ext cx="2987640" cy="232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619280" y="1293840"/>
            <a:ext cx="5040360" cy="37814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640" y="277560"/>
            <a:ext cx="48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The Regent's Park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79200"/>
            <a:ext cx="2195640" cy="1646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156360" y="4618080"/>
            <a:ext cx="2987640" cy="2239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6659640" y="81000"/>
            <a:ext cx="2484360" cy="1863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0" y="447048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441360"/>
            <a:ext cx="9144000" cy="6478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3457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Hyde Park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808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334120" y="0"/>
            <a:ext cx="3809880" cy="2855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5981760" y="4487760"/>
            <a:ext cx="3162240" cy="2370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t James’s Park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424720" cy="5183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he Houses of  Parliamen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he sights of London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713800" cy="522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8964720" cy="65977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rafalgar squar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696000" y="3171960"/>
            <a:ext cx="2448000" cy="3686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adam Tussaud’s museum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64360" y="1341360"/>
            <a:ext cx="2879640" cy="2303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042920" y="3357720"/>
            <a:ext cx="7201080" cy="3122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2843280" cy="2274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It’s worth visiting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2879640" cy="2303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084720" y="1197000"/>
            <a:ext cx="305928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84360" y="4149720"/>
            <a:ext cx="3168360" cy="2533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2987640" y="1197000"/>
            <a:ext cx="3286080" cy="4648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4000" y="14400"/>
            <a:ext cx="8820000" cy="6711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23640" y="188640"/>
            <a:ext cx="4753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e Tower of London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1741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4890960"/>
            <a:ext cx="2124000" cy="1967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789600" y="0"/>
            <a:ext cx="2354400" cy="1773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7283520" y="4365720"/>
            <a:ext cx="1860480" cy="2492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London Ey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1492200"/>
            <a:ext cx="8640720" cy="5176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77708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St. Paul's Cathedra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06:18:33Z</dcterms:created>
  <dc:creator>1</dc:creator>
  <dc:description/>
  <dc:language>en-US</dc:language>
  <cp:lastModifiedBy>Loner-XP</cp:lastModifiedBy>
  <dcterms:modified xsi:type="dcterms:W3CDTF">2013-04-14T14:14:21Z</dcterms:modified>
  <cp:revision>23</cp:revision>
  <dc:subject/>
  <dc:title>LONDON</dc:title>
</cp:coreProperties>
</file>