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954-277B-468E-8985-CE72DE77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B84-C945-4DE0-8575-76092786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CB380-E892-440C-9B1A-9E0EDDA2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CFF9E-F334-482A-8AE7-6FA21CD1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8C4AC-C56C-4343-9560-FC0F6E00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F6D7A-0F5D-4231-9B28-C7E5D40C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521EF-DBE5-4005-B9AA-A7DADAE6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F0050-7F9E-4E92-B0B0-571D723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98517-58D5-40ED-BB44-5C6B9CF2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EAFBE-5A8B-4546-A796-04A90157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3881F-D805-4100-AD89-677305CE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8CE5-2C7C-4846-AB2F-21FF11C7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EE4-4B71-42E7-A525-3B10E9B3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FD5F-7A3C-477E-85B4-1FE5DA81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F0ED5-13E0-402C-ADCE-36567EEF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4CD5C-FA9C-433E-B339-5CC4EEFA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619DF-0CCB-45CA-A748-4EF51487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01AA7-FC53-4C26-9726-1FADEC6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1DBEF-B3EC-4DE0-827E-AC15AA7B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6000F-7AA9-4EE1-B716-9260144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5B3E6-AB18-458E-B072-AADCEB75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4C508-CA2B-475D-BEC5-E4A39FAE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C6154-2AF0-4843-84EB-115CF270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CC6-448F-4A9F-B0AA-969423BA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C79A2-42A4-40D8-9166-503CB782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D30CD-017B-4336-AA1B-F4A9030C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739DA-49D2-4906-A0E4-46DA3ABA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6A4E2-E850-41DB-B351-B467987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F4A9F-33A3-48BD-88FE-1ECF46B0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DB827-BA6C-4EB2-B37B-8C2A98FB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A95CE-CDD9-4814-95AD-5A3BF3FA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23DF6-15B7-4555-A496-6B24FBB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2EFD0-5424-46A3-9316-CE3B51A7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6C346-CBCD-4712-8A0A-B75F8D5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117C-E98B-4E28-977A-EA7A1775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40885-436C-4C4F-9FED-AAA06F2D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34E8-9BD5-41C1-8C60-6C7D7E5F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2B63F-E856-4D63-87F6-05353977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5063-1100-48F2-83A4-5EC23A10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AF72-9378-445A-84D0-2076A15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DAD04-6051-4E18-9781-868406EF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064CA-42EB-4A9C-85CF-EE4DCD0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E12C0-9C57-424D-94F9-C17D48A9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C99A4-5E71-43BD-89D0-684E95B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69ABA-EBB9-47FA-8CB5-B1A6903B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CF5F-19AC-43B3-84C6-6C295B3C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A767D-6AE0-4FBD-A758-8AB3890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019EEC-07CB-48FA-A5F0-AF3F356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D860D-FABF-4641-B43E-00333C3F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5BFF0-FC56-4E3B-BD00-147CBC2B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74935-96E0-4FE8-8053-E40239DA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7E553-BF98-4EDB-A621-B693DD45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CB2C8-729B-4766-B335-1B5D39FB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AD695-3242-44C5-B90A-FCCA839D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E5A9E-6788-46DB-A774-A3245726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25F0F-0B21-4104-97A5-D890CA73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E2D7-BF42-4E3B-A8BB-C55B4C00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D3CCE-E658-4A16-90A1-57CE0A13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61EFD-4E9E-4BD0-B394-1DF62910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9A15A-3822-44E9-93A8-AEDEE92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79AF9-7FC1-43C2-9DFB-4748A86F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D7926-3647-48AC-A5C6-96C92A03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C1D2B-870A-43F4-B823-68CF5228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17001-36AC-4B63-9EEA-C4ABCBCA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4AF5D-A4A7-4797-A999-7B6646BE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F09F9-5398-4567-AB36-51B1DC3F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41333-BD22-44D8-B85B-98575487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79F3-1679-4337-9349-600A06B0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3E5C3-014E-464E-88B0-39BE568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6A4829-E4E7-4F66-B4EC-9262568F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5F0CE-3413-4E97-9424-D968E6C4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FF6DD-13EC-4452-B073-E304F33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B2D55-1415-4539-B6AF-574AD679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E8F37-E850-47E0-B90D-A1C1517C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AEE49D-CA58-4445-B615-9C3DDA8A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9E930-EE91-40A7-A0FA-64A41DAC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30B2E-20F6-4FA7-BEF9-6473CF76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4DD8A-AA84-4AEB-B9D5-C685013F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949C-1D4C-4714-AB71-D3F531DF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36B2E-5158-497B-A413-606DCB9C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0B4D3-7743-4B82-989F-7536CAB8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9D463-C300-490D-AD29-BDF3EAC6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E9D07-AC0B-49ED-B291-3D46212F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60B33-1B8C-44A7-B88A-C724A45A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59ECC-3536-47FB-AD15-8C98904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1D947E-8E72-439B-9462-5282F0B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A771D-B976-4D08-9170-2388E84F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DDA1E-3535-44FB-9299-D6E053D4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8AD0B-665F-478B-94F4-2DC54070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2F3A-A90B-4CAF-9863-BF640CC0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A1376-639A-4558-9454-76A81FAC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50C7B-3C28-4FD6-BFEB-B4E9697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51F9A-2545-4D2C-B761-7EDFE8E0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E3F7B-D0D7-478D-93EC-99184D8F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0B1B8-306E-4A4A-BCF4-D85D5245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22369-48C2-44D4-B8BC-82E0BFBA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75F83-9F11-4463-A8B2-9C6B9BF7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2F348-8CC1-4D82-BE37-A266F72D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277F2-A823-402D-9818-42046764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AD6A3-7110-4912-88DC-D89D53F8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FCC6-5D90-4157-AD65-05B00C6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D74F3-FD79-42A9-AF0B-427D35C5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8EEAC-6F97-466A-95E6-D611773C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22B50-5726-47E0-98E9-164F4128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B72DFE-AC39-4148-84B7-6E75033C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4F32C-8BDF-419D-B1EB-F9D6A850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3C3CC-02E1-4277-9417-0284D915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ADF69-3F71-4013-B181-706647FD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335A0-8E06-4373-97E8-794CC399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9859B4-F1E0-4D0B-8BEB-ABBE37A1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979A9-B0AB-4FC6-8E46-D80D492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019-CD0B-4665-9F64-6250D50B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A303-BCEC-4FFE-A830-83F93ADB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E7BEB-038E-4018-865B-B91CF1A4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298E49-BDA3-4AB1-AA80-B36777DD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5CEF0-3566-480C-94FC-EFB47438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C0189-E071-415A-BAAA-BD1F4B7D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106DD4-3C89-4932-B50C-68F56EA8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F1277-E9E9-4242-AC28-6EEFB34E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F011E3-BCD6-40E4-A517-E9908D88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A4E14-E7A6-4351-B0C9-DB522BF8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A6B1B-6328-4101-80C0-514E231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F6C99-985E-49EF-B119-68BA5A8F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6B2-53FF-4241-A5B5-B0FC429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B0E55-A1CD-4320-B484-E4A52449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E4D61-18BA-4FFC-8636-C550FEC1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38BD6-EC15-4552-965A-A82B6D7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7ECC23-2175-4F66-AA14-76FEE95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FBFFB-D1B6-4C35-A7B4-C07B431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BD9D17-41C2-4584-8B61-6AFD03E77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7013C-D9EF-4833-8AE9-69617982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F6C-3B95-43AC-9F41-E69924A4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2213-0867-44D9-B37F-45E3FFDB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0701-575C-431B-9B99-C4AB8DA8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F50D-5206-475E-93B2-6B7255A7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B5AF-3E7C-40AC-ADC4-33FCAB5A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CE47-FE46-45DF-B674-DAD31D17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057E7-3A1E-4B30-91C4-9D574F0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290A-0BBB-4070-AB64-1F012EF7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DF3-4474-468C-B50F-2A011DF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02FF-C8B4-4BB7-AFD1-B82D481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5155D-AD27-42AA-BF1F-4A38941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4C24-CA58-4E2A-8FF9-E6C5353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5F47-3F11-40E3-95F6-EC87175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27B4-57F8-43B2-97CF-40DBD10E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B7D0-1F15-46CF-B0E7-41260FF6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8661-C0D6-4D62-8DA6-86B922F9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E8227-5FDF-41CA-827E-BE81079E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3995B-E44C-4471-A309-A503E82E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EAD70-9663-46F4-A7AD-6B707D6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E67-2EF0-40A1-A4C5-ED8D2308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6835-A9AF-4D2B-9532-E4499D5B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8D4E9-2248-48D1-A60B-1E33BB54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F808-90E2-4779-A0E4-DFFE1AB2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E440-4DC8-470E-B742-66333EE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795A-DA42-4765-A129-3E077696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3A76C-6568-4F77-997C-4F3AC5D6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3EAC9-0016-4E4D-93E4-9A24ADDD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64AF-CF68-40BB-86E9-ABC97CF4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15F1-C98E-47FC-8B7C-27B8B73F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30604-FB45-4064-8C77-8C6A2E88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A6F-3D7B-48EE-B5E9-CBF8D1B8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73BD-540E-46CD-B881-C63B9C5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CA2F7-F8FF-45B1-96C6-2CD37EB0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23896-3169-4AF4-841B-872A8265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B518-5999-487C-BE34-CE1B6246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DDA44-1958-4CE9-BBB3-6227E5B9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4005-3994-42D9-88A4-8A898B9F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F2CB3-D110-4557-9980-88EFF7FB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1ABC-B51B-4DAB-BE28-8F2311D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41BA8-1106-466B-AE55-475936DE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FFCF-57BB-4A4F-A3A7-FB656B5E6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1FC-FE99-479F-861A-6E36906C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7E1F-53C0-406E-8E36-BF2BFA3A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BE26-27CE-4798-BE29-0015BBFD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59E3-6275-4C4A-ACF4-F91BA30D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DFBE-4D7D-4AB2-B7E6-A39C44D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18383-4706-414E-AA3A-590F4A5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7789-8797-47DA-A09E-9FD99FD7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F99B-560D-4FA1-B6D9-2EA15D8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80AA6-9D77-4E84-8F99-3CE394C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F462-CFBF-4610-8D1D-92B2963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52E8-3E04-4499-B3B2-AFA1AC7F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81E-7277-4289-A4B6-D953402C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44292-A692-4A4F-85BB-BEAA9D45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3620-8CD5-4E4F-9C90-DCBE177A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9342-C5F8-416D-8986-5DE7ADA4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815E3-7E92-4C95-AC0C-5DE33389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BAB5-644A-4504-9F04-0B38776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6F8A9-2290-4E04-AAA9-81A637C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CD83-6898-4943-A8ED-B35D749E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5E059-0650-4680-9FDB-AD37C566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BF22-346D-480A-9393-36D2A33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90FA7-A7E6-43A8-B762-626C3F8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F6F-2A79-4B7C-A9D3-090A4A1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A83FB-721C-4274-A21B-A17A25E3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2C04A-47FE-45C5-A303-38975BA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9AA03-4C83-452F-B962-D6D470A5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B277A-2FCA-454A-AC31-5D98D596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7DAF-1A14-4FCF-933B-D02B7A3D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3F8BB-F4CD-4FE1-A170-C274AD32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5076-F860-4F38-9CB6-B3F788C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C3DC7-ADC6-49DA-B263-CFC90ED5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166C-ECE8-418A-B23A-C75D0B3D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E4414-FF7C-4013-AC29-15311DC7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A6A-69B6-40B3-959F-EA8BB7C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0431-8526-4486-A52F-666D3036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DC155-3163-4475-88E0-F46B936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40D14-1D29-48F1-BF7E-C5E1B036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DFBF1-D359-4227-9981-E6F6B2A5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48132-BCC3-47AC-A767-9D3C6800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47CE-7A80-4528-AE04-622F90B8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C0BFF-9118-4F86-9A0D-4B528AC9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53617-D6C5-4523-944D-41EA579B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DC4DE-F16B-4581-89E9-27F56111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BA50B-DEA3-4EB5-94B2-74653A7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84E-80C3-48A8-87E3-DB3A1E6634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9826-D16C-4826-A557-97EC39C6B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6872-9C28-4B81-91A1-93E8C6860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5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0BD0-1C1E-4244-8BBC-42A43FBFB9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0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97F-ADA2-4AB9-BDE9-21563C03E3F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5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38BC-8207-4141-9676-A46CB8AE11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2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3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9DD2-8E17-4EC7-9883-F3911DE6E9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87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9CBD-3133-4773-BCC6-816CE67B842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25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6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7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5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5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8C66-ACEC-4D03-B1E9-3A682DCC1DE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97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97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7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97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7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7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97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97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7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8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8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8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8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8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8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9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9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99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9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99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00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0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0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0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0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1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1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1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1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1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1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2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2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2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2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2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3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3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3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3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3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4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04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04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4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4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4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4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5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5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5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5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5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6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6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6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6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6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6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6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6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7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7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107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7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07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grpSp>
            <p:nvGrpSpPr>
              <p:cNvPr id="107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07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07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8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8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108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4590-E526-4978-9527-6A74745475CE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2652-06D7-4D43-9D6E-E3493414E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9386-775F-4764-9FCE-310FCD2C8D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6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98B7-2682-4673-8449-8F992A48884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27F8-A41D-4B28-8E7A-12F1DE84AB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9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59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16F3-F24E-4711-B18F-2A04CA511E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24E3-2E3F-4F02-8A17-9360418B0E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9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CEE-EFF7-4A97-812F-A87F08AFAFF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9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9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0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0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0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0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1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1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1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1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2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2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2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2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3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3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3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3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4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4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4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5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5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5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6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6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6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6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7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7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7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7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7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8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8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8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9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9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9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49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0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0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50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50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50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5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6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70F2-4931-4B40-A991-9EABEB304EF7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Arial Narrow"/>
              </a:rPr>
              <a:t>Космо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Times New Roman"/>
              </a:rPr>
              <a:t>Первый полёт на лун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1 дека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1968 г. в космос стартовал американский космический корабль     Apollo 8, полет которого стал эпохальным в истории мировой космонавтики. На этом корабле американцы Фрэнк Борман, Джеймс Ловелл и Уилльям Андерс первыми в истории человечества отправились в межпланетное путешествие, осуществив давнюю мечту многих поколений людей о полете к загадочной Лу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1" name="Picture 6" descr="002"/>
          <p:cNvPicPr/>
          <p:nvPr/>
        </p:nvPicPr>
        <p:blipFill>
          <a:blip r:embed="rId1"/>
          <a:stretch/>
        </p:blipFill>
        <p:spPr>
          <a:xfrm>
            <a:off x="4684680" y="2046240"/>
            <a:ext cx="400212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0800" y="277560"/>
            <a:ext cx="754236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Мир»-первая орбитальная станци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Мир»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ская (позднее рос-сийская) орбитальная станция третьего поколения , представлявшая собой сложный многоцелевой научно-исследовательский комплекс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3 марта 2001 года станция была затоплена в Тихом оке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4" name="Picture 11" descr="219587172"/>
          <p:cNvPicPr/>
          <p:nvPr/>
        </p:nvPicPr>
        <p:blipFill>
          <a:blip r:embed="rId1"/>
          <a:stretch/>
        </p:blipFill>
        <p:spPr>
          <a:xfrm>
            <a:off x="5181480" y="167652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 Black"/>
              </a:rPr>
              <a:t>Конец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5" name="Picture 7" descr="ss"/>
          <p:cNvPicPr/>
          <p:nvPr/>
        </p:nvPicPr>
        <p:blipFill>
          <a:blip r:embed="rId1"/>
          <a:stretch/>
        </p:blipFill>
        <p:spPr>
          <a:xfrm>
            <a:off x="914400" y="1600200"/>
            <a:ext cx="6661080" cy="2822400"/>
          </a:xfrm>
          <a:prstGeom prst="rect">
            <a:avLst/>
          </a:prstGeom>
          <a:ln w="0">
            <a:noFill/>
          </a:ln>
        </p:spPr>
      </p:pic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3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Солнечная систем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– планетная система, включающая в себя центральную звезду- Солнце, и все естественные космические объекты, вращающиеся вокруг н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3300"/>
                </a:solidFill>
                <a:latin typeface="Verdana"/>
              </a:rPr>
              <a:t>Солнц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лнц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- источник тепла и света, без которых было бы невозможно возникновение и существование жизни на нашей планете.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олнце -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динственная звезда    Солнечной системы, вокруг которой обращаются другие объекты этой систем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9" name="Picture 6" descr="64691697"/>
          <p:cNvPicPr/>
          <p:nvPr/>
        </p:nvPicPr>
        <p:blipFill>
          <a:blip r:embed="rId1"/>
          <a:stretch/>
        </p:blipFill>
        <p:spPr>
          <a:xfrm>
            <a:off x="4640400" y="2049480"/>
            <a:ext cx="392724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Первый спут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октября 1957 года человечество вступило в эру освоения космического пространства. В этот день на околоземную орбиту был выведен первый в мире советский искусственный спутник Земли.  Это выдающееся достижение стало убедительным свидетельством неисчерпаемых возможностей человеческого разу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7" descr="sputnik_asm720"/>
          <p:cNvPicPr/>
          <p:nvPr/>
        </p:nvPicPr>
        <p:blipFill>
          <a:blip r:embed="rId1"/>
          <a:stretch/>
        </p:blipFill>
        <p:spPr>
          <a:xfrm>
            <a:off x="4648320" y="1828800"/>
            <a:ext cx="449568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782720" y="122040"/>
            <a:ext cx="502776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000099"/>
                </a:solidFill>
                <a:latin typeface="Arial"/>
              </a:rPr>
              <a:t>Юрий Гагар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876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рий Алексеевич Гагарин (1934 - 1968) – русский летчик, космонавт, первый побывавший в космо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лся 9 марта 1934 года в Клушино Смоленской области. Пошел в школу в 1941 году, но из-за немецкой оккупации лишь в 1943 году продолжил обучение. После переезда в город Гжатск в биографии Гагарина был окончен шестой класс. Следующей ступенькой в его образовании послужило поступлении в ремесленное учил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йдя медицинскую комиссию, в марте 1960 стал одним из кандидатов в космонавты. После того, как выбор пал именно на него, в биографии Юрия Гагарина произошло величайшее событие. 12 апреля 1961 года корабль «Восток» с Гагариным на борту вышел в космос, сделал оборот вокруг Зем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ные полеты в биографии Гагарина не были оставлены. Он стремился восстановить свою квалификацию летчика-истребителя. 27 марта 1968 года великий космонавт и летчик разбился на самолете УТИ МиГ-15, на борту которого также был полковник Владимир Серег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7" descr="Gagarin"/>
          <p:cNvPicPr/>
          <p:nvPr/>
        </p:nvPicPr>
        <p:blipFill>
          <a:blip r:embed="rId1"/>
          <a:stretch/>
        </p:blipFill>
        <p:spPr>
          <a:xfrm>
            <a:off x="5489640" y="1870200"/>
            <a:ext cx="30463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08040" y="338040"/>
            <a:ext cx="795816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0099"/>
                </a:solidFill>
                <a:latin typeface="Arial"/>
              </a:rPr>
              <a:t>Валентина Терешков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лентина Владимировна Терешко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родилась 6 марта 1937 года в деревне Масленниково Ярославской области. В 1960 году окончила Техникум легкой промышленности в Ярославле, затем работала по специальности, участвовала в комсомольской работе. В марте 1962 года зачислена в отряд космонавтов ЦПК ВВС на должность слушателя-космонавта.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6 июня 1963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корабле «Восток-6» совершила первый в мире космический полет женщины-космонавта, проведя на орбите почти трое суток. Свою подготовку к полету Валентина Терешкова скрывала от родных, чтобы не беспокоить. О новости они узнали по радио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6" descr="72284294_1300554942_Valentina_Tereshkova"/>
          <p:cNvPicPr/>
          <p:nvPr/>
        </p:nvPicPr>
        <p:blipFill>
          <a:blip r:embed="rId1"/>
          <a:stretch/>
        </p:blipFill>
        <p:spPr>
          <a:xfrm>
            <a:off x="5181480" y="1600200"/>
            <a:ext cx="34290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«Восток 6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Первый пилотируемый корабль «Восток», запуск которого состоялся 12 апреля 1961 года, стал одновременно и первым в мире космическим аппаратом, позволившим осуществить полёт    человека в космическое пространство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1" name="Picture 6" descr="18364-160132-03a665f947b8c20cbab3696f6c92bfc1"/>
          <p:cNvPicPr/>
          <p:nvPr/>
        </p:nvPicPr>
        <p:blipFill>
          <a:blip r:embed="rId1"/>
          <a:stretch/>
        </p:blipFill>
        <p:spPr>
          <a:xfrm>
            <a:off x="5334120" y="1523880"/>
            <a:ext cx="3200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3300"/>
                </a:solidFill>
                <a:latin typeface="Verdana"/>
              </a:rPr>
              <a:t>Белка и Стрелка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елка и Стрелк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советские собаки-космонавты — первые животные, совершившие орбитальный космический полёт на корабле    «Спутник-5», и вернувшиеся на Землю невредим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рт состоялся 19 августа 1960 года, полёт продолжался более 25 часов, за время которого корабль совершил 17 полных витков вокруг Земл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4" name="Picture 9" descr="Belka_and_Strelka"/>
          <p:cNvPicPr/>
          <p:nvPr/>
        </p:nvPicPr>
        <p:blipFill>
          <a:blip r:embed="rId1"/>
          <a:stretch/>
        </p:blipFill>
        <p:spPr>
          <a:xfrm>
            <a:off x="5181480" y="39625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1" descr="30_6"/>
          <p:cNvPicPr/>
          <p:nvPr/>
        </p:nvPicPr>
        <p:blipFill>
          <a:blip r:embed="rId2"/>
          <a:stretch/>
        </p:blipFill>
        <p:spPr>
          <a:xfrm>
            <a:off x="5227560" y="1295280"/>
            <a:ext cx="33069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20000"/>
                </a:solidFill>
                <a:latin typeface="Times New Roman"/>
              </a:rPr>
              <a:t>Сергей Павлович Королё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40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</a:rPr>
              <a:t>Сергей Павлович Королёв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 родился 30 декабря 1906 - советский учёный, конструктор и организатор производства ракетно-космической техники и ракетного оружия СССР, основоположник практической космонавтики. Крупнейшая фигура XX века в области космического ракетостроения и кораблестро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. П. Королёв является создателем советской ракетно-космической техники, обеспечившей стратегический паритет и сделавшей СССР передовой ракетно-космической державой. Является ключевой фигурой в освоении человеком космоса. Благодаря его идеям впервые в мире был осуществлён запуск искусственного спутника Земли и первого космонавта нашей планеты Юрия Гагар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6" descr="Sergey_Korolyov"/>
          <p:cNvPicPr/>
          <p:nvPr/>
        </p:nvPicPr>
        <p:blipFill>
          <a:blip r:embed="rId1"/>
          <a:stretch/>
        </p:blipFill>
        <p:spPr>
          <a:xfrm>
            <a:off x="5181480" y="1676520"/>
            <a:ext cx="31734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33:13Z</dcterms:created>
  <dc:creator>Алёнка</dc:creator>
  <dc:description/>
  <dc:language>en-US</dc:language>
  <cp:lastModifiedBy>Admin</cp:lastModifiedBy>
  <dcterms:modified xsi:type="dcterms:W3CDTF">2013-04-14T18:17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