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C7A-342D-489D-852D-38F6A6C0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759-97FD-4BB5-9829-70E2D3E6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FFA8E-5B22-4EF4-9E85-CE938FF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28AF-29CE-4B2F-8FB1-9996E21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EDF47-3FEB-448F-BF84-1192E17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822F3-A6EE-4B93-A581-D3B7810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7B8E-67F5-45A8-BB6A-25FA7F0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E9104-3E91-4AEF-85DA-D677769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DE3D2-8CAB-429B-B5EC-8287B556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13561-C1B6-4682-96DE-2B2657C7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CB98F-5595-4BE1-8E2A-A74603F9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3D411-9D32-4F58-937B-EB68CBD3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24B-F3E7-43E2-BB39-45E35236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1160E-0CE3-4F6D-A04D-E7596F2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4048D-1C72-4B28-81A2-BC5FEFB9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E878-5DC5-4031-A303-EF34B94F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3622A-0946-4E0C-9A18-61D4A3D6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BB020-6B5E-4C52-ACDE-6DFAF54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45DCF-9AA1-44BC-9DE9-7F593C2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A885A-3B1B-41CA-A60E-6C183D7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AC6B9-3930-46E8-A8BF-9B5CBF8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3A86-A48C-4C17-8D8E-4B02862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4D88A-796F-4BA1-874B-0E7172DC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0EE-1438-43E3-A9FF-82695769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93E26-6217-4869-91DF-657F1C73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A13F6-7491-4184-9937-CFA80DF2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4488-3875-43C6-95CA-A9D31D02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A34E8-FD7B-4FC0-9C3F-060B151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3FB0-1B7F-462B-8471-1CE19B4D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9C57-F7C7-42E5-86E2-F0DDDE4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E0CCC-D7E6-45E0-8F73-B55D3D0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5F056-DEA0-4AF5-919A-0F675822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41698-648A-4D53-A2B3-4DF7630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C8C01-9681-4B7B-A711-46FD8EA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B1B-EF1F-4981-A667-715790F0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2CFC9-9EAF-4182-9197-DFA27B7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6C10-D009-49CB-BA54-88127383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FDE88-1630-4708-949D-D75AA543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EAC4-6623-412A-A079-191BD616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DAAEF-538D-4939-A6B2-F7FD664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00827-C0ED-4A6A-9F07-2DD74DD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14001-5E27-4DF4-824A-C2112D2D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07AFC-F584-4CA5-AEEE-4274582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F7163-3630-4AB2-B0F2-9CC061D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78C89-C72A-4B3C-AAD5-531D0EC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E2EC-C388-47D6-8396-DDDD0D3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1E7BE-DEEA-402A-A69F-D27F776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A31AA-EF6D-4CBB-8A04-C951B9F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01242-865C-484B-A391-E734EF5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A5211-EF3F-4827-8F55-F85A08CC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64BFD-89E4-4A59-AC14-390C74BF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4A4C-328B-4367-94E4-AA31405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E965A-7686-48F1-B61B-EDE702A3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62D9F-A837-49A8-90AB-EEE80C6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E4A9F-597D-4128-94B5-7DEE13F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B9CB4-3A1C-4B91-A987-8B57CA7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173-9BAA-4B00-B410-8B3844F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9B958-2255-4D35-A12A-874B87B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D912D-541E-4B7B-9091-582718B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DE876-B457-4081-B7B3-90AF517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A0DFF-AADB-48CA-B9E9-87BADF3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4AC17-36A9-479C-AC71-C78BE1A5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31FE0-672C-472A-9F4A-DA541F9C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BB8BD-8F03-4EA5-9632-7FF451CC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CD84B-CDFF-4CC7-B0AC-4022C25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D29FB-7D14-4D7B-876A-949CB74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FF400-F4FC-471A-AE12-16837554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5E12-120B-419A-A1AA-2504AC3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2E0E5-E745-4B6D-852D-F4D55B9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12859-0EC6-4877-A72C-B4167CA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994E8-B395-403E-8822-3A0CF84A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4CD0A-21A3-4C3C-AC79-63FDF1B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D2B7D-F636-4B39-93BC-D9F3595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9DBE3-D95B-440A-A8E7-D7C31D9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DD754-D55D-4CC7-8A07-7ED53CD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97A34-5A38-412A-BEC1-62A23BD9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0A798-721C-42D2-9A47-36977B5A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23D10-33AD-4790-B621-826CBA41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862-21D8-47D4-8120-3B56D8C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1E089-EF00-492D-9D03-2BC16AC8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705FF-2130-4A58-8F61-18B4533F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77FA4-CE82-47F0-A50D-F6C97AFD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F89E6-865C-48BD-8BF0-4F85FBE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C5755-F4F5-49C6-9CC7-15BF2B30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0D328-C069-4EB9-B1E3-C601B51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7323D-DA0B-48E5-93D8-DAE833E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10062-0E45-485B-8A6A-49B36DA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EBEE5-2E53-4FFB-91A9-63FF3E0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AA3DB-BA67-4929-8FBA-77906FDD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6E6D-A919-4D95-8D8E-7D87EB45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D77EC-5013-4BC2-B96B-16471BE9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D875F-D55B-4B70-BC7C-85B4F462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2DAC7-6B38-4EF3-8BAD-7FD7DE6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9F2E5-D6E1-47F0-B015-EC4EE01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EFAE8-F071-41B5-9C10-76CB0B3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5BABF-7B55-49DD-B3C3-DA953D6F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BB6FE-1633-4ED4-831C-22F0C86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E999E-A3B6-461B-BD16-15818C3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1643C-E5B9-42FB-B149-031D2C9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E2FEA-5B13-4A7E-845D-C30EB040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4BE-B304-400B-9B59-CA89F6DE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2C931-39A5-4842-A4A3-9D5FD76E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24978-5ED6-42D2-82B3-EAF6343E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F9F5E-DB07-471D-814C-A65BF57D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579D3-BA76-4C2C-8F6E-D4DE0DF4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E256D-9A1C-42A0-A4C7-41DF0D5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A66B7-5927-4D39-B42B-8FDCF05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9681F-4F4C-423D-9FBB-84B08C9C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890C5-557B-4CA1-961C-6EF9828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973CB-31B8-4958-A7CA-A390ED8C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CA367-B45F-42CE-B1D6-2C67DED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8AB-EB49-45A2-8D4F-CE94F94F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B327-13E0-4CB0-9F01-453215B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C87F8-0758-4946-BC5D-DFF506D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C1DB6-D909-407B-BBCF-80DF638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9BB08-EAA3-4E34-BFEC-84DEF081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FE466-8C3F-4A10-9EDC-4F6EA398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0BCCA-E13A-43FB-AC6A-B22BA7D7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E87EA-8038-4A2C-BB5A-AA80186A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A0FA3-6469-4850-88F9-7B6D090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30706-BE94-42C5-BE08-8117F84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2B2FD-1CDF-44C6-A1B8-4B83722B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1EAF6-E44D-4D43-82AD-FA483D32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4A7E-BC19-4DEE-B543-58A6DFE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12E18-A034-4292-A1AD-6192BAD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F0094-0E4C-456B-9210-105185F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3F250-ECE5-443E-B3B5-7129446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9C8FA-89B7-432D-A822-FF4C89D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46D2F-44FF-47B2-AAE1-2E13B9D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509CE-6625-4E2C-B1B6-272A9ECE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5ABFE-122F-4EB1-92C3-F577843A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25E-63CC-487A-9CA8-C196A17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97E-CF06-4C4F-8AA8-6AFBE0A8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F87-03BB-41D9-BAD6-417B6732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CDA3-6342-4B37-A43B-C2E34890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8BFB-A823-47B4-9D38-17F0F562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7609-DC39-48CA-BEAF-CCC4940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34AC-71D0-4F28-B6A9-D7A6BF0D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DBD6-C2DE-4A38-BE81-0294107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635-34C3-4F74-94C0-9F57465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E7C6-B830-436C-A6CF-9CB900E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603E-AF95-4EA6-BD62-E3843FB1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0154-3E7E-4AA5-8166-74AED09F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5153-A944-4BD3-BF0F-632A421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21CE-DBE7-410A-B53B-4397B0C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F7C6-E5B7-42CC-A1E6-9D502518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C9C1-2145-4E25-84D5-5A7DFED7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8709-2B2F-434C-ADCF-31F360BA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57BC-6D95-4AC6-8000-AD0CEA5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6213-E0A8-409D-9AD9-975AF357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C89-0DD1-4339-BEE0-78CE2DB8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0490-96E4-40EE-82A2-04C435D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780D-E8A9-4F09-B0FC-3B3E499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84E4-4A09-4B2C-8DA0-BD06276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3D68-ED1B-4285-B7F4-083F135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5617-3F62-429B-9BE5-533A80A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DB53-408B-4D12-88F6-CDBA796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8F8B-046C-4CBB-BB5D-E2246314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AC2F-49B7-4075-B194-CA2F6222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2E02-833F-4964-A653-594EF93E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5E5D-F376-4FD0-B999-A9EDEE84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576-0D2F-4670-B806-4DC46C5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19DC-DAFE-443B-94B0-26F2DB7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706B-8A54-46CC-ABF4-518376D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43EB-166C-42E9-B4E5-BA87B2A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03A8-EF16-4CBD-9BD4-800FFDCB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D52E-263D-4BA0-9DEE-F685278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80C2-77F7-47C4-907D-D1B31A5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5DE2-1BDA-4456-93A6-EF6E04A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20EA-EA2C-4938-BAE6-F5F9AAE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D919B-299E-449E-A771-3498085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ACDF-32C7-4489-9E0E-CD5BF0C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930-660D-41F2-904C-90BB893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B18E5-0999-409B-A8C5-FCBD75DE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5FBB-2B81-40DE-B016-DDEF82FA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D678-AB83-4506-92B6-88A975FD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B372-ADD7-4BF0-88CF-A723D69F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5F5F-4FA3-41A9-BEDE-0C3A48E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48A5E-17AD-4459-B0B0-8218154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4A7F-3E86-4828-8779-DC5E76A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F52D-D023-4B16-A3C5-E9328F0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CACAF-7CB5-40AD-97E8-65C208A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F453-A00C-4F95-B5AD-A4BBD38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DA5-A12D-452F-A115-85D160C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8DB7-0998-4116-8CC7-F1D7BDC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1386F-C0A8-4957-A864-55C907AB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930D-6566-4946-A087-A7B0B505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1F4F-C39E-45F0-BDD5-7DA7F6BC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B284B-427D-4EEB-9DDB-0A34A0B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AA45-2852-451C-870D-BFAF524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AE2E-252D-40CF-B62E-472AA538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A4190-8E15-4FED-B99E-D7D38A4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F863-0A43-47B2-84F3-693E0E4F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A6C5-A29C-4D0B-9A11-BD70AD94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C91-BF1F-49C9-876E-898FE94A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79B8-A921-4784-ADD7-64D274A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EAE59-3930-42C8-ADB0-1B90EC3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AD7FB-B43B-4728-B161-C191B78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8B4D4-4D5F-447A-AA15-794AE44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5026A-4628-4C56-ACA7-5143039E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DB63-07E1-4C96-835C-6441510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A4E4-5A3A-4D36-AE9A-BF57D41D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E6AC-3EE6-48D7-A323-3FE2038B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DD907-0694-44FB-9061-B20FAA2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077E5-D3AF-4514-B0EC-B0FB7CFA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DD7-9E80-40DA-9640-3E89126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242DE-466E-497C-B8BC-628D4688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B015-0111-4AFB-8A2A-D5AE8C5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A2D6-460A-4787-A5B5-FD3E895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AF111-ACAF-4524-BD88-197B928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E855-1FAA-4BB8-A699-90B260C8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C55F7-186C-4A0C-B91D-1539BBF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538FB-64AE-4983-A101-FAD3BFA6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61703-C1EF-490E-845D-F4C16B3D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79E65-C01B-432A-AA0D-10E20F1A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2B7B0-A299-4220-9566-9AA47214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5015-0D0A-422F-8E94-C7949A47A4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3F8-7316-42B9-8E94-0229F4F49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B5BF-5E9B-4667-87D2-4300B2382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5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075E-D9F1-409D-9515-CFD916702E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880-2C18-4339-BF7A-953E2B5159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5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8DA-8217-4AB8-9F16-4517898ACA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09FA-7630-4D21-BE0F-B3E4B2FA1F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7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B42-D9A5-4092-9BF4-E23F5854B81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25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6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7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5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5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7B9-DE5C-4FFF-80B9-BDC77B85F0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7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97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0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0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8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08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070-7F1E-4A02-A229-DF000BE1887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04A9-CA9B-47E1-93CD-3CC3A36D1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86B6-E5B0-4A50-B7B4-16AE83C848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3076-80BA-4383-9C60-DCBF8539A8A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EA0-D34B-483F-99BD-184CEC4EBB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59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BE3-5943-4929-A2AF-2E758CB5BF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B2F-63D5-470B-A240-9C6F8DFD50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9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A0C-F410-4610-B572-EA1D9D0CAC4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9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0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0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0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1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1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2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2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3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3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4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5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5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6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7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7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7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8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9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9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0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0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0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6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684-0FEF-4D93-A7F9-A2EEDB4349E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 Narrow"/>
              </a:rPr>
              <a:t>Космо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</a:rPr>
              <a:t>Первый полёт на лун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1 дека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1968 г. в космос стартовал американский космический корабль     Apollo 8, полет которого стал эпохальным в истории мировой космонавтики. На этом корабле американцы Фрэнк Борман, Джеймс Ловелл и Уилльям Андерс первыми в истории человечества отправились в межпланетное путешествие, осуществив давнюю мечту многих поколений людей о полете к загадочной Лу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1" name="Picture 6" descr="002"/>
          <p:cNvPicPr/>
          <p:nvPr/>
        </p:nvPicPr>
        <p:blipFill>
          <a:blip r:embed="rId1"/>
          <a:stretch/>
        </p:blipFill>
        <p:spPr>
          <a:xfrm>
            <a:off x="4684680" y="2046240"/>
            <a:ext cx="400212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0800" y="277560"/>
            <a:ext cx="754236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Мир»-первая орбитальная станц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Мир»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ская (позднее рос-сийская) орбитальная станция третьего поколения , представлявшая собой сложный многоцелевой научно-исследовательский комплекс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3 марта 2001 года станция была затоплена в Тихом оке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4" name="Picture 11" descr="219587172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Конец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Picture 7" descr="ss"/>
          <p:cNvPicPr/>
          <p:nvPr/>
        </p:nvPicPr>
        <p:blipFill>
          <a:blip r:embed="rId1"/>
          <a:stretch/>
        </p:blipFill>
        <p:spPr>
          <a:xfrm>
            <a:off x="914400" y="1600200"/>
            <a:ext cx="6661080" cy="282240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олнечная систем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планетная система, включающая в себя центральную звезду- Солнце, и все естественные космические объекты, вращающиеся вокруг н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3300"/>
                </a:solidFill>
                <a:latin typeface="Verdana"/>
              </a:rPr>
              <a:t>Солнц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лнц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- источник тепла и света, без которых было бы невозможно возникновение и существование жизни на нашей планете.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лнце 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динственная звезда    Солнечной системы, вокруг которой обращаются другие объекты этой систем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9" name="Picture 6" descr="64691697"/>
          <p:cNvPicPr/>
          <p:nvPr/>
        </p:nvPicPr>
        <p:blipFill>
          <a:blip r:embed="rId1"/>
          <a:stretch/>
        </p:blipFill>
        <p:spPr>
          <a:xfrm>
            <a:off x="4640400" y="2049480"/>
            <a:ext cx="39272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Первый спут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октября 1957 года человечество вступило в эру освоения космического пространства. В этот день на околоземную орбиту был выведен первый в мире советский искусственный спутник Земли.  Это выдающееся достижение стало убедительным свидетельством неисчерпаемых возможностей человеческого разу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7" descr="sputnik_asm720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82720" y="122040"/>
            <a:ext cx="502776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99"/>
                </a:solidFill>
                <a:latin typeface="Arial"/>
              </a:rPr>
              <a:t>Юрий Гагар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рий Алексеевич Гагарин (1934 - 1968) – русский летчик, космонавт, первый побывавший в космо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лся 9 марта 1934 года в Клушино Смоленской области. Пошел в школу в 1941 году, но из-за немецкой оккупации лишь в 1943 году продолжил обучение. После переезда в город Гжатск в биографии Гагарина был окончен шестой класс. Следующей ступенькой в его образовании послужило поступлении в ремесленное учил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йдя медицинскую комиссию, в марте 1960 стал одним из кандидатов в космонавты. После того, как выбор пал именно на него, в биографии Юрия Гагарина произошло величайшее событие. 12 апреля 1961 года корабль «Восток» с Гагариным на борту вышел в космос, сделал оборот вокруг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ные полеты в биографии Гагарина не были оставлены. Он стремился восстановить свою квалификацию летчика-истребителя. 27 марта 1968 года великий космонавт и летчик разбился на самолете УТИ МиГ-15, на борту которого также был полковник Владимир Серег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7" descr="Gagarin"/>
          <p:cNvPicPr/>
          <p:nvPr/>
        </p:nvPicPr>
        <p:blipFill>
          <a:blip r:embed="rId1"/>
          <a:stretch/>
        </p:blipFill>
        <p:spPr>
          <a:xfrm>
            <a:off x="5489640" y="1870200"/>
            <a:ext cx="30463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8040" y="338040"/>
            <a:ext cx="795816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99"/>
                </a:solidFill>
                <a:latin typeface="Arial"/>
              </a:rPr>
              <a:t>Валентина Терешко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лентина Владимировна Тереш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родилась 6 марта 1937 года в деревне Масленниково Ярославской области. В 1960 году окончила Техникум легкой промышленности в Ярославле, затем работала по специальности, участвовала в комсомольской работе. В марте 1962 года зачислена в отряд космонавтов ЦПК ВВС на должность слушателя-космонавта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6 июня 1963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корабле «Восток-6» совершила первый в мире космический полет женщины-космонавта, проведя на орбите почти трое суток. Свою подготовку к полету Валентина Терешкова скрывала от родных, чтобы не беспокоить. О новости они узнали по ради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6" descr="72284294_1300554942_Valentina_Tereshkova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«Восток 6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Первый пилотируемый корабль «Восток», запуск которого состоялся 12 апреля 1961 года, стал одновременно и первым в мире космическим аппаратом, позволившим осуществить полёт    человека в космическое пространств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1" name="Picture 6" descr="18364-160132-03a665f947b8c20cbab3696f6c92bfc1"/>
          <p:cNvPicPr/>
          <p:nvPr/>
        </p:nvPicPr>
        <p:blipFill>
          <a:blip r:embed="rId1"/>
          <a:stretch/>
        </p:blipFill>
        <p:spPr>
          <a:xfrm>
            <a:off x="5334120" y="152388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3300"/>
                </a:solidFill>
                <a:latin typeface="Verdana"/>
              </a:rPr>
              <a:t>Белка и Стрелк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елка и Стрел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советские собаки-космонавты — первые животные, совершившие орбитальный космический полёт на корабле    «Спутник-5», и вернувшиеся на Землю невредим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рт состоялся 19 августа 1960 года, полёт продолжался более 25 часов, за время которого корабль совершил 17 полных витков вокруг Зем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4" name="Picture 9" descr="Belka_and_Strelka"/>
          <p:cNvPicPr/>
          <p:nvPr/>
        </p:nvPicPr>
        <p:blipFill>
          <a:blip r:embed="rId1"/>
          <a:stretch/>
        </p:blipFill>
        <p:spPr>
          <a:xfrm>
            <a:off x="5181480" y="3962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1" descr="30_6"/>
          <p:cNvPicPr/>
          <p:nvPr/>
        </p:nvPicPr>
        <p:blipFill>
          <a:blip r:embed="rId2"/>
          <a:stretch/>
        </p:blipFill>
        <p:spPr>
          <a:xfrm>
            <a:off x="5227560" y="1295280"/>
            <a:ext cx="33069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20000"/>
                </a:solidFill>
                <a:latin typeface="Times New Roman"/>
              </a:rPr>
              <a:t>Сергей Павлович Королё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0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</a:rPr>
              <a:t>Сергей Павлович Королёв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 родился 30 декабря 1906 - советский учёный, конструктор и организатор производства ракетно-космической техники и ракетного оружия СССР, основоположник практической космонавтики. Крупнейшая фигура XX века в области космического ракетостроения и кораблестро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. П. Королёв является создателем советской ракетно-космической техники, обеспечившей стратегический паритет и сделавшей СССР передовой ракетно-космической державой. Является ключевой фигурой в освоении человеком космоса. Благодаря его идеям впервые в мире был осуществлён запуск искусственного спутника Земли и первого космонавта нашей планеты Юрия Гагар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6" descr="Sergey_Korolyov"/>
          <p:cNvPicPr/>
          <p:nvPr/>
        </p:nvPicPr>
        <p:blipFill>
          <a:blip r:embed="rId1"/>
          <a:stretch/>
        </p:blipFill>
        <p:spPr>
          <a:xfrm>
            <a:off x="5181480" y="1676520"/>
            <a:ext cx="31734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33:13Z</dcterms:created>
  <dc:creator>Алёнка</dc:creator>
  <dc:description/>
  <dc:language>en-US</dc:language>
  <cp:lastModifiedBy>Admin</cp:lastModifiedBy>
  <dcterms:modified xsi:type="dcterms:W3CDTF">2013-04-14T18:17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