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25D1-FCFB-4AE4-95C6-4BC3FC229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1718-0BEE-4F45-9933-F239194B4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616B-1ADB-4EBC-AA45-558FA4770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955B-ABDF-4414-B5A9-593853CF7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5B1C-996F-4FB6-B818-8042DCFD9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D9F9-4A6B-415F-9CCD-A9E6D8E1A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1625-3E80-415E-9AFD-4BA5B5F16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0DE3-988F-47FB-9536-9D1B980CA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9596-9962-48C5-9923-38727B1F0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A24D-CCFB-421E-8102-B76DF690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F4A1-FDC1-40D8-8173-7369DDAB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952C-FF00-49F2-8079-223AB898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2410E-CDC3-4255-B105-3F2E90F402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E:\ПОРТНЫЕ\Новая папка\DH0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4120" y="1142640"/>
            <a:ext cx="3581280" cy="26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Arial"/>
              </a:rPr>
              <a:t>Мастер-класс "Кубышка-травница"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0_4c66c_1e024233_XL"/>
          <p:cNvPicPr/>
          <p:nvPr/>
        </p:nvPicPr>
        <p:blipFill>
          <a:blip r:embed="rId2"/>
          <a:stretch/>
        </p:blipFill>
        <p:spPr>
          <a:xfrm>
            <a:off x="152280" y="228600"/>
            <a:ext cx="5367600" cy="632448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6" descr="E:\ПОРТНЫЕ\Новая папка\DH0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0" y="533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. Привязываем кульки к рукам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0_4c669_30411ace_XL"/>
          <p:cNvPicPr/>
          <p:nvPr/>
        </p:nvPicPr>
        <p:blipFill>
          <a:blip r:embed="rId2"/>
          <a:stretch/>
        </p:blipFill>
        <p:spPr>
          <a:xfrm>
            <a:off x="4038480" y="609480"/>
            <a:ext cx="4894560" cy="5791320"/>
          </a:xfrm>
          <a:prstGeom prst="rect">
            <a:avLst/>
          </a:prstGeom>
          <a:ln w="19080">
            <a:solidFill>
              <a:srgbClr val="c00000"/>
            </a:solidFill>
            <a:miter/>
          </a:ln>
        </p:spPr>
      </p:pic>
      <p:pic>
        <p:nvPicPr>
          <p:cNvPr id="76" name="Picture 10" descr="Подарок Кубышка Травница Традиционная кукла на здоровье. Handmade. Обереги, талисманы, амулеты ручной работы. Ярмарка Мастеров - ручная работа"/>
          <p:cNvPicPr/>
          <p:nvPr/>
        </p:nvPicPr>
        <p:blipFill>
          <a:blip r:embed="rId3"/>
          <a:stretch/>
        </p:blipFill>
        <p:spPr>
          <a:xfrm>
            <a:off x="533520" y="2666880"/>
            <a:ext cx="2890800" cy="3353040"/>
          </a:xfrm>
          <a:prstGeom prst="rect">
            <a:avLst/>
          </a:prstGeom>
          <a:ln w="1908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E:\ПОРТНЫЕ\Новая папка\DH0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Bookman Old Style"/>
              </a:rPr>
              <a:t>Кубышка-Травница считается одним из древнейших семейных оберег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Чтобы воздух в избе был чистый и свежий, делали полезную куколку Кубышку-Травницу. Наполняли эту куклу душистой травой - зверобоем, тысячелистником,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мятой, душицей или хво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Кубышка-Травница следит  за тем, чтобы болезнь не проникла в дом. От нее исходит теплота, как от заботливой хозяйки. Она и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защитница от злых духов. Ей доверяли самое ценное - здоровье семь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6" descr="E:\ПОРТНЫЕ\Новая папка\DH0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4038480" cy="63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Bookman Old Style"/>
              </a:rPr>
              <a:t>Нам понадобится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сочный круг диаметром 35-38 с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нтепон для юбки, головы, груд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вадрат белой или матовой ткани 25 см. По два квадрата 10х10 см для кульков и груд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сные нитки для рук и других завязо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ава наполните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сынка из половины квадрата примерно 25-30 с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рту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Все должно гармонировать по цвету и фактуре. Особенная деталь фартук, его можно вышить, сделать мережку, бахрому, использовать кружево и т.д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0_4c674_ae2741a7_XL"/>
          <p:cNvPicPr/>
          <p:nvPr/>
        </p:nvPicPr>
        <p:blipFill>
          <a:blip r:embed="rId2"/>
          <a:stretch/>
        </p:blipFill>
        <p:spPr>
          <a:xfrm>
            <a:off x="4495680" y="609480"/>
            <a:ext cx="4340520" cy="5257800"/>
          </a:xfrm>
          <a:prstGeom prst="rect">
            <a:avLst/>
          </a:prstGeom>
          <a:ln w="1260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E:\ПОРТНЫЕ\Новая папка\DH0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04920" y="457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. Набираем юбку сметочными стежками в 1 см (нитки крепкие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0_4c664_ba74d4a_XL"/>
          <p:cNvPicPr/>
          <p:nvPr/>
        </p:nvPicPr>
        <p:blipFill>
          <a:blip r:embed="rId2"/>
          <a:stretch/>
        </p:blipFill>
        <p:spPr>
          <a:xfrm>
            <a:off x="3809880" y="2554200"/>
            <a:ext cx="5181840" cy="3892680"/>
          </a:xfrm>
          <a:prstGeom prst="rect">
            <a:avLst/>
          </a:prstGeom>
          <a:ln w="1260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E:\ПОРТНЫЕ\Новая папка\DH0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. В синтепон (чтобы не терялась форма, трава оседает, усыхает) насыпаем траву и равномерно размещаем в юбке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0_4c65f_c9bd7e56_XL"/>
          <p:cNvPicPr/>
          <p:nvPr/>
        </p:nvPicPr>
        <p:blipFill>
          <a:blip r:embed="rId2"/>
          <a:stretch/>
        </p:blipFill>
        <p:spPr>
          <a:xfrm>
            <a:off x="4800600" y="457200"/>
            <a:ext cx="4095720" cy="5562720"/>
          </a:xfrm>
          <a:prstGeom prst="rect">
            <a:avLst/>
          </a:prstGeom>
          <a:ln w="1908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E:\ПОРТНЫЕ\Новая папка\DH0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403848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3. В середину сложенного по диагонали белого квадрата помещаем тугую скрутку из синтепона для головы, перевязываем, чтобы углы для рук были одинаковой длины и чтобы лицевая сторона была без складок. Подогнув уголки. завязываем руки, в них можно положить чуток синтепон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0_4c662_83323eac_XL"/>
          <p:cNvPicPr/>
          <p:nvPr/>
        </p:nvPicPr>
        <p:blipFill>
          <a:blip r:embed="rId2"/>
          <a:stretch/>
        </p:blipFill>
        <p:spPr>
          <a:xfrm>
            <a:off x="4876920" y="533520"/>
            <a:ext cx="3954240" cy="5029200"/>
          </a:xfrm>
          <a:prstGeom prst="rect">
            <a:avLst/>
          </a:prstGeom>
          <a:ln w="1908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E:\ПОРТНЫЕ\Новая папка\DH0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2860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. Для грудок делаем синтепоновые шарики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0_4c664_ba74d4a_XL"/>
          <p:cNvPicPr/>
          <p:nvPr/>
        </p:nvPicPr>
        <p:blipFill>
          <a:blip r:embed="rId2"/>
          <a:stretch/>
        </p:blipFill>
        <p:spPr>
          <a:xfrm>
            <a:off x="3657600" y="1143000"/>
            <a:ext cx="5261040" cy="3952800"/>
          </a:xfrm>
          <a:prstGeom prst="rect">
            <a:avLst/>
          </a:prstGeom>
          <a:ln w="19080">
            <a:solidFill>
              <a:srgbClr val="c00000"/>
            </a:solidFill>
            <a:miter/>
          </a:ln>
        </p:spPr>
      </p:pic>
      <p:sp>
        <p:nvSpPr>
          <p:cNvPr id="63" name="Rectangle 9"/>
          <p:cNvSpPr/>
          <p:nvPr/>
        </p:nvSpPr>
        <p:spPr>
          <a:xfrm>
            <a:off x="380880" y="2449080"/>
            <a:ext cx="3124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5. Кульки в руках наполняем травой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6" descr="E:\ПОРТНЫЕ\Новая папка\DH0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Грудь привязываем к шее. Соединяем голову и юбку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0_4c671_743be918_XL"/>
          <p:cNvPicPr/>
          <p:nvPr/>
        </p:nvPicPr>
        <p:blipFill>
          <a:blip r:embed="rId2"/>
          <a:stretch/>
        </p:blipFill>
        <p:spPr>
          <a:xfrm>
            <a:off x="4191120" y="914400"/>
            <a:ext cx="4645080" cy="3449520"/>
          </a:xfrm>
          <a:prstGeom prst="rect">
            <a:avLst/>
          </a:prstGeom>
          <a:ln w="19080">
            <a:solidFill>
              <a:srgbClr val="c00000"/>
            </a:solidFill>
            <a:miter/>
          </a:ln>
        </p:spPr>
      </p:pic>
      <p:pic>
        <p:nvPicPr>
          <p:cNvPr id="67" name="Picture 10" descr="0_4c66f_9ab6aeae_XL"/>
          <p:cNvPicPr/>
          <p:nvPr/>
        </p:nvPicPr>
        <p:blipFill>
          <a:blip r:embed="rId3"/>
          <a:stretch/>
        </p:blipFill>
        <p:spPr>
          <a:xfrm>
            <a:off x="609480" y="2743200"/>
            <a:ext cx="3195720" cy="3962520"/>
          </a:xfrm>
          <a:prstGeom prst="rect">
            <a:avLst/>
          </a:prstGeom>
          <a:ln w="1908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6" descr="E:\ПОРТНЫЕ\Новая папка\DH0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40384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Подбираем косынку (завязываем на русский манер назад) и фартук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0_4c667_a8d16967_XL"/>
          <p:cNvPicPr/>
          <p:nvPr/>
        </p:nvPicPr>
        <p:blipFill>
          <a:blip r:embed="rId2"/>
          <a:stretch/>
        </p:blipFill>
        <p:spPr>
          <a:xfrm>
            <a:off x="4648320" y="685800"/>
            <a:ext cx="4041720" cy="4876920"/>
          </a:xfrm>
          <a:prstGeom prst="rect">
            <a:avLst/>
          </a:prstGeom>
          <a:ln w="1908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3T08:55:24Z</dcterms:created>
  <dc:creator>Кирилл</dc:creator>
  <dc:description/>
  <dc:language>en-US</dc:language>
  <cp:lastModifiedBy>1</cp:lastModifiedBy>
  <dcterms:modified xsi:type="dcterms:W3CDTF">2011-05-18T10:33:02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