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332-5B8C-4440-A76A-3095229B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2A9-FF1F-486E-9601-AB065C99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E96-6185-4050-9DD3-1D9B8B32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271-048F-4910-A0D7-5825DF23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ACE-1132-449B-95C3-C340055F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EDC-554A-4269-837A-D279E386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E65-8AE5-4F62-9B69-E9CCB97F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917-9209-4C4A-8B1A-68255CE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F1F-7497-4D5A-AEEC-8C10AD65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5CA-63CE-417A-B495-3EAB650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020-43A6-4C44-8D2A-1C1C091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8C1-1ED5-4890-B2AD-4BC5AD2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7B7B-D06B-4F8B-B1C6-D3AD9A8BF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4120" y="1142640"/>
            <a:ext cx="3581280" cy="26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Мастер-класс "Кубышка-травница"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_4c66c_1e024233_XL"/>
          <p:cNvPicPr/>
          <p:nvPr/>
        </p:nvPicPr>
        <p:blipFill>
          <a:blip r:embed="rId2"/>
          <a:stretch/>
        </p:blipFill>
        <p:spPr>
          <a:xfrm>
            <a:off x="152280" y="228600"/>
            <a:ext cx="5367600" cy="63244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 Привязываем кульки к рука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0_4c669_30411ace_XL"/>
          <p:cNvPicPr/>
          <p:nvPr/>
        </p:nvPicPr>
        <p:blipFill>
          <a:blip r:embed="rId2"/>
          <a:stretch/>
        </p:blipFill>
        <p:spPr>
          <a:xfrm>
            <a:off x="4038480" y="609480"/>
            <a:ext cx="4894560" cy="57913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76" name="Picture 10" descr="Подарок Кубышка Травница Традиционная кукла на здоровье. Handmade. Обереги, талисманы, амулеты ручной работы. Ярмарка Мастеров - ручная работа"/>
          <p:cNvPicPr/>
          <p:nvPr/>
        </p:nvPicPr>
        <p:blipFill>
          <a:blip r:embed="rId3"/>
          <a:stretch/>
        </p:blipFill>
        <p:spPr>
          <a:xfrm>
            <a:off x="533520" y="2666880"/>
            <a:ext cx="2890800" cy="335304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Кубышка-Травница считается одним из древнейших семейных обере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Чтобы воздух в избе был чистый и свежий, делали полезную куколку Кубышку-Травницу. Наполняли эту куклу душистой травой - зверобоем, тысячелистником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мятой, душицей или х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Кубышка-Травница следит  за тем, чтобы болезнь не проникла в дом. От нее исходит теплота, как от заботливой хозяйки. Она 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защитница от злых духов. Ей доверяли самое ценное - здоровье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4038480" cy="63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Нам понадоби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очный круг диаметром 35-38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пон для юбки, головы, гру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 белой или матовой ткани 25 см. По два квадрата 10х10 см для кульков и гру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нитки для рук и других завяз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ва наполн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ынка из половины квадрата примерно 25-30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рт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се должно гармонировать по цвету и фактуре. Особенная деталь фартук, его можно вышить, сделать мережку, бахрому, использовать кружево и т.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_4c674_ae2741a7_XL"/>
          <p:cNvPicPr/>
          <p:nvPr/>
        </p:nvPicPr>
        <p:blipFill>
          <a:blip r:embed="rId2"/>
          <a:stretch/>
        </p:blipFill>
        <p:spPr>
          <a:xfrm>
            <a:off x="4495680" y="609480"/>
            <a:ext cx="4340520" cy="525780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. Набираем юбку сметочными стежками в 1 см (нитки крепки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0_4c664_ba74d4a_XL"/>
          <p:cNvPicPr/>
          <p:nvPr/>
        </p:nvPicPr>
        <p:blipFill>
          <a:blip r:embed="rId2"/>
          <a:stretch/>
        </p:blipFill>
        <p:spPr>
          <a:xfrm>
            <a:off x="3809880" y="2554200"/>
            <a:ext cx="5181840" cy="389268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. В синтепон (чтобы не терялась форма, трава оседает, усыхает) насыпаем траву и равномерно размещаем в юбк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_4c65f_c9bd7e56_XL"/>
          <p:cNvPicPr/>
          <p:nvPr/>
        </p:nvPicPr>
        <p:blipFill>
          <a:blip r:embed="rId2"/>
          <a:stretch/>
        </p:blipFill>
        <p:spPr>
          <a:xfrm>
            <a:off x="4800600" y="457200"/>
            <a:ext cx="4095720" cy="55627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3. В середину сложенного по диагонали белого квадрата помещаем тугую скрутку из синтепона для головы, перевязываем, чтобы углы для рук были одинаковой длины и чтобы лицевая сторона была без складок. Подогнув уголки. завязываем руки, в них можно положить чуток синтепо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0_4c662_83323eac_XL"/>
          <p:cNvPicPr/>
          <p:nvPr/>
        </p:nvPicPr>
        <p:blipFill>
          <a:blip r:embed="rId2"/>
          <a:stretch/>
        </p:blipFill>
        <p:spPr>
          <a:xfrm>
            <a:off x="4876920" y="533520"/>
            <a:ext cx="3954240" cy="50292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 Для грудок делаем синтепоновые шари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_4c664_ba74d4a_XL"/>
          <p:cNvPicPr/>
          <p:nvPr/>
        </p:nvPicPr>
        <p:blipFill>
          <a:blip r:embed="rId2"/>
          <a:stretch/>
        </p:blipFill>
        <p:spPr>
          <a:xfrm>
            <a:off x="3657600" y="1143000"/>
            <a:ext cx="5261040" cy="39528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sp>
        <p:nvSpPr>
          <p:cNvPr id="63" name="Rectangle 9"/>
          <p:cNvSpPr/>
          <p:nvPr/>
        </p:nvSpPr>
        <p:spPr>
          <a:xfrm>
            <a:off x="380880" y="2449080"/>
            <a:ext cx="312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5. Кульки в руках наполняем трав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Грудь привязываем к шее. Соединяем голову и юбк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0_4c671_743be918_XL"/>
          <p:cNvPicPr/>
          <p:nvPr/>
        </p:nvPicPr>
        <p:blipFill>
          <a:blip r:embed="rId2"/>
          <a:stretch/>
        </p:blipFill>
        <p:spPr>
          <a:xfrm>
            <a:off x="4191120" y="914400"/>
            <a:ext cx="4645080" cy="3449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67" name="Picture 10" descr="0_4c66f_9ab6aeae_XL"/>
          <p:cNvPicPr/>
          <p:nvPr/>
        </p:nvPicPr>
        <p:blipFill>
          <a:blip r:embed="rId3"/>
          <a:stretch/>
        </p:blipFill>
        <p:spPr>
          <a:xfrm>
            <a:off x="609480" y="2743200"/>
            <a:ext cx="3195720" cy="3962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дбираем косынку (завязываем на русский манер назад) и фарту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0_4c667_a8d16967_XL"/>
          <p:cNvPicPr/>
          <p:nvPr/>
        </p:nvPicPr>
        <p:blipFill>
          <a:blip r:embed="rId2"/>
          <a:stretch/>
        </p:blipFill>
        <p:spPr>
          <a:xfrm>
            <a:off x="4648320" y="685800"/>
            <a:ext cx="4041720" cy="48769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8:55:24Z</dcterms:created>
  <dc:creator>Кирилл</dc:creator>
  <dc:description/>
  <dc:language>en-US</dc:language>
  <cp:lastModifiedBy>1</cp:lastModifiedBy>
  <dcterms:modified xsi:type="dcterms:W3CDTF">2011-05-18T10:33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