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A04-8111-4383-B443-4B53AFAD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EB8-2D9D-49E9-B0F0-752F990C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AFF-D741-42E2-B547-95D2A41A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2D1-9A4F-4057-9C99-EF83A649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7E39-7BDF-4F85-A342-268D9B9C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5BD0-08D0-4806-9D45-380D8665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63B0-C725-491A-907E-D6E17754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A53A-AED6-497B-8FFF-B782F322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74C6-909B-4E58-A328-6C31F132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0C02-E803-4484-BAFA-97523E9C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E1A6-31A1-40C9-91C6-25902D1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AD6-2F60-4BAC-B26E-6603BF48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D5B6-91D4-4B94-9CDA-CC122FD2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9DEA-80FC-43EA-A2B4-0FF83E7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0A76-40AD-4E1B-A2B8-BDC87857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A6DA-C304-48E5-A1EB-A9857005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275B-0AD0-4634-93C1-0B1707D2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59F-FB09-4AEA-8995-B505BD54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03F-7570-432D-A6D1-14A52AEB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AF3-E81B-4426-AEA6-468D481F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E54-9F14-46B5-97E5-B5B61335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718-4B32-4960-9C3F-2D396AEB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80C-292E-4FC3-A619-C905BCCB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384-A108-4E9D-AA7F-6D5B786D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4833-8BCD-4FEB-94CB-E7016DA1F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D268-B066-48F1-8E2B-5BC63FF81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 ГОСТЯХ У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КУЗИ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523880"/>
            <a:ext cx="3933720" cy="38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04920"/>
            <a:ext cx="8420400" cy="5653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А ЭТО ТЕ, КТО ПОМОГАЛ  КУЗЕ!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1285920"/>
            <a:ext cx="6096240" cy="4286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ВСЕМ СПАСИБ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3882960" cy="426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4292640"/>
            <a:ext cx="8610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БЕРИ КАРТИНКУ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55292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096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ПОГОВОРИМ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1.Два дровосека, два дроворуб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на дворе дрова топорами рубят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Ювелир Валерий Калерин в Карели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равлял кораллы, полировал опал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3.Пётр Петров по прозванью Перов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ймал птицу-перепелиц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.По шоссе шел с посошком и услышал шум шас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СОБЕРИ ПРИМЕТЫ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плая осен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явление комаров поздней осень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сли с дерева лист не чисто спад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ка лист с вишни чисто не опа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удет холодная з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 долгой зиме 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колько бы снегу ни выпало, оттепель его сго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 мягкой зим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ТВОРЧЕСКИЙ ПОРЫВ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ТОРТ ДЛЯ КУЗ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У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АХА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АРЕНЬ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ЙЦ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О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РКОВ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ВЁК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ФОТО НА ПАМЯТЬ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55840" y="1600200"/>
            <a:ext cx="6230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29T15:14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