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65C-7BC4-4AFC-A07A-79F5D0ED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307D-7029-4961-9320-7B1D35C8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A644-23A4-4BF3-96C0-1BF4823D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EAA4-ABAA-4FA3-92D7-76265DBD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3AFD-CEDF-4F29-AF02-194C7788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BC8A-5203-4406-95AC-548F8F6F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6356-13D9-41FF-B9DC-54A8DE15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8B2C-AFDE-4C0F-96B1-BC84009A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2682-B4B5-4ED6-B294-7E0ADEE0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7748-9865-4E6B-9761-43030146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3408-789D-4C26-94E7-8C7369F9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266-F529-4906-B365-CFA0A68A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F98E-23C8-4E9C-A61F-CCD80A9C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1263-8E8B-4852-A2B9-49A10FDF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F2E9-9BBC-4586-9B18-E0FDBED4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A8C3-D313-4CE7-874A-90D60805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4533-402A-4850-8940-014A7F52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C57-7BAA-41EA-ADB5-BA679A22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2445-6444-465E-9BF7-05A45327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B1A-754B-430B-A5D5-DDC92D52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7F2-76A8-4378-AEDC-D75095DF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9AE7-2585-4F62-900F-27ACEE8C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E4EE-83B0-420F-AEF9-463033C7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701-2A94-46FC-BCA6-93F4D6F1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5941-2107-4E22-89C9-33F4D4AC9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061F-BD3F-4FF8-B8BA-CFE6E6191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В ГОСТЯХ У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53337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КУЗИ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523880"/>
            <a:ext cx="3933720" cy="38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204920"/>
            <a:ext cx="8420400" cy="56530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А ЭТО ТЕ, КТО ПОМОГАЛ  КУЗЕ!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3880" y="1285920"/>
            <a:ext cx="6096240" cy="4286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ВСЕМ СПАСИБО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3882960" cy="4267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4292640"/>
            <a:ext cx="86104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ОБЕРИ КАРТИНКУ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552920" cy="53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096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ПОГОВОРИМ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1.Два дровосека, два дроворуба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на дворе дрова топорами рубят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.Ювелир Валерий Калерин в Карели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правлял кораллы, полировал опал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3.Пётр Петров по прозванью Перов,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оймал птицу-перепелицу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.По шоссе шел с посошком и услышал шум шасс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СОБЕРИ ПРИМЕТЫ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Теплая осен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явление комаров поздней осенью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Если с дерева лист не чисто спаде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ка лист с вишни чисто не опал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удет холодная зи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 долгой зиме 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колько бы снегу ни выпало, оттепель его сгони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 мягкой зиме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ТВОРЧЕСКИЙ ПОРЫВ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315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ТОРТ ДЛЯ КУЗ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У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АХА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У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АРЕНЬ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ЯЙЦ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ЛОК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А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РКОВ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ВЁК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419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</a:rPr>
              <a:t>ФОТО НА ПАМЯТЬ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55840" y="1600200"/>
            <a:ext cx="62308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1-29T15:14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