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8696-DB7C-4FCC-9BAD-8910E6B3C3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83B-A513-463E-B2A7-2BEBC81A83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608C-83C6-4C46-A233-C3E2B29E28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ABDD-EA3E-408B-9AC7-21835D3331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6887-2B00-40AA-BC60-851145BDCA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DF09-54DD-499D-A505-78C91C9D14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C065-240B-459F-82D5-FC775132DA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14D-D203-48C5-AC00-294A3530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9DF-2ED2-4288-9F03-84D0D8FE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1B8-3F4B-4F84-99B8-34633BA1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214-A49F-4DFA-959F-E1B259AB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6E1D-E310-4F23-BEAF-0EFCEBC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102-BBA1-453D-B99A-C52364D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278-97A0-4173-82A8-6E626524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DA3-288D-4FB5-96F8-F17E1D3D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9009-687C-4DEE-8D9B-5001D4B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8CA0-B327-4979-A8C6-6797D7A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10C-6BD5-48BA-873B-40BDF549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E82-7164-4067-83C8-2DCFC6A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e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скова А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AD59-A95B-4E6C-AE9C-7CE26F86EE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\Мои документы\Мои рисунки\МАР УЗОР.gif"/>
          <p:cNvPicPr/>
          <p:nvPr/>
        </p:nvPicPr>
        <p:blipFill>
          <a:blip r:embed="rId1"/>
          <a:srcRect l="0" t="0" r="81051" b="0"/>
          <a:stretch/>
        </p:blipFill>
        <p:spPr>
          <a:xfrm>
            <a:off x="0" y="278604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User\Мои документы\Мои рисунки\МАР УЗОР.gif"/>
          <p:cNvPicPr/>
          <p:nvPr/>
        </p:nvPicPr>
        <p:blipFill>
          <a:blip r:embed="rId2"/>
          <a:srcRect l="0" t="0" r="81051" b="0"/>
          <a:stretch/>
        </p:blipFill>
        <p:spPr>
          <a:xfrm>
            <a:off x="0" y="1857240"/>
            <a:ext cx="927000" cy="96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66"/>
                </a:solidFill>
                <a:latin typeface="Times New Roman"/>
              </a:rPr>
              <a:t>Центральная  и осевая  симметрии </a:t>
            </a:r>
            <a:br>
              <a:rPr sz="7200"/>
            </a:br>
            <a:r>
              <a:rPr b="1" i="1" lang="ru-RU" sz="7200" spc="-1" strike="noStrike">
                <a:solidFill>
                  <a:srgbClr val="ffff66"/>
                </a:solidFill>
                <a:latin typeface="Times New Roman"/>
              </a:rPr>
              <a:t>в марийском</a:t>
            </a:r>
            <a:br>
              <a:rPr sz="7200"/>
            </a:br>
            <a:r>
              <a:rPr b="1" i="1" lang="ru-RU" sz="7200" spc="-1" strike="noStrike">
                <a:solidFill>
                  <a:srgbClr val="ffff66"/>
                </a:solidFill>
                <a:latin typeface="Times New Roman"/>
              </a:rPr>
              <a:t>костюме</a:t>
            </a:r>
            <a:r>
              <a:rPr b="1" i="1" lang="ru-RU" sz="9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4367520" y="564372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C:\Documents and Settings\User\Мои документы\Мои рисунки\МАР УЗОР.gif"/>
          <p:cNvPicPr/>
          <p:nvPr/>
        </p:nvPicPr>
        <p:blipFill>
          <a:blip r:embed="rId3"/>
          <a:srcRect l="0" t="0" r="81051" b="0"/>
          <a:stretch/>
        </p:blipFill>
        <p:spPr>
          <a:xfrm>
            <a:off x="0" y="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User\Мои документы\Мои рисунки\МАР УЗОР.gif"/>
          <p:cNvPicPr/>
          <p:nvPr/>
        </p:nvPicPr>
        <p:blipFill>
          <a:blip r:embed="rId4"/>
          <a:srcRect l="0" t="0" r="81051" b="0"/>
          <a:stretch/>
        </p:blipFill>
        <p:spPr>
          <a:xfrm>
            <a:off x="0" y="92880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User\Мои документы\Мои рисунки\МАР УЗОР.gif"/>
          <p:cNvPicPr/>
          <p:nvPr/>
        </p:nvPicPr>
        <p:blipFill>
          <a:blip r:embed="rId5"/>
          <a:srcRect l="0" t="0" r="81051" b="0"/>
          <a:stretch/>
        </p:blipFill>
        <p:spPr>
          <a:xfrm>
            <a:off x="0" y="3714840"/>
            <a:ext cx="9270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User\Мои документы\Мои рисунки\МАР УЗОР.gif"/>
          <p:cNvPicPr/>
          <p:nvPr/>
        </p:nvPicPr>
        <p:blipFill>
          <a:blip r:embed="rId6"/>
          <a:srcRect l="0" t="0" r="81051" b="0"/>
          <a:stretch/>
        </p:blipFill>
        <p:spPr>
          <a:xfrm>
            <a:off x="0" y="4643280"/>
            <a:ext cx="927000" cy="962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User\Мои документы\Мои рисунки\МАР УЗОР.gif"/>
          <p:cNvPicPr/>
          <p:nvPr/>
        </p:nvPicPr>
        <p:blipFill>
          <a:blip r:embed="rId7"/>
          <a:srcRect l="0" t="0" r="81051" b="0"/>
          <a:stretch/>
        </p:blipFill>
        <p:spPr>
          <a:xfrm>
            <a:off x="0" y="5572080"/>
            <a:ext cx="9270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Женщин в головном уборе соро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8" descr="Луговая марийка,сорокан"/>
          <p:cNvPicPr/>
          <p:nvPr/>
        </p:nvPicPr>
        <p:blipFill>
          <a:blip r:embed="rId1"/>
          <a:stretch/>
        </p:blipFill>
        <p:spPr>
          <a:xfrm>
            <a:off x="357120" y="1643040"/>
            <a:ext cx="4191120" cy="5286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4572000" y="157176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жская одежда марийцев подверглась влиянию русского костюма. Нательная рубаха (тувыр)  имела  туникообразный  покрой. Шили с правым  асимметричным грудным разрезом. Пояс (ушто) был незаменимой деталью, помимо красоты к нему подвешивали  ножны, мешочки для табака, различные привески – для  оберегов. Кафтан – шовыр –летний, а зимний – мыж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нский народный костюм марийцев отличался от мужского большим разнообраз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286000" y="17208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14200" y="128592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Переведи на марийский язы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сн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лен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и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ичнев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тый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В марийском языке имеются сравнительная и превосход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и прилагательны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Некоторые качественные прилагательные имеют полную и краткую фор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6" descr="Южные удмурты.с.Карлыган.jpg"/>
          <p:cNvPicPr/>
          <p:nvPr/>
        </p:nvPicPr>
        <p:blipFill>
          <a:blip r:embed="rId1"/>
          <a:stretch/>
        </p:blipFill>
        <p:spPr>
          <a:xfrm>
            <a:off x="4071960" y="0"/>
            <a:ext cx="4991040" cy="46432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493920" y="57168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с – влак (цве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4257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ый марийский костю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43293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Кандашымше «б» классыште тунемше –влак школыш школьный формым чия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Школ деч вара мом чия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Саша  ош  пальтом чиен огыл, тудо  йошкар  курткым чиен.(не с глагол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. Маша юбкым чиен гын,  шовычым…,  упшым …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Сашан кусеныште мо уло? (полдыш, окс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.Сашан  мыняр полдышыжо  ул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0_8a7d_75c5827b_L"/>
          <p:cNvPicPr/>
          <p:nvPr/>
        </p:nvPicPr>
        <p:blipFill>
          <a:blip r:embed="rId1"/>
          <a:stretch/>
        </p:blipFill>
        <p:spPr>
          <a:xfrm>
            <a:off x="5072040" y="507960"/>
            <a:ext cx="42292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рийская выши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1m"/>
          <p:cNvPicPr/>
          <p:nvPr/>
        </p:nvPicPr>
        <p:blipFill>
          <a:blip r:embed="rId1"/>
          <a:stretch/>
        </p:blipFill>
        <p:spPr>
          <a:xfrm>
            <a:off x="142920" y="2071800"/>
            <a:ext cx="5286240" cy="3963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4857840" y="1214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йский народный костюм богато украшался вышив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429160" y="2000160"/>
            <a:ext cx="3714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мотивы в орнаменте – изображения комбинаций различных  геометрических, растительных, з ооморфных, антропоморфных  фигур.В древности вышивка выполняла магическую функцию, указывала на принадлежность ее владельца к определенной этнической группе, роду. Вышивка располагалась как на груди, концах рукавов, на спине, орнаментировали  также  продольные швы рубах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348"/>
          <p:cNvPicPr/>
          <p:nvPr/>
        </p:nvPicPr>
        <p:blipFill>
          <a:blip r:embed="rId1"/>
          <a:stretch/>
        </p:blipFill>
        <p:spPr>
          <a:xfrm>
            <a:off x="0" y="115920"/>
            <a:ext cx="2532240" cy="48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458"/>
          <p:cNvPicPr/>
          <p:nvPr/>
        </p:nvPicPr>
        <p:blipFill>
          <a:blip r:embed="rId2"/>
          <a:stretch/>
        </p:blipFill>
        <p:spPr>
          <a:xfrm>
            <a:off x="6012000" y="115920"/>
            <a:ext cx="3014640" cy="468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ааа"/>
          <p:cNvPicPr/>
          <p:nvPr/>
        </p:nvPicPr>
        <p:blipFill>
          <a:blip r:embed="rId3"/>
          <a:stretch/>
        </p:blipFill>
        <p:spPr>
          <a:xfrm>
            <a:off x="3059280" y="2852640"/>
            <a:ext cx="2603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79600" y="78588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й 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3214800" y="7858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ощущается повышенный интерес к старинной марийской вышивке. Одежда с  орнаментом пользуется все большим спро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арийской вышивке нет рисунков с округлыми очертаниями, все элементы узора вышиваются прямолинейно и геометризиравано. Ромбы, квадраты, треугольники чаще встречаются в марийской вышивке. Плотная вышивка дополняется мелкими ажурными узор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mari-tyr"/>
          <p:cNvPicPr/>
          <p:nvPr/>
        </p:nvPicPr>
        <p:blipFill>
          <a:blip r:embed="rId1"/>
          <a:stretch/>
        </p:blipFill>
        <p:spPr>
          <a:xfrm>
            <a:off x="0" y="0"/>
            <a:ext cx="23274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vyshivka3-t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2424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vyshivka4-t"/>
          <p:cNvPicPr/>
          <p:nvPr/>
        </p:nvPicPr>
        <p:blipFill>
          <a:blip r:embed="rId2"/>
          <a:stretch/>
        </p:blipFill>
        <p:spPr>
          <a:xfrm>
            <a:off x="0" y="4289400"/>
            <a:ext cx="3851280" cy="256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mari_sandalik_0"/>
          <p:cNvPicPr/>
          <p:nvPr/>
        </p:nvPicPr>
        <p:blipFill>
          <a:blip r:embed="rId3"/>
          <a:stretch/>
        </p:blipFill>
        <p:spPr>
          <a:xfrm>
            <a:off x="6367320" y="3068640"/>
            <a:ext cx="2776680" cy="3789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de7609ae555ft"/>
          <p:cNvPicPr/>
          <p:nvPr/>
        </p:nvPicPr>
        <p:blipFill>
          <a:blip r:embed="rId4"/>
          <a:stretch/>
        </p:blipFill>
        <p:spPr>
          <a:xfrm>
            <a:off x="3059280" y="2060640"/>
            <a:ext cx="20890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760" y="499680"/>
            <a:ext cx="53006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рий тур нерген мар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йылме урокышто вел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гыл, историй 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льтур, рисован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й, а эш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ометр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роклаште  тунемы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5" descr="foto22"/>
          <p:cNvPicPr/>
          <p:nvPr/>
        </p:nvPicPr>
        <p:blipFill>
          <a:blip r:embed="rId1"/>
          <a:stretch/>
        </p:blipFill>
        <p:spPr>
          <a:xfrm>
            <a:off x="4695840" y="214200"/>
            <a:ext cx="4448160" cy="2857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foto23"/>
          <p:cNvPicPr/>
          <p:nvPr/>
        </p:nvPicPr>
        <p:blipFill>
          <a:blip r:embed="rId2"/>
          <a:stretch/>
        </p:blipFill>
        <p:spPr>
          <a:xfrm>
            <a:off x="142920" y="3571920"/>
            <a:ext cx="46940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395280" y="1989000"/>
            <a:ext cx="8209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1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629"/>
                </a:solidFill>
                <a:latin typeface="Times New Roman"/>
              </a:rPr>
              <a:t>СПА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d62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2000" y="1412640"/>
            <a:ext cx="79916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вторить определение симметрии     относительно прямой, относительно точ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ширить представление учащихся о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6" descr="Рисунок1"/>
          <p:cNvPicPr/>
          <p:nvPr/>
        </p:nvPicPr>
        <p:blipFill>
          <a:blip r:embed="rId3"/>
          <a:stretch/>
        </p:blipFill>
        <p:spPr>
          <a:xfrm>
            <a:off x="539640" y="3789360"/>
            <a:ext cx="3697560" cy="277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Рисунок2"/>
          <p:cNvPicPr/>
          <p:nvPr/>
        </p:nvPicPr>
        <p:blipFill>
          <a:blip r:embed="rId4"/>
          <a:stretch/>
        </p:blipFill>
        <p:spPr>
          <a:xfrm>
            <a:off x="4932360" y="3860640"/>
            <a:ext cx="3618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4508280"/>
            <a:ext cx="7632720" cy="187164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cc"/>
              </a:gs>
              <a:gs pos="100000">
                <a:srgbClr val="ff7c8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e5c"/>
                </a:solidFill>
                <a:latin typeface="Bradley Hand ITC"/>
              </a:rPr>
              <a:t>	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Две точки А и А</a:t>
            </a:r>
            <a:r>
              <a:rPr b="1" i="1" lang="ru-RU" sz="1800" spc="-1" strike="noStrike">
                <a:solidFill>
                  <a:srgbClr val="3e3e5c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 называю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имметричными относительно прямой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e3e5c"/>
                </a:solidFill>
                <a:latin typeface="Times New Roman"/>
              </a:rPr>
              <a:t>L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, если эта прямая проходит через середину отрезка АА</a:t>
            </a:r>
            <a:r>
              <a:rPr b="1" i="1" lang="ru-RU" sz="1800" spc="-1" strike="noStrike">
                <a:solidFill>
                  <a:srgbClr val="3e3e5c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 и перпендикулярна к н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519280" cy="187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 flipH="1">
            <a:off x="5651640" y="1773360"/>
            <a:ext cx="2519280" cy="1873080"/>
          </a:xfrm>
          <a:prstGeom prst="rect">
            <a:avLst/>
          </a:prstGeom>
          <a:ln w="0">
            <a:noFill/>
          </a:ln>
        </p:spPr>
      </p:pic>
      <p:sp>
        <p:nvSpPr>
          <p:cNvPr id="67" name="Line 10"/>
          <p:cNvSpPr/>
          <p:nvPr/>
        </p:nvSpPr>
        <p:spPr>
          <a:xfrm>
            <a:off x="4635360" y="1268280"/>
            <a:ext cx="0" cy="266544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3203640" y="1989000"/>
            <a:ext cx="2736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397512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04640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521964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5148360" y="191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9"/>
          <p:cNvSpPr/>
          <p:nvPr/>
        </p:nvSpPr>
        <p:spPr>
          <a:xfrm>
            <a:off x="4664160" y="1844640"/>
            <a:ext cx="123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20"/>
          <p:cNvSpPr/>
          <p:nvPr/>
        </p:nvSpPr>
        <p:spPr>
          <a:xfrm>
            <a:off x="4788000" y="1844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1835280" y="3357720"/>
            <a:ext cx="5473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3492360" y="3284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796000" y="328464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4643280" y="3213000"/>
            <a:ext cx="14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4788000" y="3213000"/>
            <a:ext cx="0" cy="1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7143840" y="335448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967120" y="13413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5724360" y="1341360"/>
            <a:ext cx="11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1619280" y="33544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421164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35"/>
          <p:cNvSpPr/>
          <p:nvPr/>
        </p:nvSpPr>
        <p:spPr>
          <a:xfrm>
            <a:off x="4356000" y="386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i="1" lang="ru-RU" sz="2800" spc="-1" strike="noStrike">
                <a:solidFill>
                  <a:srgbClr val="ffffff"/>
                </a:solidFill>
                <a:latin typeface="Bradley Hand ITC"/>
              </a:rPr>
              <a:t> -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ь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3995640" y="3284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592200" y="208080"/>
            <a:ext cx="830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395280" y="404640"/>
            <a:ext cx="8353440" cy="947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имметрия относительно прямой – называе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осевой симметр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8"/>
          <p:cNvSpPr/>
          <p:nvPr/>
        </p:nvSpPr>
        <p:spPr>
          <a:xfrm>
            <a:off x="684360" y="333360"/>
            <a:ext cx="8135640" cy="2448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Фигура назы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симметричной относительно прямой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Times New Roman"/>
              </a:rPr>
              <a:t>L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если для каждой точки</a:t>
            </a:r>
            <a:r>
              <a:rPr b="1" i="1" lang="en-US" sz="28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симметричная ей точка относительно прямой</a:t>
            </a:r>
            <a:r>
              <a:rPr b="1" i="1" lang="en-US" sz="2800" spc="-1" strike="noStrike">
                <a:solidFill>
                  <a:srgbClr val="3e3e5c"/>
                </a:solidFill>
                <a:latin typeface="Times New Roman"/>
              </a:rPr>
              <a:t> 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также принадлежит этой фиг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5400720" cy="33400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6443640" y="3860640"/>
            <a:ext cx="1443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7380360" y="3860640"/>
            <a:ext cx="1443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имметрия относительно точки –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ывае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центральной симметр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5627520" cy="20890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cc"/>
              </a:gs>
              <a:gs pos="100000">
                <a:srgbClr val="ff7c80"/>
              </a:gs>
            </a:gsLst>
            <a:lin ang="2700000"/>
          </a:gradFill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60597b"/>
                </a:solidFill>
                <a:latin typeface="Times New Roman"/>
              </a:rPr>
              <a:t>Две точки А и А</a:t>
            </a:r>
            <a:r>
              <a:rPr b="1" i="1" lang="ru-RU" sz="1800" spc="-1" strike="noStrike">
                <a:solidFill>
                  <a:srgbClr val="60597b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60597b"/>
                </a:solidFill>
                <a:latin typeface="Times New Roman"/>
              </a:rPr>
              <a:t> называютс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имметричными относительно точки</a:t>
            </a:r>
            <a:r>
              <a:rPr b="1" i="1" lang="ru-RU" sz="2800" spc="-1" strike="noStrike">
                <a:solidFill>
                  <a:srgbClr val="60597b"/>
                </a:solidFill>
                <a:latin typeface="Times New Roman"/>
              </a:rPr>
              <a:t> О, если О – середина отрезка АА</a:t>
            </a:r>
            <a:r>
              <a:rPr b="1" i="1" lang="ru-RU" sz="1800" spc="-1" strike="noStrike">
                <a:solidFill>
                  <a:srgbClr val="60597b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H="1">
            <a:off x="7667280" y="2133720"/>
            <a:ext cx="576360" cy="136656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7615080" y="3446640"/>
            <a:ext cx="90720" cy="91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8211960" y="2068560"/>
            <a:ext cx="90720" cy="92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 flipH="1">
            <a:off x="7079760" y="3517920"/>
            <a:ext cx="576360" cy="1366920"/>
          </a:xfrm>
          <a:prstGeom prst="line">
            <a:avLst/>
          </a:prstGeom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7"/>
          <p:cNvSpPr/>
          <p:nvPr/>
        </p:nvSpPr>
        <p:spPr>
          <a:xfrm>
            <a:off x="7031160" y="4843440"/>
            <a:ext cx="90360" cy="6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6659640" y="465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7812000" y="1484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7143840" y="314172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781200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308720" y="4149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4644720" y="530064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 –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центр симмет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048360" cy="264924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324000" y="260280"/>
            <a:ext cx="8424720" cy="2448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84360" y="404640"/>
            <a:ext cx="7704000" cy="222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Фигура назы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Times New Roman"/>
              </a:rPr>
              <a:t>симметричной относительно точки О</a:t>
            </a: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если для каждой точки 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симметричная ей точка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e5c"/>
                </a:solidFill>
                <a:latin typeface="Times New Roman"/>
              </a:rPr>
              <a:t>точки О также принадлежит этой фиг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3851280" y="4869000"/>
            <a:ext cx="144360" cy="14436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7093080" y="3500280"/>
            <a:ext cx="144360" cy="14472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3e3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071720" y="57150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.Чавайн лумеш бульв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2" descr="марфото.jpg"/>
          <p:cNvPicPr/>
          <p:nvPr/>
        </p:nvPicPr>
        <p:blipFill>
          <a:blip r:embed="rId1"/>
          <a:stretch/>
        </p:blipFill>
        <p:spPr>
          <a:xfrm>
            <a:off x="642960" y="285840"/>
            <a:ext cx="80722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21031119_vuyshivka"/>
          <p:cNvPicPr/>
          <p:nvPr/>
        </p:nvPicPr>
        <p:blipFill>
          <a:blip r:embed="rId1"/>
          <a:stretch/>
        </p:blipFill>
        <p:spPr>
          <a:xfrm>
            <a:off x="928800" y="214200"/>
            <a:ext cx="6519600" cy="52866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1928880" y="621504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й калыкын чиемж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511000" y="214200"/>
            <a:ext cx="26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одный костюм 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(шарпан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6" descr="Луговая.Шарпанан.jpg"/>
          <p:cNvPicPr/>
          <p:nvPr/>
        </p:nvPicPr>
        <p:blipFill>
          <a:blip r:embed="rId1"/>
          <a:stretch/>
        </p:blipFill>
        <p:spPr>
          <a:xfrm>
            <a:off x="88596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4286160" y="1071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адиционный марийский костюм как мужской, так и женский состоял из рубахи,  кафтана, штанов, пояса  с подвесками, головного  убора, кожаной обуви или лыковых лаптей с шерстяными онучами. Женский костюм дополнялся  украшениями. Традиционный  костюм  производился преимущественно домашними способами. Одежда и обувь марийцев изготовлялась из холста  (вынер),чаще из  конопляного, реже- льняного, домашнего сукна , выделанных шкур  животных, шерсти,   лык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55:54Z</dcterms:created>
  <dc:creator>ooo</dc:creator>
  <dc:description/>
  <dc:language>en-US</dc:language>
  <cp:lastModifiedBy>Admin</cp:lastModifiedBy>
  <dcterms:modified xsi:type="dcterms:W3CDTF">2013-04-14T17:55:02Z</dcterms:modified>
  <cp:revision>63</cp:revision>
  <dc:subject/>
  <dc:title>Симметрия вокруг нас</dc:title>
</cp:coreProperties>
</file>