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AF5-E9E5-4DFB-9761-AF8B1E24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F0E-3604-4940-8D7A-EB98547B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6F2-4798-4457-AC76-FBDB98E5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137-2EA0-419A-9D15-508D29F8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C46-88F0-42B4-AF41-38F45229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641-64A9-4F15-BAAB-07229040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3F8-DF32-433D-A4FB-231BB7B4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D7A-09EE-476E-9919-262BFD08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1CC-60E9-4AF0-93E2-84441221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52C-5852-46EB-B375-ADAC8CC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B0D-22D0-4776-9CD2-BCCF09C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34E-F061-4605-989F-0BB2E109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59A0-729B-41F9-A60E-561E7B740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1407960" y="-208080"/>
            <a:ext cx="631512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828800" y="950760"/>
            <a:ext cx="5479920" cy="1779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&amp;zcy;&amp;acy;&amp;yacy;&amp;tscy; &amp;tcy;&amp;acy;&amp;shchcy;&amp;icy;&amp;tcy; &amp;mcy;&amp;iecy;&amp;shcy;&amp;ocy;&amp;kcy; &amp;yacy;&amp;bcy;&amp;lcy;&amp;ocy;&amp;kcy; &amp;vcy;&amp;ocy;&amp;rcy;&amp;ocy;&amp;ncy;&amp;acy; &amp;zcy;&amp;acy; &amp;ncy;&amp;icy;&amp;mcy;"/>
          <p:cNvPicPr/>
          <p:nvPr/>
        </p:nvPicPr>
        <p:blipFill>
          <a:blip r:embed="rId3"/>
          <a:stretch/>
        </p:blipFill>
        <p:spPr>
          <a:xfrm>
            <a:off x="1619280" y="2492280"/>
            <a:ext cx="5832360" cy="26654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3780000" y="5516640"/>
            <a:ext cx="47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У ГООШ г. Каля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ель  начальных кла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лобушкина Анжелика Владимиров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ерь распахнулась, и на поро­ге появились бельчата с большим лукошком, полным орех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Вот! Это вам мама просила пе­редать! — пропищали бельчата и убежа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  Чудеса... - прошептала Зай­чи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&amp;zcy;&amp;acy;&amp;jcy;&amp;chcy;&amp;icy;&amp;khcy;&amp;acy; &amp;icy; &amp;zcy;&amp;acy;&amp;jcy;&amp;chcy;&amp;acy;&amp;tcy;&amp;acy; &amp;bcy;&amp;iecy;&amp;lcy;&amp;softcy;&amp;chcy;&amp;acy;&amp;tcy;&amp;acy; &amp;bcy;&amp;iecy;&amp;lcy;&amp;kcy;&amp;icy; &amp;pcy;&amp;rcy;&amp;icy;&amp;ncy;&amp;iecy;&amp;scy;&amp;lcy;&amp;icy; &amp;ocy;&amp;rcy;&amp;iecy;&amp;khcy;&amp;icy;"/>
          <p:cNvPicPr/>
          <p:nvPr/>
        </p:nvPicPr>
        <p:blipFill>
          <a:blip r:embed="rId1"/>
          <a:stretch/>
        </p:blipFill>
        <p:spPr>
          <a:xfrm>
            <a:off x="2050920" y="1844640"/>
            <a:ext cx="5329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&amp;zcy;&amp;acy;&amp;jcy;&amp;chcy;&amp;icy;&amp;khcy;&amp;acy; &amp;icy; &amp;zcy;&amp;acy;&amp;jcy;&amp;chcy;&amp;acy;&amp;tcy;&amp;acy; &amp;iecy;&amp;zhcy; &amp;pcy;&amp;rcy;&amp;icy;&amp;ncy;&amp;iecy;&amp;scy; &amp;lcy;&amp;ucy;&amp;kcy;&amp;ocy;&amp;shcy;&amp;kcy;&amp;ocy; &amp;scy; &amp;gcy;&amp;rcy;&amp;icy;&amp;bcy;&amp;acy;&amp;mcy;&amp;icy;"/>
          <p:cNvPicPr/>
          <p:nvPr/>
        </p:nvPicPr>
        <p:blipFill>
          <a:blip r:embed="rId1"/>
          <a:stretch/>
        </p:blipFill>
        <p:spPr>
          <a:xfrm>
            <a:off x="1547640" y="404640"/>
            <a:ext cx="6120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611280" y="501336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шёл Ёжик с корзиной, полной гриб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—  Хозяин дома? — спросил он Зайчих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Да нет. Как с утра пошёл, так и не возвращался. Попрощался Ёж, ушёл, а корзину с грибами остави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йчи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24000" y="33336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едка Коза принесла капусты и крынку молока. - Это для ваших детей, - сказала она Зайчихе. Чудеса продолжались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стуком откинулась крышка подпола, и показалась го­лова К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&amp;zcy;&amp;acy;&amp;jcy;&amp;chcy;&amp;icy;&amp;khcy;&amp;acy; &amp;icy; &amp;zcy;&amp;acy;&amp;jcy;&amp;chcy;&amp;acy;&amp;tcy;&amp;acy; &amp;kcy;&amp;ocy;&amp;zcy;&amp;acy; &amp;pcy;&amp;rcy;&amp;icy;&amp;ncy;&amp;iecy;&amp;scy;&amp;lcy;&amp;acy; &amp;kcy;&amp;acy;&amp;pcy;&amp;ucy;&amp;scy;&amp;tcy;&amp;ucy; &amp;icy; &amp;mcy;&amp;ocy;&amp;lcy;&amp;ocy;&amp;kcy;&amp;ocy;"/>
          <p:cNvPicPr/>
          <p:nvPr/>
        </p:nvPicPr>
        <p:blipFill>
          <a:blip r:embed="rId1"/>
          <a:stretch/>
        </p:blipFill>
        <p:spPr>
          <a:xfrm>
            <a:off x="1908000" y="1628640"/>
            <a:ext cx="5977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&amp;zcy;&amp;acy;&amp;jcy;&amp;chcy;&amp;icy;&amp;khcy;&amp;acy; &amp;icy; &amp;zcy;&amp;acy;&amp;jcy;&amp;chcy;&amp;acy;&amp;tcy;&amp;acy; &amp;kcy;&amp;rcy;&amp;ocy;&amp;tcy; &amp;pcy;&amp;rcy;&amp;icy;&amp;ncy;&amp;iecy;&amp;scy; &amp;ocy;&amp;vcy;&amp;ocy;&amp;shchcy;&amp;icy; &amp;pcy;&amp;iecy;&amp;tcy;&amp;rcy;&amp;ucy;&amp;shcy;&amp;kcy;&amp;acy; &amp;mcy;&amp;ocy;&amp;rcy;&amp;kcy;&amp;ocy;&amp;vcy;&amp;kcy;&amp;acy; &amp;kcy;&amp;acy;&amp;rcy;&amp;tcy;&amp;ocy;&amp;shcy;&amp;kcy;&amp;acy; &amp;scy;&amp;vcy;&amp;iecy;&amp;kcy;&amp;lcy;&amp;acy;"/>
          <p:cNvPicPr/>
          <p:nvPr/>
        </p:nvPicPr>
        <p:blipFill>
          <a:blip r:embed="rId1"/>
          <a:stretch/>
        </p:blipFill>
        <p:spPr>
          <a:xfrm>
            <a:off x="1476360" y="404640"/>
            <a:ext cx="5975280" cy="4032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468360" y="4508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Это дом Зайца? - спросил о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Да, мы тут живём, - сказала Зайчих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Значит, я правильно подкоп вёл! - обрадовался Крот, и полетели из подпола всякие овощи: морковка, картошка, петрушка, свёкла. - Привет Зайцу! - крикнул Крот и ис­чез под землё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&amp;zcy;&amp;acy;&amp;yacy;&amp;tscy; &amp;scy; &amp;pcy;&amp;ucy;&amp;scy;&amp;tcy;&amp;ycy;&amp;mcy; &amp;mcy;&amp;iecy;&amp;shcy;&amp;kcy;&amp;ocy;&amp;mcy; &amp;vcy;&amp;ocy;&amp;rcy;&amp;ocy;&amp;ncy;&amp;acy;"/>
          <p:cNvPicPr/>
          <p:nvPr/>
        </p:nvPicPr>
        <p:blipFill>
          <a:blip r:embed="rId1"/>
          <a:stretch/>
        </p:blipFill>
        <p:spPr>
          <a:xfrm>
            <a:off x="3492360" y="333360"/>
            <a:ext cx="52563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395280" y="191628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орона всё каркае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Карр! Карр! Всем яблоки раздавал, а меня хоть бы од­ним яблочком угостил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утился Заяц, вытряхнул из мешка последнее яблоко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Вот... Самое лучшее! Клюй на здоровье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Очень мне нужно твоё яблоко, я их терпеть не могу! Карр! Карр! Что делается! Родным голодным детишкам пу­стой мешок нес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&amp;zcy;&amp;acy;&amp;yacy;&amp;tscy; &amp;scy; &amp;pcy;&amp;ocy;&amp;scy;&amp;lcy;&amp;iecy;&amp;dcy;&amp;ncy;&amp;icy;&amp;mcy; &amp;yacy;&amp;bcy;&amp;lcy;&amp;ocy;&amp;kcy;&amp;ocy;&amp;mcy; &amp;icy; &amp;vcy;&amp;ocy;&amp;rcy;&amp;ocy;&amp;ncy;&amp;acy;"/>
          <p:cNvPicPr/>
          <p:nvPr/>
        </p:nvPicPr>
        <p:blipFill>
          <a:blip r:embed="rId2"/>
          <a:stretch/>
        </p:blipFill>
        <p:spPr>
          <a:xfrm>
            <a:off x="3492360" y="4653000"/>
            <a:ext cx="518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&amp;zcy;&amp;acy;&amp;yacy;&amp;tscy; &amp;scy; &amp;pcy;&amp;ucy;&amp;scy;&amp;tcy;&amp;ycy;&amp;mcy; &amp;mcy;&amp;iecy;&amp;shcy;&amp;kcy;&amp;ocy;&amp;mcy; &amp;pcy;&amp;ocy;&amp;dcy; &amp;dcy;&amp;ocy;&amp;zhcy;&amp;dcy;&amp;iecy;&amp;mcy;"/>
          <p:cNvPicPr/>
          <p:nvPr/>
        </p:nvPicPr>
        <p:blipFill>
          <a:blip r:embed="rId1"/>
          <a:stretch/>
        </p:blipFill>
        <p:spPr>
          <a:xfrm>
            <a:off x="1547640" y="549360"/>
            <a:ext cx="6048720" cy="45352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826920" y="52880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А я... А я сейчас обратно в лес пойду и снова мешок полный принесу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Куда же ты пойдёшь, глупый! Смотри, какая туча со­бир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&amp;zcy;&amp;acy;&amp;yacy;&amp;tscy; &amp;bcy;&amp;iecy;&amp;zhcy;&amp;icy;&amp;tcy; &amp;pcy;&amp;ocy;&amp;dcy; &amp;dcy;&amp;ocy;&amp;zhcy;&amp;dcy;&amp;iecy;&amp;mcy;"/>
          <p:cNvPicPr/>
          <p:nvPr/>
        </p:nvPicPr>
        <p:blipFill>
          <a:blip r:embed="rId1"/>
          <a:stretch/>
        </p:blipFill>
        <p:spPr>
          <a:xfrm>
            <a:off x="1692360" y="476280"/>
            <a:ext cx="6119640" cy="4824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826920" y="5732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побежал Заяц обратно в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&amp;zcy;&amp;acy;&amp;yacy;&amp;tscy; &amp;pcy;&amp;ocy;&amp;dcy; &amp;dcy;&amp;ocy;&amp;zhcy;&amp;dcy;&amp;iecy;&amp;mcy; &amp;pcy;&amp;ocy;&amp;dcy; &amp;yacy;&amp;bcy;&amp;lcy;&amp;ocy;&amp;ncy;&amp;iecy;&amp;jcy; &amp;vcy;&amp;ocy;&amp;lcy;&amp;kcy;"/>
          <p:cNvPicPr/>
          <p:nvPr/>
        </p:nvPicPr>
        <p:blipFill>
          <a:blip r:embed="rId1"/>
          <a:stretch/>
        </p:blipFill>
        <p:spPr>
          <a:xfrm>
            <a:off x="1187280" y="333360"/>
            <a:ext cx="6553440" cy="5616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гда прибежал к своей заветной яблоне, то там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&amp;vcy;&amp;ocy;&amp;lcy;&amp;kcy; &amp;ocy;&amp;bcy;&amp;lcy;&amp;icy;&amp;zcy;&amp;ncy;&amp;ucy;&amp;lcy;&amp;scy;&amp;yacy; &amp;ucy;&amp;vcy;&amp;icy;&amp;dcy;&amp;iecy;&amp;vcy; &amp;zcy;&amp;acy;&amp;jcy;&amp;tscy;&amp;acy;"/>
          <p:cNvPicPr/>
          <p:nvPr/>
        </p:nvPicPr>
        <p:blipFill>
          <a:blip r:embed="rId1"/>
          <a:stretch/>
        </p:blipFill>
        <p:spPr>
          <a:xfrm>
            <a:off x="1835280" y="476280"/>
            <a:ext cx="547344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755640" y="269064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идел Волк Зайца, облизнулся и спрашивае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Тебе что здесь нужно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Я... Яблочки хотел собрать... Зайчатам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Значит, ты яблочки люб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&amp;vcy;&amp;ocy;&amp;lcy;&amp;kcy; &amp;kcy;&amp;icy;&amp;dcy;&amp;acy;&amp;iecy;&amp;tcy;&amp;scy;&amp;yacy; &amp;vcy; &amp;mcy;&amp;iecy;&amp;shcy;&amp;ocy;&amp;kcy; &amp;zcy;&amp;acy;&amp;jcy;&amp;tscy;&amp;acy;"/>
          <p:cNvPicPr/>
          <p:nvPr/>
        </p:nvPicPr>
        <p:blipFill>
          <a:blip r:embed="rId2"/>
          <a:stretch/>
        </p:blipFill>
        <p:spPr>
          <a:xfrm>
            <a:off x="1835280" y="4292640"/>
            <a:ext cx="5473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&amp;vcy;&amp;ocy;&amp;lcy;&amp;kcy; &amp;scy; &amp;mcy;&amp;iecy;&amp;shcy;&amp;kcy;&amp;ocy;&amp;mcy; &amp;ncy;&amp;acy; &amp;gcy;&amp;ocy;&amp;lcy;&amp;ocy;&amp;vcy;&amp;iecy; &amp;zcy;&amp;acy;&amp;yacy;&amp;tscy; &amp;pcy;&amp;ocy;&amp;dcy; &amp;dcy;&amp;ocy;&amp;zhcy;&amp;dcy;&amp;iecy;&amp;mcy;"/>
          <p:cNvPicPr/>
          <p:nvPr/>
        </p:nvPicPr>
        <p:blipFill>
          <a:blip r:embed="rId1"/>
          <a:stretch/>
        </p:blipFill>
        <p:spPr>
          <a:xfrm>
            <a:off x="1692360" y="476280"/>
            <a:ext cx="575928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611280" y="270828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Лю... Люблю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А я зайцев очень люблю! - зарычал Волк и бросился на Зайц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т тут-то и пригодился Зайцу пустой меш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&amp;vcy;&amp;ocy;&amp;lcy;&amp;kcy; &amp;vcy; &amp;mcy;&amp;iecy;&amp;shcy;&amp;kcy;&amp;iecy; &amp;zcy;&amp;acy;&amp;yacy;&amp;tscy; &amp;ucy;&amp;bcy;&amp;iecy;&amp;zhcy;&amp;acy;&amp;lcy;"/>
          <p:cNvPicPr/>
          <p:nvPr/>
        </p:nvPicPr>
        <p:blipFill>
          <a:blip r:embed="rId2"/>
          <a:stretch/>
        </p:blipFill>
        <p:spPr>
          <a:xfrm>
            <a:off x="1692360" y="4221000"/>
            <a:ext cx="57592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дил Заяц с мешком по лесу, искал грибы-ягоды для своих зайчат, но, как назло, ничего ему не попадалось: ни грибов, ни ягод. И вдруг посреди зелёной поляны увидел он дикую ябло­ню. А яблок румяных на ней и под ней - видимо-невиди­мо! Не долго думая, раскрыл Заяц свой мешок и стал в не­го яблоки собир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яблоня заяц и ворона мешок яблок"/>
          <p:cNvPicPr/>
          <p:nvPr/>
        </p:nvPicPr>
        <p:blipFill>
          <a:blip r:embed="rId1"/>
          <a:srcRect l="0" t="17110" r="0" b="17110"/>
          <a:stretch/>
        </p:blipFill>
        <p:spPr>
          <a:xfrm>
            <a:off x="1692360" y="2205000"/>
            <a:ext cx="5759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&amp;zcy;&amp;acy;&amp;yacy;&amp;tscy; &amp;vcy;&amp;ocy;&amp;zcy;&amp;vcy;&amp;rcy;&amp;acy;&amp;shchcy;&amp;acy;&amp;iecy;&amp;tcy;&amp;scy;&amp;yacy; &amp;dcy;&amp;ocy;&amp;mcy;&amp;ocy;&amp;jcy; &amp;pcy;&amp;ocy;&amp;dcy; &amp;dcy;&amp;ocy;&amp;zhcy;&amp;dcy;&amp;iecy;&amp;mcy;"/>
          <p:cNvPicPr/>
          <p:nvPr/>
        </p:nvPicPr>
        <p:blipFill>
          <a:blip r:embed="rId1"/>
          <a:stretch/>
        </p:blipFill>
        <p:spPr>
          <a:xfrm>
            <a:off x="1403280" y="476280"/>
            <a:ext cx="612144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539640" y="6021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же поздно ночью приплёлся Заяц к своему д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&amp;zcy;&amp;acy;&amp;jcy;&amp;chcy;&amp;icy;&amp;khcy;&amp;acy; &amp;icy; &amp;zcy;&amp;acy;&amp;jcy;&amp;chcy;&amp;acy;&amp;tcy;&amp;acy; &amp;scy;&amp;pcy;&amp;yacy;&amp;tcy; &amp;dcy;&amp;ocy;&amp;mcy;&amp;acy; &amp;vcy; &amp;kcy;&amp;rcy;&amp;ocy;&amp;vcy;&amp;acy;&amp;tcy;&amp;kcy;&amp;iecy;"/>
          <p:cNvPicPr/>
          <p:nvPr/>
        </p:nvPicPr>
        <p:blipFill>
          <a:blip r:embed="rId1"/>
          <a:stretch/>
        </p:blipFill>
        <p:spPr>
          <a:xfrm>
            <a:off x="1692360" y="476280"/>
            <a:ext cx="59040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0" y="537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дома давно крепким сном спали сытые зайчата. Толь­ко одна Зайчиха не спала: тихо плакала в своём уголке. Вдруг скрипнула дв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&amp;zcy;&amp;acy;&amp;yacy;&amp;tscy; &amp;vcy;&amp;iecy;&amp;rcy;&amp;ncy;&amp;ucy;&amp;lcy;&amp;scy;&amp;yacy; &amp;dcy;&amp;ocy;&amp;mcy;&amp;ocy;&amp;jcy; &amp;mcy;&amp;ocy;&amp;kcy;&amp;rcy;&amp;ycy;&amp;jcy; &amp;pcy;&amp;ocy;&amp;dcy; &amp;dcy;&amp;ocy;&amp;zhcy;&amp;dcy;&amp;iecy;&amp;mcy;"/>
          <p:cNvPicPr/>
          <p:nvPr/>
        </p:nvPicPr>
        <p:blipFill>
          <a:blip r:embed="rId1"/>
          <a:stretch/>
        </p:blipFill>
        <p:spPr>
          <a:xfrm>
            <a:off x="1692360" y="333360"/>
            <a:ext cx="5832360" cy="424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0" y="4508640"/>
            <a:ext cx="83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кочили зайчат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Ура! Папа пришёл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йчиха подбежала к двери: на пороге стоял Заяц, весь мокрый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-  Я ничего... совсем ничего вам не принёс, - прошеп­тал о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Зайчик мой бедный! - воскликнула Зайчи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&amp;zcy;&amp;acy;&amp;yacy;&amp;tscy; &amp;zcy;&amp;acy;&amp;jcy;&amp;chcy;&amp;acy;&amp;tcy;&amp;acy; &amp;zcy;&amp;acy;&amp;jcy;&amp;chcy;&amp;icy;&amp;khcy;&amp;acy; &amp;mcy;&amp;iecy;&amp;dcy;&amp;vcy;&amp;iecy;&amp;dcy;&amp;softcy; &amp;scy; &amp;bcy;&amp;ocy;&amp;chcy;&amp;kcy;&amp;ocy;&amp;jcy; &amp;vcy; &amp;ocy;&amp;kcy;&amp;ncy;&amp;iecy;"/>
          <p:cNvPicPr/>
          <p:nvPr/>
        </p:nvPicPr>
        <p:blipFill>
          <a:blip r:embed="rId1"/>
          <a:stretch/>
        </p:blipFill>
        <p:spPr>
          <a:xfrm>
            <a:off x="1908000" y="404640"/>
            <a:ext cx="5400720" cy="37450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395280" y="422100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вдруг страшный удар потряс д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Это он! Волк! Заприте дверь! Прячьтесь все! - закричал Заяц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звенели стёкла, распахнулось окошко, и появилась большая голова Медвед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Вот! Держи от меня подарок, - прорычал Медведь. -Мёд настоящий, липовый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&amp;zcy;&amp;acy;&amp;jcy;&amp;chcy;&amp;acy;&amp;tcy;&amp;acy; &amp;zcy;&amp;acy;&amp;yacy;&amp;tscy; &amp;icy; &amp;zcy;&amp;acy;&amp;jcy;&amp;chcy;&amp;icy;&amp;khcy;&amp;acy; &amp;pcy;&amp;icy;&amp;rcy;&amp;ucy;&amp;yucy;&amp;tcy; &amp;zcy;&amp;acy; &amp;scy;&amp;tcy;&amp;ocy;&amp;lcy;&amp;ocy;&amp;mcy; "/>
          <p:cNvPicPr/>
          <p:nvPr/>
        </p:nvPicPr>
        <p:blipFill>
          <a:blip r:embed="rId1"/>
          <a:stretch/>
        </p:blipFill>
        <p:spPr>
          <a:xfrm>
            <a:off x="2050920" y="404640"/>
            <a:ext cx="5042160" cy="42483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468360" y="465300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тром вся заячья семья собралась за столом. А на сто­ле чего только нет! Грибы и орехи, свёкла и капуста, мёд и репа, морковь и картош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злая Ворона удивляетс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икак ума не приложу: как могло из пустого мешка столько добра поя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2" descr=""/>
          <p:cNvPicPr/>
          <p:nvPr/>
        </p:nvPicPr>
        <p:blipFill>
          <a:blip r:embed="rId1"/>
          <a:stretch/>
        </p:blipFill>
        <p:spPr>
          <a:xfrm>
            <a:off x="2109960" y="682560"/>
            <a:ext cx="4913280" cy="2041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&amp;zcy;&amp;acy;&amp;jcy;&amp;chcy;&amp;icy;&amp;shcy;&amp;kcy;&amp;icy; &amp;zcy;&amp;acy;&amp;jcy;&amp;tscy;&amp;ycy; &amp;zcy;&amp;acy;&amp;jcy;&amp;chcy;&amp;acy;&amp;tcy;&amp;acy;"/>
          <p:cNvPicPr/>
          <p:nvPr/>
        </p:nvPicPr>
        <p:blipFill>
          <a:blip r:embed="rId2"/>
          <a:stretch/>
        </p:blipFill>
        <p:spPr>
          <a:xfrm>
            <a:off x="2556000" y="3789360"/>
            <a:ext cx="4032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1"/>
          <p:cNvSpPr/>
          <p:nvPr/>
        </p:nvSpPr>
        <p:spPr>
          <a:xfrm>
            <a:off x="468360" y="47628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уемые источник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611280" y="213372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ллюстрации: Сутеев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611280" y="2852640"/>
            <a:ext cx="51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www.planetaskazok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11280" y="1052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ение 3 класс. С.Ю.Ильина, Л.В.Матвеева- Лун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шок яблок (сказка). По В. Сутее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заяц тащит мешок яблок ворона за ним"/>
          <p:cNvPicPr/>
          <p:nvPr/>
        </p:nvPicPr>
        <p:blipFill>
          <a:blip r:embed="rId1"/>
          <a:stretch/>
        </p:blipFill>
        <p:spPr>
          <a:xfrm>
            <a:off x="1692360" y="4365720"/>
            <a:ext cx="5759280" cy="2087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468360" y="40464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ут Ворона прилетела, на пенёк села и каркае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  Карр! Карр! Безобразие! Каждый будет сюда прихо­дить, ни одного яблока не останетс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Напрасно каркаешь, - говорит Заяц, - здесь яблок на весь лес хватит. А у меня зайчата дома голодные сидя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брал Заяц полный мешок яблок. Мешок тяжёлый - не поднять. С трудом потащил его Заяц волоком по лесной тропинке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вдруг голова его уткнулась во что-то мягкое. Поднял голову Заяц и обомлел — перед ним Медведь сто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203640" y="0"/>
            <a:ext cx="594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 Что у тебя там в мешке? -спросил Медвед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ц пришёл в себя, открыл мешок и говори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  Вот... Яблоки... Угощай­тесь, дядя Миш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пробовал Медведь одно яблок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ичего яблочки! Освежают! -проревел он, набрал большую горсть яблок и пошёл своей доро­г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Заяц - к себе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&amp;zcy;&amp;acy;&amp;yacy;&amp;tscy; &amp;scy; &amp;mcy;&amp;iecy;&amp;shcy;&amp;kcy;&amp;ocy;&amp;mcy; &amp;pcy;&amp;scy;&amp;tcy;&amp;ocy;&amp;lcy;&amp;kcy;&amp;ncy;&amp;ucy;&amp;lcy;&amp;scy;&amp;yacy; &amp;scy; &amp;mcy;&amp;iecy;&amp;dcy;&amp;vcy;&amp;iecy;&amp;dcy;&amp;iecy;&amp;mcy;"/>
          <p:cNvPicPr/>
          <p:nvPr/>
        </p:nvPicPr>
        <p:blipFill>
          <a:blip r:embed="rId1"/>
          <a:stretch/>
        </p:blipFill>
        <p:spPr>
          <a:xfrm>
            <a:off x="324000" y="476280"/>
            <a:ext cx="2808000" cy="28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&amp;zcy;&amp;acy;&amp;yacy;&amp;tscy; &amp;ocy;&amp;tcy;&amp;dcy;&amp;acy;&amp;lcy; &amp;yacy;&amp;bcy;&amp;lcy;&amp;ocy;&amp;kcy; &amp;mcy;&amp;iecy;&amp;dcy;&amp;vcy;&amp;iecy;&amp;dcy;&amp;yucy; &amp;icy;&amp;zcy; &amp;mcy;&amp;iecy;&amp;shcy;&amp;kcy;&amp;acy;"/>
          <p:cNvPicPr/>
          <p:nvPr/>
        </p:nvPicPr>
        <p:blipFill>
          <a:blip r:embed="rId2"/>
          <a:stretch/>
        </p:blipFill>
        <p:spPr>
          <a:xfrm>
            <a:off x="6300720" y="3860640"/>
            <a:ext cx="2448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amp;zcy;&amp;acy;&amp;yacy;&amp;tscy; &amp;rcy;&amp;acy;&amp;zcy;&amp;dcy;&amp;acy;&amp;iecy;&amp;tcy; &amp;yacy;&amp;bcy;&amp;lcy;&amp;ocy;&amp;kcy;&amp;icy; &amp;icy;&amp;zcy; &amp;mcy;&amp;iecy;&amp;shcy;&amp;kcy;&amp;acy; &amp;bcy;&amp;iecy;&amp;lcy;&amp;kcy;&amp;acy;&amp;mcy;"/>
          <p:cNvPicPr/>
          <p:nvPr/>
        </p:nvPicPr>
        <p:blipFill>
          <a:blip r:embed="rId1"/>
          <a:stretch/>
        </p:blipFill>
        <p:spPr>
          <a:xfrm>
            <a:off x="1692360" y="476280"/>
            <a:ext cx="5759280" cy="43210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755640" y="50911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ёт Заяц по лесу, а со всех сторон бегут к нему бель­чата, пищат хором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Дяденька Заяц! Дайте яблочек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чего не поделаешь, пришлось снова мешок откр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&amp;zcy;&amp;acy;&amp;yacy;&amp;tscy; &amp;vcy;&amp;scy;&amp;tcy;&amp;rcy;&amp;iecy;&amp;tcy;&amp;icy;&amp;lcy; &amp;iecy;&amp;zhcy;&amp;acy; &amp;scy; &amp;lcy;&amp;ucy;&amp;kcy;&amp;ocy;&amp;shcy;&amp;kcy;&amp;ocy;&amp;mcy;"/>
          <p:cNvPicPr/>
          <p:nvPr/>
        </p:nvPicPr>
        <p:blipFill>
          <a:blip r:embed="rId1"/>
          <a:stretch/>
        </p:blipFill>
        <p:spPr>
          <a:xfrm>
            <a:off x="1979640" y="404640"/>
            <a:ext cx="5113440" cy="17290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684360" y="213660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дороге домой Заяц встретил своего старого приятеля Еж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Куда идёшь, Колючая Голова? - спросил Заяц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Да вот, за грибами собрался, а грибов нигде не вид­но. Хожу с пустой корзинк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Ты лучше у меня яблок возьми. Бери, не стесняйся, у меня их много! — сказал Заяц и насыпал Ежу полную корзину яб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&amp;zcy;&amp;acy;&amp;yacy;&amp;tscy; &amp;ocy;&amp;tcy;&amp;dcy;&amp;acy;&amp;lcy; &amp;yacy;&amp;bcy;&amp;lcy;&amp;ocy;&amp;kcy; &amp;iecy;&amp;zhcy;&amp;ucy; &amp;pcy;&amp;ocy;&amp;dcy;&amp;iecy;&amp;lcy;&amp;icy;&amp;lcy;&amp;scy;&amp;yacy;"/>
          <p:cNvPicPr/>
          <p:nvPr/>
        </p:nvPicPr>
        <p:blipFill>
          <a:blip r:embed="rId2"/>
          <a:stretch/>
        </p:blipFill>
        <p:spPr>
          <a:xfrm>
            <a:off x="3635280" y="4941720"/>
            <a:ext cx="51134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&amp;zcy;&amp;acy;&amp;yacy;&amp;tscy; &amp;ucy;&amp;gcy;&amp;ocy;&amp;shchcy;&amp;acy;&amp;iecy;&amp;tcy; &amp;yacy;&amp;bcy;&amp;lcy;&amp;ocy;&amp;kcy;&amp;acy;&amp;mcy;&amp;icy; &amp;kcy;&amp;ocy;&amp;zcy;&amp;lcy;&amp;yacy;&amp;tcy; &amp;icy; &amp;kcy;&amp;ocy;&amp;zcy;&amp;ucy;"/>
          <p:cNvPicPr/>
          <p:nvPr/>
        </p:nvPicPr>
        <p:blipFill>
          <a:blip r:embed="rId1"/>
          <a:stretch/>
        </p:blipFill>
        <p:spPr>
          <a:xfrm>
            <a:off x="1619280" y="620640"/>
            <a:ext cx="5832360" cy="4537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900000" y="54738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шел Заяц на лужок, а там Коза со своими козлята­ми гуляет. Их Заяц тоже яблоками одел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дил, ходил Заяц и устал. Присел было на какой-то бугорок, как вдруг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Спасибо, дружище! - сказал Крот и исчез под землёй вместе с яблоками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&amp;zcy;&amp;acy;&amp;yacy;&amp;tscy; &amp;rcy;&amp;acy;&amp;zcy;&amp;dcy;&amp;acy;&amp;iecy;&amp;tcy; &amp;yacy;&amp;bcy;&amp;lcy;&amp;ocy;&amp;kcy;&amp;icy; &amp;kcy;&amp;rcy;&amp;ocy;&amp;tcy;&amp;ucy; &amp;ucy;&amp;gcy;&amp;ocy;&amp;scy;&amp;tcy;&amp;icy;&amp;lcy; &amp;kcy;&amp;rcy;&amp;ocy;&amp;tcy; &amp;vcy; &amp;ncy;&amp;ocy;&amp;rcy;&amp;iecy;"/>
          <p:cNvPicPr/>
          <p:nvPr/>
        </p:nvPicPr>
        <p:blipFill>
          <a:blip r:embed="rId1"/>
          <a:stretch/>
        </p:blipFill>
        <p:spPr>
          <a:xfrm>
            <a:off x="3419640" y="148428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&amp;zcy;&amp;acy;&amp;jcy;&amp;chcy;&amp;icy;&amp;khcy;&amp;acy; &amp;scy; &amp;zcy;&amp;acy;&amp;jcy;&amp;chcy;&amp;acy;&amp;tcy;&amp;acy;&amp;mcy;&amp;icy; &amp;dcy;&amp;ocy;&amp;mcy;&amp;acy;"/>
          <p:cNvPicPr/>
          <p:nvPr/>
        </p:nvPicPr>
        <p:blipFill>
          <a:blip r:embed="rId1"/>
          <a:stretch/>
        </p:blipFill>
        <p:spPr>
          <a:xfrm>
            <a:off x="1692360" y="404640"/>
            <a:ext cx="5688000" cy="48247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755640" y="522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заячьем домике давно ждут папу-Зайца. Чтобы скоро­тать время, мама-Зайчиха рассказывает сказку своим го­лодным зайчат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ут кто-то постучал в двер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1:46:06Z</dcterms:created>
  <dc:creator>Я</dc:creator>
  <dc:description/>
  <dc:language>en-US</dc:language>
  <cp:lastModifiedBy>Я</cp:lastModifiedBy>
  <dcterms:modified xsi:type="dcterms:W3CDTF">2013-04-14T14:07:14Z</dcterms:modified>
  <cp:revision>38</cp:revision>
  <dc:subject/>
  <dc:title>Слайд 1</dc:title>
</cp:coreProperties>
</file>