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6C1-4AB8-4F41-A750-623155B2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6BF-FD93-425B-BAB9-E122CF55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093-3437-414B-8057-946CD769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94B-6FC3-44A7-91D7-B0C9BB90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02A3-BD57-4DCD-922F-F36181F7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1EAA-BB9F-4C5A-BDFC-B164B107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3131-C2CC-4530-B94F-839CC8BC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C53C-6ADE-4495-B9F9-4C723CB9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EE26-5EE7-4E13-9D18-C5F90CED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DD15-7A1A-4107-B42D-808BAFF3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376D-1785-4AFD-9B90-AF0A0767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E2E-7654-4F7F-8674-DD8AA14E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E542-EAD0-4908-A53C-4C6F3A2B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9AD1-388C-4A02-9651-DE7DF30D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B9DE-0169-4583-B116-8D61BB40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48F1-41C3-43D3-8BC6-D5CEA7F6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6EC2-0BAD-4753-B76B-6E216842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0C6-AA18-47BA-82DC-58F917DF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39A-9CDA-4CDB-991A-BF71B2E5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A4F-725C-4F37-AABD-51A6CF3D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512E-2030-46CA-B566-FAF78F3C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B7D-9083-4BE6-981F-F392BB29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8E5-BA5D-4E84-A796-914C5F51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E5D-1465-4380-8C80-35D8570D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4CFB-5138-49DD-BA9B-DF8F4572F4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D5D9-FADD-4BA2-A164-E691F8B288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1844640"/>
            <a:ext cx="77724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Мотивация учебной деятельности обучающихся</a:t>
            </a:r>
            <a:br>
              <a:rPr sz="6000"/>
            </a:b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1 ступени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отивация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это внутренняя психологическая характеристика личности, которая находит выражение во внешних проявлениях, в отношении человека к окружающему миру, различным видам деятельности. Деятельность без мотива или со слабым мотивом либо не осуществляется вообще, либо оказывается крайне неустойчивой. От того, как чувствует себя ученик в определенной ситуации, зависит объем усилий, которые он прилагает в своей учебе. Поэтому важно, чтобы весь процесс обучения вызывал у ребенка интенсивное и внутреннее побуждение к знаниям, напряженному умственному труд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Учебная деятельность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тивы уч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ь и целеполага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йствия (учебные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Виды мотивации: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1471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. Мотивация  лежащая вне  учебной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Отрицательная»  – это  побуждения  школьника, вызванное  сознанием  неудобств  и неприятностей, которые  могут  возникнуть, если  он  не  будет  учить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Положительная»  в  двух  форм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Определяется  социальными устремлениями (чувство  гражданского  долга  перед страной, перед  близким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Определяется  узколичными  мотивами:  одобрение  окружающих, путь к личному  благополучию  и т.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 Мотивация  лежащая  в самой  учебной 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язанная  непосредственно   с  целями  учения  (удовлетворение  любознательности, приобретение  определенных  знаний, расширение  кругозор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ложено  в самом  процессе учебной  деятельности, (преодоление препятствий, интеллектуальная   активность реализация  своих способносте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Структура мотивации к учению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9152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знавательная мотиваци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отивация достижения успеха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естижная мотиваци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отивация избегания неудач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енсаторная мотиваци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8147160" cy="54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личности учител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очень часто даже скучный материал, объясняемый любимым учителем, хорошо усваивается);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я учебного материал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когда ребенку просто нравится содержание данного предмета);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ов и приемов обучени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Требования к современному уроку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возможности стараться на уроке обратиться к каждому ученику не по одному разу, а не менее 3–5 раз, т. е. осуществлять постоянную «обратную связь» – корректировать непонятное или неправильно понято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Ставить оценку ученику не за отдельный ответ, а за несколько (на разных этапах урока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остоянно и целенаправленно заниматься развитием качеств, лежащих в основе развития познавательных способностей: быстрота реакции, все виды памяти, внимание, воображение и т. д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Основная задача каждого учителя – не только научить, а развить мышление ребенка средствами своего предме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Стараться, когда это возможно, интегрировать знания, связывая темы своего курса как с родственными, так и другими учебными дисциплинами, обогащая знания, расширяя кругозор учащихся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Мотивация является особо важным и специфичным    компонентом учебн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через мотивацию педагогические цели быстрее превращаются в психические цели обучаемы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через мотивацию формируется определённое отношение учащихся к учебному предмету и осознаётся его ценностная значимость для личностного развит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через формирование положительной мотивации можно значительно улучшить качественные показатели познавательных процесс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000" y="2492280"/>
            <a:ext cx="82184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ahom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20:14Z</dcterms:created>
  <dc:creator>Пользователь</dc:creator>
  <dc:description/>
  <dc:language>en-US</dc:language>
  <cp:lastModifiedBy>Пользователь</cp:lastModifiedBy>
  <dcterms:modified xsi:type="dcterms:W3CDTF">2010-12-16T17:24:26Z</dcterms:modified>
  <cp:revision>3</cp:revision>
  <dc:subject/>
  <dc:title>Мотивация деятельности обучения в школе  1 ступени</dc:title>
</cp:coreProperties>
</file>