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2E42-4176-4732-A254-CD115EF1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A053-C820-403B-9387-3561E0B6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C619-6562-4115-BD67-EBCA7F51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7295-4E97-4315-B603-8B1B2A47A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EFA5-9CD0-4CC0-AA80-84EB28A27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ED59-5DE2-42E7-B0CF-D07DE43E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1A16-ED39-4B7A-A008-F97F3EEB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9450-7811-4082-BD50-419A0954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D8A8-DF11-4507-B0F7-F925234F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AB11-BB82-48C7-BE17-821E7863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A9E1-F429-48BC-9AF9-86FB4361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6820-2381-4E1B-BD94-FA06F5B2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2337-CDF1-44A4-844E-FCC54C1D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B0B8-66BF-4898-9676-270222F8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2BF4-8E04-470F-B3F7-58551FF3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5386-391F-4D68-87C0-62ADEAA8C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3439-94E2-42C2-A761-AA6924AF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4A7A-4242-4EFA-BE9B-1FF9C03A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0CCA-7220-445B-BD93-9E15C097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FC01-DF44-462A-8CFC-4F903A8F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485F-8E40-4DFF-AEBC-FA37D15E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B61B-717A-4772-851A-330CBE42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E0AD-09A4-47A1-A162-1B0169DF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CA0D-30F1-408B-8B65-1AA7A975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c3cc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503A-D91B-40A7-9829-EACE429EE37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afb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5D0C-2D3D-468D-9748-99A321C929C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6920" y="1844640"/>
            <a:ext cx="7772400" cy="30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Мотивация учебной деятельности обучающихся</a:t>
            </a:r>
            <a:br>
              <a:rPr sz="6000"/>
            </a:b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1 ступени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07552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Мотивация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это внутренняя психологическая характеристика личности, которая находит выражение во внешних проявлениях, в отношении человека к окружающему миру, различным видам деятельности. Деятельность без мотива или со слабым мотивом либо не осуществляется вообще, либо оказывается крайне неустойчивой. От того, как чувствует себя ученик в определенной ситуации, зависит объем усилий, которые он прилагает в своей учебе. Поэтому важно, чтобы весь процесс обучения вызывал у ребенка интенсивное и внутреннее побуждение к знаниям, напряженному умственному труд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4000"/>
            </a:b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Учебная деятельность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отивы учен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Цель и целеполагани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ействия (учебные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нтрол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ценка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Виды мотивации: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14716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. Мотивация  лежащая вне  учебной деятель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Отрицательная»  – это  побуждения  школьника, вызванное  сознанием  неудобств  и неприятностей, которые  могут  возникнуть, если  он  не  будет  учить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Положительная»  в  двух  форма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Определяется  социальными устремлениями (чувство  гражданского  долга  перед страной, перед  близкими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Определяется  узколичными  мотивами:  одобрение  окружающих, путь к личному  благополучию  и т.д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 Мотивация  лежащая  в самой  учебной  деятель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вязанная  непосредственно   с  целями  учения  (удовлетворение  любознательности, приобретение  определенных  знаний, расширение  кругозор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ложено  в самом  процессе учебной  деятельности, (преодоление препятствий, интеллектуальная   активность реализация  своих способностей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Структура мотивации к учению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829152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ознавательная мотивация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отивация достижения успеха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рестижная мотивация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отивация избегания неудачи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омпенсаторная мотивация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000" y="1125360"/>
            <a:ext cx="8147160" cy="54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личности учителя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(очень часто даже скучный материал, объясняемый любимым учителем, хорошо усваивается);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содержания учебного материал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(когда ребенку просто нравится содержание данного предмета);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ов и приемов обучения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Требования к современному уроку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 возможности стараться на уроке обратиться к каждому ученику не по одному разу, а не менее 3–5 раз, т. е. осуществлять постоянную «обратную связь» – корректировать непонятное или неправильно понято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Ставить оценку ученику не за отдельный ответ, а за несколько (на разных этапах урока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Постоянно и целенаправленно заниматься развитием качеств, лежащих в основе развития познавательных способностей: быстрота реакции, все виды памяти, внимание, воображение и т. д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Основная задача каждого учителя – не только научить, а развить мышление ребенка средствами своего предмет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Стараться, когда это возможно, интегрировать знания, связывая темы своего курса как с родственными, так и другими учебными дисциплинами, обогащая знания, расширяя кругозор учащихся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Выводы: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Мотивация является особо важным и специфичным    компонентом учебной деятельно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через мотивацию педагогические цели быстрее превращаются в психические цели обучаемых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через мотивацию формируется определённое отношение учащихся к учебному предмету и осознаётся его ценностная значимость для личностного развит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через формирование положительной мотивации можно значительно улучшить качественные показатели познавательных процесс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000" y="2492280"/>
            <a:ext cx="821844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ahoma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5:20:14Z</dcterms:created>
  <dc:creator>Пользователь</dc:creator>
  <dc:description/>
  <dc:language>en-US</dc:language>
  <cp:lastModifiedBy>Пользователь</cp:lastModifiedBy>
  <dcterms:modified xsi:type="dcterms:W3CDTF">2010-12-16T17:24:26Z</dcterms:modified>
  <cp:revision>3</cp:revision>
  <dc:subject/>
  <dc:title>Мотивация деятельности обучения в школе  1 ступени</dc:title>
</cp:coreProperties>
</file>