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C63-2822-4482-93DB-74607A8C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6C2-CC65-4523-A5DC-4E4595D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F60-D527-4C96-B948-F8EA92A4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1D0-F09D-4CF2-AD6D-CDA87421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53CA-4DA2-48F4-8307-7CE97FB6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AEB4-32BA-45BA-875C-A52A9941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0F63-9E50-4D3F-942B-A77FD6A7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944-BA22-481C-A64E-FA3FAAA8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3C2-5614-42B6-9428-E835AED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3FA0-99E6-4B75-885D-A139696B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21D6-B4C7-42CD-9CC5-15E4EF4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965-4B7F-4917-8AF4-51F69F32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B6D9-F335-47C3-9967-08637FE6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723-6A43-4803-9EF1-5D31345E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62B5-80A5-4FB7-9ED5-46A4D711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382F-4D6C-4594-BB08-05589682A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1A2-2640-43DA-B549-B2420297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5FF-D802-4659-B3DC-8FA69C48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2C3-A1FC-4239-8D07-0497D40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E3A-7DED-4217-9D4F-AB59F2D0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335-214C-4C93-AD4F-BA729218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330-DB53-404C-98C9-9EB9C968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753-04B7-41BD-8944-9AE43D2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1F7-CDFA-491F-AB85-92A1734A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97F7-33B8-4C3B-9946-AFD7009B7B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0B3-A9E5-4253-956B-050C8F8B54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Неделя </a:t>
            </a:r>
            <a:br>
              <a:rPr sz="5400"/>
            </a:b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истории и обществозна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БОУ СОШ № 19 ст.Казан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План проведения Недели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143000"/>
          <a:ext cx="8229600" cy="6200640"/>
        </p:xfrm>
        <a:graphic>
          <a:graphicData uri="http://schemas.openxmlformats.org/drawingml/2006/table">
            <a:tbl>
              <a:tblPr/>
              <a:tblGrid>
                <a:gridCol w="471600"/>
                <a:gridCol w="2820960"/>
                <a:gridCol w="1644480"/>
                <a:gridCol w="892440"/>
                <a:gridCol w="24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373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Моя малая Род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Урок-путешеств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Иванова А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Как появилась книг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лассный ч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Скоркина С.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Русь. Россия. Родина моя.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ласный ч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адченко Л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2 декабря – День Конститу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Бражник Е.Н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Знаток Древнего Егип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икто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онох И.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Живое Средневековь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икто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Вовка в Тридесятом царстве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Самый умны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иг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8А,8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Звёздный час» по обществознани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Основной закон 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виктор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«Как я знаю свои прав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районный 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Евсикова В.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5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2 декабря – 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ень Конституции </a:t>
            </a:r>
            <a:br>
              <a:rPr sz="44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(конкурс в 4 классе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7" name="Picture 6" descr="C:\Users\нина\Documents\неделя истории\PC140014.JPG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нина\Documents\неделя истории\PC140018.JPG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Звёздный час»</a:t>
            </a: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 по обществознанию </a:t>
            </a:r>
            <a:br>
              <a:rPr sz="44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(9 класс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0" name="Picture 2" descr="C:\Users\нина\Documents\неделя истории\PC180040.JPG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нина\Documents\неделя истории\PC180037.JPG"/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ак появилась книга»</a:t>
            </a:r>
            <a:br>
              <a:rPr sz="44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(Классный час во 2 классе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Picture 2" descr="C:\Users\нина\Documents\неделя истории\PC140030.JPG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нина\Documents\неделя истории\PC140028.JPG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0:51:20Z</dcterms:created>
  <dc:creator>школа</dc:creator>
  <dc:description/>
  <dc:language>en-US</dc:language>
  <cp:lastModifiedBy>Ивченко Катерина</cp:lastModifiedBy>
  <dcterms:modified xsi:type="dcterms:W3CDTF">2013-04-12T17:56:40Z</dcterms:modified>
  <cp:revision>16</cp:revision>
  <dc:subject/>
  <dc:title>Совещание при директоре</dc:title>
</cp:coreProperties>
</file>