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918-FEF1-469F-8624-8FB5C573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CA0-075A-4539-A7CB-DC7C57DE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A88-618E-4B41-BB1A-2C6114E5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968-BE34-49A7-BBA9-B51645F0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3F6-57A9-426E-8ECB-0C481287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0C16-1D9A-41C5-A0C8-685D4FA5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F3FC-C1AF-4979-A02A-C73A032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AB1C-1896-4882-8331-068E6D94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E6E9-5042-44E7-B985-4CD89CE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4A5C-1A95-4752-8D5C-401DC768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4B7-D392-47F0-B273-E516DCC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080-43DA-4F71-A2E3-13D38C4B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8DE8-3371-4D19-AB75-1311D79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4DF1-33AA-4AC0-B192-A69B745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C491-F1A2-4628-9B07-4408DE14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9C44-67FB-44B9-9E07-408A64AB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D15F-8C8D-461B-BAC4-D16A4BDE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0CD-410F-4F7E-BDED-66BA8DF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0A0-775B-4782-A61E-6278BEA7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EDF-2DFE-44B3-A5D6-B09B974E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864-B5E7-45B8-B315-11E6E39E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16D-1410-4B24-A9AC-454BF33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542-F872-44C5-AE4C-D75F82E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107-10A6-40DF-913B-F089B00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5151-FF39-47C8-AE2B-FF78B10EEE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A47E-12E4-4478-A398-C4841BF650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Неделя 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истории и обществозна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БОУ СОШ № 19 ст.Казан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лан проведения Недел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143000"/>
          <a:ext cx="8229600" cy="6200640"/>
        </p:xfrm>
        <a:graphic>
          <a:graphicData uri="http://schemas.openxmlformats.org/drawingml/2006/table">
            <a:tbl>
              <a:tblPr/>
              <a:tblGrid>
                <a:gridCol w="471600"/>
                <a:gridCol w="2820960"/>
                <a:gridCol w="1644480"/>
                <a:gridCol w="892440"/>
                <a:gridCol w="240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Моя малая 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рок-путеше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Иванова А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Как появилась книг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лассный ч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кина С.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Русь. Россия. Родина моя.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ласный ч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адченко Л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2 декабря – День Конститу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ражник Е.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наток Древнего Егип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икто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онох И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Живое Средневековье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икто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Вовка в Тридесятом царстве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Самый умны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8А,8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Звёздный час» по обществозна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Основной закон 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икто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Как я знаю свои прав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айонный 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2 декабря – 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ень Конституции </a:t>
            </a:r>
            <a:br>
              <a:rPr sz="44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(конкурс в 4 классе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Picture 6" descr="C:\Users\нина\Documents\неделя истории\PC140014.JPG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Users\нина\Documents\неделя истории\PC140018.JPG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Звёздный час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по обществознанию </a:t>
            </a:r>
            <a:br>
              <a:rPr sz="44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(9 класс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" name="Picture 2" descr="C:\Users\нина\Documents\неделя истории\PC180040.JPG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нина\Documents\неделя истории\PC180037.JPG"/>
          <p:cNvPicPr/>
          <p:nvPr/>
        </p:nvPicPr>
        <p:blipFill>
          <a:blip r:embed="rId2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ак появилась книга»</a:t>
            </a:r>
            <a:br>
              <a:rPr sz="44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(Классный час во 2 классе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Picture 2" descr="C:\Users\нина\Documents\неделя истории\PC140030.JPG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нина\Documents\неделя истории\PC140028.JPG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0:51:20Z</dcterms:created>
  <dc:creator>школа</dc:creator>
  <dc:description/>
  <dc:language>en-US</dc:language>
  <cp:lastModifiedBy>Ивченко Катерина</cp:lastModifiedBy>
  <dcterms:modified xsi:type="dcterms:W3CDTF">2013-04-12T17:56:40Z</dcterms:modified>
  <cp:revision>16</cp:revision>
  <dc:subject/>
  <dc:title>Совещание при директоре</dc:title>
</cp:coreProperties>
</file>